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E560-3397-4A61-80BD-ACCBC84B7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76A1-7A3C-4D08-97B8-13F0668FCD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E1C6-0A6C-4832-AFC6-0BA8D7DE4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5B50-BD34-4F8C-B8C1-2FEDC11A5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A9EF-3F5E-49B9-B567-56896ABD3C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5449-F0A0-4F88-8D42-3AAEE0C45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09B-13D7-422D-A5F7-8B60D73B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C49-FFE0-4F5C-9F20-4018731A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F9F-76A3-4EE8-B6A2-AC1B7399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D71-E53D-49DA-971B-39CB1BA4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84BD-40B4-4CF2-9B8D-A023905D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24D1-C379-4781-8AA0-0919BDF7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393D-F5D9-4BC6-B656-8902F594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B4F9-3670-463C-BB29-7B818083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205D-2AE8-4DC1-A808-EF3A677A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AD36-F7D6-4EED-AF31-D59407C3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5086-886F-4ECC-8C82-755DF220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D4D-79C8-4289-B6C3-A2BD52F9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08A4-EB67-4D5C-9B69-4BD54225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A434-9E1A-4301-A899-B0040D46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E262-172E-4FF6-BECF-21BB6C49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04C9-879A-4C3D-A3A2-69C690A6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F0E7-A041-44E8-9D46-F4664499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334-1012-4EF3-A2A2-B34C2765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88C-DA72-440E-98C1-F6A80CCC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7F5-2B1F-48BA-8507-D0C2B603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A56-30A1-4E42-A761-977FF6AD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607-CE83-4847-BA64-CA75E4DE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025-C3DB-419B-B664-D809CF1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D9C-3143-4898-8592-40098039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A95A-2EDC-4F57-B36F-F3981045F4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2BE-3961-4BBC-ABA8-6864A48538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ихаил Булга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9293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Повесть «Собачье сердц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user\Мои документы\Мои рисунки\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3851280" y="2781360"/>
            <a:ext cx="4176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3851280" y="2637000"/>
            <a:ext cx="3816360" cy="317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весть «Собачье сердце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на в 1925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ечатана в 1987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Почему повесть напечатана только через 62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99"/>
                </a:solidFill>
                <a:latin typeface="Arial"/>
              </a:rPr>
              <a:t>Отзыв Л. Б. Каменева: «Это острый памфлет на современность, печатать ни в коем случае нельз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флет- злободневное публицистическое произведение обличите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«Собачье сердц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(«Чудовищная история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чего начинается произве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ьими глазами мы видим ми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изображена в повести общественно-политическая ситуация в России 20-го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ы можете сказать о Шарике? Случайно ли ,на ваш взгляд, имя, выбранное для собаки,-Шар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образы Шарика –бродячего пса и Шарикова- «начальника по очистке».Какие чувства они выз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Шарикова, Швондера, Пеструх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квартира профессора Преображенского не подвергалась уплотне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художественные детали использует автор при создании образов профессора Преображенского, доктора Бормента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говорит о характере и образе жизни профессора Преображенского обстановка в кварт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го рода помощь оказывал пациентам профессор Преображенск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композиция повести, из каких частей она состо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оценку состоянию общества дает Преображенский? В чем , по его мнению, причина разрух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играют сцены п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сравнительный анализ описаний жизни в калабуховском доме до революции и пос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ложилась судьба Шарика? Изменился ли его образ мыслей после возвращения в первоначальное состоя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20640" y="256860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омпозиция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зиция кольце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а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онолог Шар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рик у профессора, операция,очеловечивание соба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ульм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бесчинства Шарик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озвращение Шарика в прежнее состоя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эпило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арику «свезл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Рассуждаем вмест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, по вашему мнению, может сложиться дальнейшая жизнь профессора Преображенского и доктора Борменталя. Обоснуйте свои предпо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ва роль образов прислуги в пове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примеры антитезы в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повесть вызвала противоречивые оценки? Почему запрет на её издание был столь длительным(60 лет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кажите свое отношение к профессору Преображенскому, доктору Борменталю, Шарикову, Швондеру и другим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йте возможные варианты толкования повести «Собачье сердц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итеза в по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- Шар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женский - Швонд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абуховский дом до и после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рик в начале и в конце по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esk1"/>
          <p:cNvSpPr/>
          <p:nvPr/>
        </p:nvSpPr>
        <p:spPr>
          <a:xfrm>
            <a:off x="6012000" y="1484280"/>
            <a:ext cx="238428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м Чугунки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яница, люмпен-прол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611280" y="1484280"/>
            <a:ext cx="2879640" cy="12254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-дворняга Ш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ый, добродуш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3635280" y="3429000"/>
            <a:ext cx="2233800" cy="136836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 rot="2547600">
            <a:off x="2340000" y="2923920"/>
            <a:ext cx="1112760" cy="792000"/>
          </a:xfrm>
          <a:prstGeom prst="rightArrow">
            <a:avLst>
              <a:gd name="adj1" fmla="val 50000"/>
              <a:gd name="adj2" fmla="val 35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 rot="8844600">
            <a:off x="5939640" y="2877840"/>
            <a:ext cx="1376280" cy="777960"/>
          </a:xfrm>
          <a:prstGeom prst="rightArrow">
            <a:avLst>
              <a:gd name="adj1" fmla="val 50000"/>
              <a:gd name="adj2" fmla="val 442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rot="7890600">
            <a:off x="2190600" y="4874040"/>
            <a:ext cx="1737000" cy="1150920"/>
          </a:xfrm>
          <a:prstGeom prst="rightArrow">
            <a:avLst>
              <a:gd name="adj1" fmla="val 50000"/>
              <a:gd name="adj2" fmla="val 377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п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rot="2180400">
            <a:off x="5817960" y="4874760"/>
            <a:ext cx="2158920" cy="981000"/>
          </a:xfrm>
          <a:prstGeom prst="rightArrow">
            <a:avLst>
              <a:gd name="adj1" fmla="val 50000"/>
              <a:gd name="adj2" fmla="val 55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К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205092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486160" y="40464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ловечива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ик+Клим Чугункин=Полиграф Полиграфович Шар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78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ходе очеловечивания собаки милый и добродушны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с Шар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принимает худшие черты св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донора,люмпен-пролетари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лима Чугунк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евращается в зловещую фигуру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лиграфа Полиграфовича Шар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ьё влияние сильне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ubRRectCallout"/>
          <p:cNvSpPr/>
          <p:nvPr/>
        </p:nvSpPr>
        <p:spPr>
          <a:xfrm>
            <a:off x="900000" y="1700280"/>
            <a:ext cx="273528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женский-создатель(врач, профессор, всемирно известный уче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хирург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м путем(физическое наси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ubRRectCallout"/>
          <p:cNvSpPr/>
          <p:nvPr/>
        </p:nvSpPr>
        <p:spPr>
          <a:xfrm>
            <a:off x="5292720" y="1700280"/>
            <a:ext cx="2592360" cy="25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ондер-идеолог(экспропри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,девиз:»Грабь награбленное!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ует с помощью слова(духовное на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esk1"/>
          <p:cNvSpPr/>
          <p:nvPr/>
        </p:nvSpPr>
        <p:spPr>
          <a:xfrm>
            <a:off x="3666960" y="4292640"/>
            <a:ext cx="220032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граф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нтагонист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Преображенского:                Логика Швонд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ересадка органов с целью        - труженик- тот, кто ничего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лить период жизненной         име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сти человека,                    - зачем работать, если мо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лучшение человеческой по-       отн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(отсюда  «говорящая»           -любой пролетарий- хозя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милия героя)                              жизни в силу своего происхож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Михаил Афанасьевич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         Булгаков (1891-1940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FB82CF13"/>
          <p:cNvPicPr/>
          <p:nvPr/>
        </p:nvPicPr>
        <p:blipFill>
          <a:blip r:embed="rId1"/>
          <a:srcRect l="51476" t="16035" r="20578" b="20297"/>
          <a:stretch/>
        </p:blipFill>
        <p:spPr>
          <a:xfrm>
            <a:off x="255600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Результаты воздействия Швондера на Шарико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ха в доме профессора(вместо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заниматься лечением пациен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реображенский и доктор Борменталь заняты Шариковы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требует у доктора часть жилплощади и про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риков устраивается в контору по истреблению коше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заняты делом, но не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смертны крыловские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Беда, коль пироги начнет печи сапожник, а сапоги тачать пирож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 профессора не удался. Учёный пришёл к выводу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ариков- насилие над прир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и революционны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виков обречён на неу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ь чувство уважения к лично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, чувство собственного достоин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нное отношение к происход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му возможно только при постепен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, эволюционном развитии общ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а, при кропотливой просветитель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ой работе интеллиг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дры из кинофильма «Собачье сердце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ИзображениеЗаболоцкийТургеневсобачьесердце 005.jpg"/>
          <p:cNvPicPr/>
          <p:nvPr/>
        </p:nvPicPr>
        <p:blipFill>
          <a:blip r:embed=""/>
          <a:stretch/>
        </p:blipFill>
        <p:spPr>
          <a:xfrm>
            <a:off x="684360" y="1628640"/>
            <a:ext cx="3527280" cy="2781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ИзображениеЗаболоцкийТургеневсобачьесердце 004.jpg"/>
          <p:cNvPicPr/>
          <p:nvPr/>
        </p:nvPicPr>
        <p:blipFill>
          <a:blip r:embed=""/>
          <a:stretch/>
        </p:blipFill>
        <p:spPr>
          <a:xfrm>
            <a:off x="5148360" y="1628640"/>
            <a:ext cx="3370320" cy="279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ИзображениеЗаболоцкийТургеневсобачьесердце 004"/>
          <p:cNvPicPr/>
          <p:nvPr/>
        </p:nvPicPr>
        <p:blipFill>
          <a:blip r:embed="rId1"/>
          <a:stretch/>
        </p:blipFill>
        <p:spPr>
          <a:xfrm>
            <a:off x="900000" y="1676520"/>
            <a:ext cx="3240360" cy="2690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ИзображениеЗаболоцкийТургеневсобачьесердце 005"/>
          <p:cNvPicPr/>
          <p:nvPr/>
        </p:nvPicPr>
        <p:blipFill>
          <a:blip r:embed="rId2"/>
          <a:stretch/>
        </p:blipFill>
        <p:spPr>
          <a:xfrm>
            <a:off x="5148360" y="1631880"/>
            <a:ext cx="331128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фессор Преображенский- Евгений Евстигн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октор Борменталь- Борис Пл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Шариков- Владимир Толок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Швондер- Роман Кар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Дарья- Нина Рус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ИзображениеЗаболоцкийТургеневсобачьесердце 013"/>
          <p:cNvPicPr/>
          <p:nvPr/>
        </p:nvPicPr>
        <p:blipFill>
          <a:blip r:embed="rId1"/>
          <a:stretch/>
        </p:blipFill>
        <p:spPr>
          <a:xfrm>
            <a:off x="971640" y="3429000"/>
            <a:ext cx="3400200" cy="273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ЗаболоцкийТургеневсобачьесердце 012.jpg"/>
          <p:cNvPicPr/>
          <p:nvPr/>
        </p:nvPicPr>
        <p:blipFill>
          <a:blip r:embed=""/>
          <a:stretch/>
        </p:blipFill>
        <p:spPr>
          <a:xfrm>
            <a:off x="4716360" y="342900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ЗаболоцкийТургеневсобачьесердце 004"/>
          <p:cNvPicPr/>
          <p:nvPr/>
        </p:nvPicPr>
        <p:blipFill>
          <a:blip r:embed="rId2"/>
          <a:stretch/>
        </p:blipFill>
        <p:spPr>
          <a:xfrm>
            <a:off x="4716360" y="3432240"/>
            <a:ext cx="3311640" cy="2751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ИзображениеЗаболоцкийТургеневсобачьесердце 007"/>
          <p:cNvPicPr/>
          <p:nvPr/>
        </p:nvPicPr>
        <p:blipFill>
          <a:blip r:embed="rId1"/>
          <a:stretch/>
        </p:blipFill>
        <p:spPr>
          <a:xfrm>
            <a:off x="468360" y="1844640"/>
            <a:ext cx="3844800" cy="302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ИзображениеЗаболоцкийТургеневсобачьесердце 006.jpg"/>
          <p:cNvPicPr/>
          <p:nvPr/>
        </p:nvPicPr>
        <p:blipFill>
          <a:blip r:embed=""/>
          <a:stretch/>
        </p:blipFill>
        <p:spPr>
          <a:xfrm>
            <a:off x="5003640" y="1916280"/>
            <a:ext cx="3622680" cy="2950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ИзображениеЗаболоцкийТургеневсобачьесердце 012"/>
          <p:cNvPicPr/>
          <p:nvPr/>
        </p:nvPicPr>
        <p:blipFill>
          <a:blip r:embed="rId2"/>
          <a:stretch/>
        </p:blipFill>
        <p:spPr>
          <a:xfrm>
            <a:off x="5003640" y="1876320"/>
            <a:ext cx="3456000" cy="2857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ИзображениеЗаболоцкийТургеневсобачьесердце 011.jpg"/>
          <p:cNvPicPr/>
          <p:nvPr/>
        </p:nvPicPr>
        <p:blipFill>
          <a:blip r:embed=""/>
          <a:stretch/>
        </p:blipFill>
        <p:spPr>
          <a:xfrm>
            <a:off x="468360" y="1916280"/>
            <a:ext cx="3672000" cy="28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ИзображениеЗаболоцкийТургеневсобачьесердце 010.jpg"/>
          <p:cNvPicPr/>
          <p:nvPr/>
        </p:nvPicPr>
        <p:blipFill>
          <a:blip r:embed=""/>
          <a:stretch/>
        </p:blipFill>
        <p:spPr>
          <a:xfrm>
            <a:off x="4788000" y="1916280"/>
            <a:ext cx="37432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ИзображениеЗаболоцкийТургеневсобачьесердце 006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2751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ИзображениеЗаболоцкийТургеневсобачьесердце 008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281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ИзображениеЗаболоцкийТургеневсобачьесердце 009.jpg"/>
          <p:cNvPicPr/>
          <p:nvPr/>
        </p:nvPicPr>
        <p:blipFill>
          <a:blip r:embed=""/>
          <a:stretch/>
        </p:blipFill>
        <p:spPr>
          <a:xfrm>
            <a:off x="468360" y="1628640"/>
            <a:ext cx="3773520" cy="3133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ИзображениеЗаболоцкийТургеневсобачьесердце 008.jpg"/>
          <p:cNvPicPr/>
          <p:nvPr/>
        </p:nvPicPr>
        <p:blipFill>
          <a:blip r:embed=""/>
          <a:stretch/>
        </p:blipFill>
        <p:spPr>
          <a:xfrm>
            <a:off x="4716360" y="1628640"/>
            <a:ext cx="3916440" cy="309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ИзображениеЗаболоцкийТургеневсобачьесердце 009"/>
          <p:cNvPicPr/>
          <p:nvPr/>
        </p:nvPicPr>
        <p:blipFill>
          <a:blip r:embed="rId1"/>
          <a:stretch/>
        </p:blipFill>
        <p:spPr>
          <a:xfrm>
            <a:off x="539640" y="1739880"/>
            <a:ext cx="3527640" cy="2930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ИзображениеЗаболоцкийТургеневсобачьесердце 010"/>
          <p:cNvPicPr/>
          <p:nvPr/>
        </p:nvPicPr>
        <p:blipFill>
          <a:blip r:embed="rId2"/>
          <a:stretch/>
        </p:blipFill>
        <p:spPr>
          <a:xfrm>
            <a:off x="4643280" y="1633680"/>
            <a:ext cx="3745080" cy="31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ИзображениеЗаболоцкийТургеневсобачьесердце 003.jpg"/>
          <p:cNvPicPr/>
          <p:nvPr/>
        </p:nvPicPr>
        <p:blipFill>
          <a:blip r:embed=""/>
          <a:stretch/>
        </p:blipFill>
        <p:spPr>
          <a:xfrm>
            <a:off x="2050920" y="1557360"/>
            <a:ext cx="5113440" cy="424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ИзображениеЗаболоцкийТургеневсобачьесердце 003"/>
          <p:cNvPicPr/>
          <p:nvPr/>
        </p:nvPicPr>
        <p:blipFill>
          <a:blip r:embed="rId1"/>
          <a:stretch/>
        </p:blipFill>
        <p:spPr>
          <a:xfrm>
            <a:off x="2050920" y="1623960"/>
            <a:ext cx="4969080" cy="412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обачье сердце»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едевр булгаковской сати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тира Булгаков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на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зряч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.Сах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а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ra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 проявления комиче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о в искусстве, состоящий в уничтожающем осме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и явлений, которые представляются автору пороч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ми. Сила сатиры зависит от социальной значим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занимаемой сатириком позиции, от эффективнос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 сатирических мет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едмет сатиры-человек,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его порок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539640" y="2421000"/>
            <a:ext cx="1944720" cy="792000"/>
          </a:xfrm>
          <a:prstGeom prst="wedgeRectCallout">
            <a:avLst>
              <a:gd name="adj1" fmla="val 83634"/>
              <a:gd name="adj2" fmla="val 568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2637000"/>
            <a:ext cx="1728720" cy="792000"/>
          </a:xfrm>
          <a:prstGeom prst="wedgeRectCallout">
            <a:avLst>
              <a:gd name="adj1" fmla="val -89300"/>
              <a:gd name="adj2" fmla="val 6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3276720" y="4797360"/>
            <a:ext cx="2519280" cy="792360"/>
          </a:xfrm>
          <a:prstGeom prst="wedgeRectCallout">
            <a:avLst>
              <a:gd name="adj1" fmla="val -2490"/>
              <a:gd name="adj2" fmla="val -1506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203640" y="2781360"/>
            <a:ext cx="278748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виды са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иведите в соответств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82760" y="3429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84360" y="5300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ка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708360" y="507528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ая, скрытая насмеш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ответствие положительного значения и отрицательного под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708360" y="342900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вительная, жестокая ироническая насме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780000" y="1700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душно-насмеш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чему-либо; беззлобное и веселое вышу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771640" y="1773360"/>
            <a:ext cx="0" cy="41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тир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 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Евграфович Салтыков-Щед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ил Михайлович Зощ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адий Тимофеевич Авер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жда Александровна Тэфф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ьф (Илья Арнольдович Файнзильберг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ров(Евгений Петрович Кат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 А. Булгаков (1891-194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3(15) мая189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- родился в Киеве в семье преподавателя духовной акаде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закончил медицинский факуль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евск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16-1917 г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работал в качестве зем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а в Смолен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21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- приехал в Москву на постоянное жительство. Работал  в газете «Гуд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С 193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чал работать в театрах  МХАТ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Б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1940 г.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мер от болезни почек.Похоронен 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девичьем клад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оизведения М.А.Булгак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юного вр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аписки на манжет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 «Дьяволиа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Белая гвардия»(пьеса «Дни Турбиных»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Роковые яй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ть «Собачье сердц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Зойкина кварти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е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Багровый остр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ертвые души»(по поэме Гогол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ьеса «Моль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 «Мастер и Маргар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31:08Z</dcterms:created>
  <dc:creator>user</dc:creator>
  <dc:description/>
  <dc:language>en-US</dc:language>
  <cp:lastModifiedBy>Admin</cp:lastModifiedBy>
  <dcterms:modified xsi:type="dcterms:W3CDTF">2010-02-18T20:30:55Z</dcterms:modified>
  <cp:revision>38</cp:revision>
  <dc:subject/>
  <dc:title>Повесть «Собачье сердце»</dc:title>
</cp:coreProperties>
</file>