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C5BF-4783-472F-A2CA-7ECC89F4DD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5108-ADD2-49B3-9BF3-7A7A695AC11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E533-02A7-4814-B653-7E12627ED42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CF5D-E3F6-4AF1-89B0-748FC913D76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9F0B-8DC1-4866-B345-A7AEF16CDF1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583C-6E56-4D31-9873-EBD3A669A4F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22A1-6746-4034-89BC-C1FA68A3317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0DFB-95F3-4BAD-B540-7DA82B062D6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6B73-E814-409A-9474-ABC202D7C99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8DA9-5617-44F3-8C50-183DDE0FCFD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5574-CBB1-4020-B9A0-13CE894D790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A366-FBA7-4591-9F06-B52FCBDA6A3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ADD3-4193-4781-ABBA-C8FD33F76DF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7683-1C14-405F-A5F1-20EF37D12AB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9356-FBF4-4F04-B701-DAE0C3CCBBB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2972-9D54-42D3-93D3-CBFA747CC72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39C3-9C05-4E2B-87A1-3A5C93CB4FA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FEF8-A57A-4094-B986-16A236438F8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112C-DE14-4CC5-A6C9-B4B2F39B006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0B38-8905-40B4-A2D2-4A5831C8BFD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1E85-A1C0-4B6C-9B50-0EF7CB608F0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0B1F-7213-4EDF-9F36-F74DBEF1CDD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A8BE-C9FA-46FC-96B2-51FF06BC7F0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A5F4-69B3-46C5-B50A-4FDFEAC7B4F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6504-C26C-4975-B171-4BCEA2B5E55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AD8D-429E-439E-9799-743AFEEE2F0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361F-78DC-4225-896E-AC5E1CA4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DB36-89E8-46EF-BD0B-CAB16570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2BAD9-DDB5-4A48-AC40-A1B0546A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8E9E7-E080-4C7F-BCF3-EBFF4E59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C74AB-BFEE-494D-9AEA-2252E213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54D72-CA18-4150-9393-2D552E2C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56E37-C71D-41AD-B93A-26782501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852AD-3C2A-4ED3-BFF6-38C1CD39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5A8A6-6C7F-4BC0-8F8B-55C20D3D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E8FC6-3EAA-4BCB-A59C-2D28F751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A1B80-9919-4290-8897-D577D609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04D5B-DCD8-4666-99D3-3D6E2D9D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F3F7-8504-4903-A1A2-73D26007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ED4DA-BE9B-419E-9B74-D5CB794C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8ED39-2197-45D0-B8EB-9E47F5FB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492D0-7E9E-4845-981A-62AAD2C9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29A5A-D1AA-4643-90CC-FAC791C6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7552F-3D35-4F0C-AD35-CA1A1CD4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80FB0-6D2A-4045-A178-9ABE5FB2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407E8-85D7-434A-B131-76569ACA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51BA3-B7FA-4B64-8C7B-2E029EB7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205FE-B8C1-4EC3-BDF5-05455A88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5E608-0EDD-47E5-BA23-A3F98A01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5738-6755-4B8F-BBFF-B4795578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724D7-00BF-48D8-8D1F-32EA9211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4AD6A-B60E-4507-B060-FBFAC759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6799A-AAC9-41FD-9467-2F6E8ED0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0B21D-B749-4C7E-8674-A3685776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D7D0B-B305-4C4A-9087-4BC14833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C8702-DB88-484C-AC40-94D10B41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32180-08F5-422E-BB66-A56BC240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6579F-0EB0-4EE4-B4AC-002191F9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48E98-9276-4027-B29D-4FD7C51C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3693F-07CE-411A-8100-B68D725E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0C2D-898A-4D99-8CC4-4B1022A7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C0744-A7F7-49BC-8B7D-E9524F63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7B883-4B9E-445D-A3B6-FFCA18AF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85DE7-48DA-40D6-805C-5301477C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BAEAB-0ACC-42C4-9677-F7238009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44EB1-DE17-4E73-BDD9-800DABF4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CF73F-A06C-4348-9DFC-EB654276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68ACC-C34C-4663-AFCC-56D0458F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BCA43-BA30-4CCC-A466-652D2171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D327E-DB3B-4FF4-A4D9-EC3CDBE9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71BAA-F219-4674-9188-2EC13894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7F7A-F929-49C8-B7A1-52583AFF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83102-8A78-4426-B074-253A9684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5FAF5-2553-404F-AE48-5CC7BA1E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881F7-80F4-4929-B548-B4688BF5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09857-A012-474F-9167-F159378F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CCCF5-126E-4A85-AE60-A4321458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DAD8-5F58-458E-AAA5-50A4CE89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3F6A-AB59-46AC-A283-1C7480C3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E95C-06B0-4586-952D-B3B1007C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6281-0703-4F19-B847-56480B72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4E02-73E4-4970-9EF5-06A1F670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46FF-3E83-4924-97AC-4564A5F7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3B35-B43F-49E3-8E8F-BD40F0E8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84C2-CE17-4F15-9155-21AC10AB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5F8D-D9F0-47FE-BD0E-7A700BCB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CD19-7A3C-45E8-BAE1-9DB49A26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64A1-5F01-47D1-8A94-CB0ABEF9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BC6FA-E270-44AF-830A-77B8FBFD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D54D4-7A5D-49DD-9ADC-B2F65E26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5DD4C-142A-4C13-9111-2564D3F3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06F5D-BF3B-4B49-BE74-8A55DCDA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1D71F-17C1-4A3C-8906-9076C840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EB45-2898-4F54-9050-16E4FC1A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10279-944B-4B33-87DF-C591A374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99665-329C-424E-8B27-2625818C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A3726-B072-4A63-90E1-6C5644DC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EFBB9-C662-4327-A9C7-DD6F60AA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5109B-DD6B-45A5-8754-484E6BAA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623EF-A293-489B-A40E-C9EBF931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4DDE0-DDFC-407C-B5BE-38E4FF1D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0FB6F-A5AF-42AB-BA13-9B6A7A20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5EC82-1608-4DF1-B181-83C2493B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B6318-DEA2-49C8-A50B-95619606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FA23-07E7-47F6-8B22-6652AB75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68E26-DFEC-48F5-B718-666663FB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65B20-78B0-4789-A6ED-A0BD1A6F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03D96-B29E-49CE-B2F2-8A70FEF2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53342-C650-4497-8551-1C14E2CC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1A46E-94DD-4BD3-9AFD-216A5F1C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003AE-7F74-4449-A4F7-F0184AF7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986C1-8C16-458A-BF8A-E7CAFBE9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DBF3E-FE8D-40A6-BAF8-9F5D89E5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507AF-BECF-4649-A001-2332280E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A024B-20C7-4C9A-B06A-0ED341BA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D456-8FD1-4787-AFEA-596380C7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A5E05-3FF4-43E6-BEAE-F91BC047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16A27-2B45-4C1E-B95F-6553488F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40489-BC4B-409A-93CE-073B8985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8234B-9891-44E8-9942-14B0C861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5F18F-AC64-4D75-BDCC-B46451FA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E12EA-3627-4231-ACE7-0234E825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3058C-9735-49B7-B5E7-EE36AC2A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60E4A-B1EF-48DA-BE37-8BC978AC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31A51-3B52-4BEB-B638-2E8BB95E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6F642-861A-4EBD-B464-D793926F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868E-F04D-4B28-BB5C-2FF5211C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03EEC-9CD8-4B7E-9FDE-B92653C9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93678-1088-4067-A9F1-EFFEE6CF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6F8CD-8E97-4701-B199-D037C449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9B286-CC25-40AF-AF29-A320C16C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BA45B-8CAD-4635-8667-BBC0A1F5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E66E4-0D8E-426E-B98A-489955CD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9DB56-B1C4-4338-A645-CB2A84C3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F2924-4484-4141-9B1C-FECAF0B3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1BFBE-D89C-4BEA-A23E-0F7A4557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95AAD-4EFC-42F7-88FE-22173370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56D9-6E8A-47E6-8C14-DB78D40B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4B33E-95E3-4482-9248-CA2B8235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A784D-AB6F-40A7-AD6B-D74FBCF6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C02BD-7DF2-4CE5-A320-8B7CDA0E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FDE8D-5F1B-4340-B68F-000709ED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297A4-3B0C-4A87-A718-A7A707FD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2BEC4-52C8-46A8-A97C-0B732134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AE022-0DCB-4EA2-8004-13871E3C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4EA19-F82A-4C7B-8A32-F36DA6CB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F5005-9B26-4FCC-8CDF-3DE11A20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B1E08-0FBA-45A7-944A-EAADCCA2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2591-417A-44D5-B327-AF5AC2B3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1B672-F396-4E06-9B97-15E5789F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82B01-6396-4C67-B7D9-F67143E7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F3A03-F8C5-45B5-931E-57B5EA48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E56BE-EC3F-4157-B1BF-89863C67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B5B99-3C3C-48BB-A417-C2420CEB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37C07-1760-445D-9BF3-0BD283BB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C02A7-1148-4DBB-81E5-224657BB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D4391-DAA6-4231-82B0-7F6804AF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351FC-E4C9-4EA7-BE13-4ED82C32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C7033-9875-458C-A957-E47A1091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3A64-38A9-4966-875C-5016E9C3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CF495-1BBF-4170-928B-06A5B441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207AE-979C-4265-8794-3BDB849D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A09BE-46A6-482F-B4BA-DBE73B85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75863-47AA-428C-B28D-49985C2C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8561E-96EB-4A5A-9E78-C88D71C5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C4D35-574E-457B-B467-D58868B85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71423-E50C-4792-AB1C-F4DD1F3C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094A1-4184-488A-AD30-28183510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14863-93D7-4A69-B945-BF373D86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A85F2-A57A-4D1D-AB2A-C77F5E26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D4AE-660E-43ED-8C1E-C3704E3139C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9074-65E9-4FFB-9925-DB79858346D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4F62-02B7-4A9B-839F-7EE0B862BDF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1317-53C9-4BA9-8A94-330C08C214F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F830-8444-4EAC-B576-B78865E5F0E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5BDA-877A-4E53-B10A-0CB0EE2721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177B-4673-4833-94F2-2BDD90DE1A0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4475-0C12-44C0-BFD9-0A09800A5DD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9B8A-DF2B-4005-B0B8-802F55AB29D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A816-0241-4177-B8FF-85008280279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7715-15F8-4586-AEBB-D9D8CF9AB75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5237-CE53-40C8-BBFB-E3A5985BB5A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DF93-DE33-487D-904A-B8EB5FB2980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627D-F134-435C-BD70-EA5EFFB844B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DB5A-7084-486B-A977-4DC1AC88A6E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5A0C-C3B3-4BC2-ACE6-AE4CEC924D8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241B-94D7-492B-96E6-947B5C996A5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0A6B-431F-4263-8C1D-4A8E37E9E64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5F75-46E6-44F1-890E-4D9B491EDF3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CE71-7104-42D4-9708-8256549198E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408F-8F2A-41B7-B190-C47FA382DE6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AC50-72F5-4EA9-A213-8E20EC7A747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BB92-1667-4A69-A945-0C060D97A1F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CCDF-0306-4164-9C0F-C3C97A3046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6A9E-62C4-4B55-B96A-372A53FC9F5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A568-DB17-43A0-861A-8B3F0F6D61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Н.В.Гоголь «Мертвые души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стория создания, особенности жанра, композиции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мысл заглав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9" name="Picture 4" descr="2"/>
          <p:cNvPicPr/>
          <p:nvPr/>
        </p:nvPicPr>
        <p:blipFill>
          <a:blip r:embed="rId1"/>
          <a:stretch/>
        </p:blipFill>
        <p:spPr>
          <a:xfrm>
            <a:off x="0" y="2057400"/>
            <a:ext cx="3467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2B57-FF0A-42BA-8327-9E72DA50AD1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BF70-8BE0-41F5-B22B-2085E06823C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Н.В.Гоголь сжег второй том «Мертвых душ»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роцессе работы Гоголь замыслил дать уже не один, а три тома, в которых можно было бы показать Русь уже не «с одного боку», а всесторонне. Второй и третий тома «Мёртвых душ» должны были, по мысли автора, наряду с отрицательными вывести и положительных героев и показать нравственное возрождение «подлеца-приобретателя» Чичико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ая широта сюжета и насыщенность произведения лирическими местами, позволяющими писателю многообразно выявлять своё отношение к изображаемому, внушили Гоголю мысль назвать «Мёртвые души» не романом, а поэм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Гоголь сжёг второй том «Мёртвых душ», а к третьему он и не приступал. Причина неудачи была в том, что Гоголь искал положительных героев в мире «мёртвых душ» — представителей господствовавших в то время общественных слоев, а не в народном, демократическом лагер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F5B7-E6B0-4DC9-9F4B-628875E078B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2BF4-81C0-49E4-96D1-3B25702BCE8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  <a:ea typeface="Times New Roman"/>
              </a:rPr>
              <a:t>Почему Гоголь не смог найти положительного героя среди господствующих в то время слоев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линский  ещё в  1842    году предсказал     неизбежность неудачи Гоголя в осуществлении подобного замысла. «Много, слишком много обещано, так много, что негде и взять того, чем выполнить обещание, потому что того и нет ещё на свете»,— писал о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шедшие до нас главы второго тома «Мёртвых душ» подтверждают справедливость мыслей Белинского. В этих главах есть блестяще написанные образы, родственные помещикам первого тома (Пётр Петрович Петух, Хлобуев и др.), но положительные герои (добродетельный генерал-губернатор, идеальный помещик Костанжогло и откупщик Муразов, «самым безукоризненным путём» наживший свыше сорока миллионов) явно не типичны, жизненно не убедитель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7764-6ADC-455C-968C-B8A9361E6D9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1F64-E9BC-4A7A-85B6-9160153EE75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99"/>
                </a:solidFill>
                <a:latin typeface="Arial"/>
              </a:rPr>
              <a:t>Что представляет собой композиция поэмы?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Замысел «изъездить вместе с героем всю Русь и вывести множество самых разнообразных характеров» предопределил композицию поэмы. Она построена как история похождений «приобретателя» Чичикова, покупающего мёртвые фактически, но живые юридически, т. е. не вычеркнутые из ревизских списков, душ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Центральное место в первом томе занимают пять помещиков  «портретных» глав (со второй по шестую).  Эти главы, построенные по одинаковому плану, показывают, как на почве крепостничества складывались разные типы крепостников и как крепостное право в 20—30-х годах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века, в   связи с ростом капиталистических сил, приводило помещичий класс к экономическому и моральному упадку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9CB0-6F58-456D-A91E-CE041E3F69A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AA3B-435B-433F-B6BA-D6360D26EA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6699"/>
                </a:solidFill>
                <a:latin typeface="Arial"/>
              </a:rPr>
              <a:t>Гоголь даёт главы в определённом порядке</a:t>
            </a:r>
            <a:r>
              <a:rPr b="0" lang="ru-RU" sz="2100" spc="-1" strike="noStrike">
                <a:solidFill>
                  <a:srgbClr val="003399"/>
                </a:solidFill>
                <a:latin typeface="Arial"/>
              </a:rPr>
              <a:t>. </a:t>
            </a:r>
            <a:br>
              <a:rPr sz="2100"/>
            </a:br>
            <a:endParaRPr b="0" lang="en-US" sz="21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есхозяйственного помещика Манилова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меняет мелочная скопидомка Коробоч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I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езалаберного прожигателя жизни Ноздрёв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жимистый Собакевич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вершает эту галерею помещиков Плюшкин 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кряга, доведший своё имение и крестьян д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лного разор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2181-9BD0-4B79-8CE0-E3405E057EC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BB67-18F0-44CF-BC37-891D99F2E8A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эма превращается в гениальное обличение крепостничества как такого социально-экономического строя, который закономерно порождает культурную и экономическую отсталость страны, морально разлагает тот класс, который являлся в то время вершителем судеб государств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аков идейный замысел поэмы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B703-3619-4FF8-BF1E-C6ABA3084EF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EC87-63E0-4A6D-B576-19B910C5AC6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Какими были отзывы критиков на выход поэм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круг первого тома сразу же разгорелись жаркие споры. Вопрос о книге Гоголя, по словам Белинского, был «столько же литературным, сколько и общественным». «Между восторгом и ожесточенной ненавистью к «Мертвым душам» середины решительно нет...», — писал Прокопович Гоголю в октябре 1842 года. Одни обвиняли автора в клевете на Россию, другие, напротив, увидели в поэме апофеоз Рус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9E89-8891-43B3-9CE4-AEA5F22DF2F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0771-1C7F-47EA-A419-67677F91349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15004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выход «Мертвых душ» не замедлили откликнуться и журналы. Наиболее подробные и интересные разборы дали Шевырев в «Москвитянине» и Плетнев в «Современнике» — как раз те критики, которые ближе других стояли к Гоголю и более чем кто-либо были посвящены в его замыслы. Так, Плетнев писал, что «на книгу Гоголя нельзя иначе смотреть, как только на вступление к великой идее о жизни человека, увлекаемого страстями жалкими, но неотступно действующими в мелком кругу общества». Замечание Шевырева о «неполноте комического взгляда, берущего только вполобхвата предмет», особенно понравилось Гогол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176B-54F0-463D-826F-E8BF7D37D43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8E3B-D765-462E-A6C6-1F5644D5E49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том же 1842 году в Москве вышла брошюра Константина Сергеевича Аксакова "Несколько слов о поэме Гоголя: «Похождения Чичикова, или Мертвые души»", в которой он сравнивал Гоголя с Гомером, находя у них общий взгляд на мир — «всеобъемлющее эпическое созерцание». По мысли критика, поэма Гоголя возрождала в русской литературе традиции гоме­ровского эпоса. «Уж не тайна ли русской жизни лежит, заклю­ченная в ней, не выговорится ли она здесь художественно?» — вопрошал Аксаков, разумея всю поэму в цел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597A-F163-4075-8224-CCB3B458CAF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994A-7883-4189-9280-F98143E6751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всякое глубокое создание, «Мертвые души» не раскрываются вполне с первого чтения даже для людей мыслящих, — писал Белинский, — читая их во второй раз, точно читаешь новое, никогда не виданное произведение"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ако именно Белинскому принадлежит определение поэмы, как «творения чисто русского, национального, выхваченного из тайника народной жизни &lt;...&gt; дышащего страстною, нервистою, кровною любовью к плодовитому зерну русской жизни», и Гоголя как «русского национального поэта во всем пространстве этого слова». Одним из первых критик подчеркнул и важнейшую особенность творчества Гоголя — его исключительную оригинальность и самобытност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4A51-C1B9-4262-8696-EB20E7B0FE1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B334-57F8-4EDE-9391-4B5AA63BF3D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АНАЛИЗ 1 ГЛАВ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го и надо, что вчитаться, - боже мой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го и дела, что помедлить над строкою -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пролистнуть нетерпеливою рукою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задержаться, прочитать и перечесть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Ю. Левитан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CF72-79EA-4011-B433-AC703D703D8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3A8B-5522-43DA-9FB9-D79307D6672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своих произведениях Н.В. Гоголь предстает перед нами не только как замечательный писател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тарайтесь лучше видеть во мне христианина и человека, чем литератора», —призывал о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A090-88B0-45AB-BAB4-D1B1C8B2E4F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E873-AD3F-4EF9-916F-E32AB325FAB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Попробуем и мы разобраться, како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начение первых строк поэм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. В. Гоголя «Мертвые души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 уроке перед нами стоит непростая задача – проанализировать не только смысловой аспект, но художественные особенности языка представленного отрыв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5A25-E549-44D0-A441-23FCB8CCCBF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518E-916B-4596-B6A9-0B2446F4C95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Чтение 1 главы поэм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ше знакомство с Чичиковым происходит в губернском городе NN. Тихо и незаметно его бричка на мягких рессорах подкатила к воротам гостиниц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йдите, как встретил город приезд Чичикова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D4C1-3878-4101-9171-1C6C6F29962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0253-1F79-46BF-831E-9BBCF488BB3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акая часть речи указывает на отношение жителей города NN к приезду господин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наблюдайте над художественными особенностями портрета этого господин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акой деталью подчеркивает Гоголь безразличие к приезду некоего господин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обратив ни малейшего внимания на Чичикова, на чем сосредоточились мужики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лучайно ли столь частое употребление слов « доедет, не доедет"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7165-4B79-4661-BFE2-274061F5492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6187-6A24-4EF1-AE99-036D3323C1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Обратите внимание на лица персонажей, встречающих Чичиков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Обратите внимание, сколько раз встречается слово покой? Что это? У Гоголя – мастера русского языка, не может быть неоправданных повторов, значит, и эти не случайны? О каком покое говоритс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DAE0-1AD8-4E15-B724-4E6AD3CEA77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9491-4BD4-4105-99ED-55A8F21FD51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4. Итог урока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рнемся к эпиграфу нашего урок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ожете ли вы теперь объяснить смысл этих слов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.В. Гоголь действительно мастер художественного слова, который так умело и точно подбирает каждое слово. Иногда мелкая деталь красноречивее пространного описания или развернутой характеристики. Именно такая манера и заставляет вдумчиво читать и размышлять над страницами Н. В. Гого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77F2-D2D4-4BFA-8AFB-559E96E5458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3CC2-DBD2-4105-80FD-DC06A8E0430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Домашнее задание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в, на ваш взгляд, смысл заглавия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читать II главу и подготовить сообщение о Манилове (первые впечатления, внешность, манера поведения и речь, отношение к хозяйству, к окружающим, любимые занятия, жизненные цели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05C2-F102-4A52-8442-9E557C48B40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91AF-78BF-416B-A104-EB08A33412A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Задания к лек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йдите  ответы на предложенные вопросы, выводы запишите  в тетрадь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8B71-920E-4837-9226-31D023451E4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ABEB-9B30-42CC-91C8-E7F474A4E5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ую цель ставил перед собой Н.В.Гоголь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256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ще с лицейской поры думал Н.В. Гоголь о службе на благо России. Он искренне и беззаветно любил ее и писал, что молится о спасении Русской зем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стойный сын своего Отечества и истинный христианин, Гоголь не только верил, что Россия — страна истинно христианска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Дружно докажем всему свету, что в русской земле все, что ни есть, от мала до велика, стремится служить Тому же, Кому все должно служить на земле, несется туда же, кверху, к Верховной вечной красоте», но и вдохновенно призывал к служению Росс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Нет выше звания, как монашеское, — писал он. — Монастырь Ваш — Россия. Облеките же себя умственно рясой чернеца и всего себя умертвите для себя, а не для нее, ступайте подвизаться в ней..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A5F9-75FC-46EC-B158-F6BBF7619DF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4403-FF8E-44E3-B60D-C9FDE56B9CB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В чем видел свой долг Н.В.Гоголь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сатель видел смысл собственного служения России в великой ответственности за каждое свое слово, ибо именно оно «есть высший подарок Бога человеку», то орудие, с помощью которого художник «призван все в мире исправлять к добру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все произведения, созданные им в первый период творчества, кажутся Гоголю лишь «давнею тетрадью ученика», и он восклицает: «Пора, пора, наконец, заняться делом» (письмо В.А.Жуковскому, 28 июня 1836 года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это дело —работа над «Мертвыми душами», поэмой, на которую автор возлагал большие надежды. «Какой огромный, какой оригинальный сюжет! — писал он. — Вся Русь явится в нем!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C8D3-660E-43EE-8BC7-5D7FC433C0D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DB55-A7A7-4015-922F-E943D8E7105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А.С.Пушкин отдал сюжет своего произведения Н.В.Гоголю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 письма Н.В.Гоголя  А.С.Пушкину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делайте милость, дайте какой-нибудь смешной или не смешной, но русский анекдот. Рука дрожит написать тем временем комедию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6B59-F82C-4A16-BC2A-580EC6CBC3C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A18C-BA27-45E3-B4D4-1A7BF1D6BFD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-360" y="-8640"/>
            <a:ext cx="80802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520" y="914400"/>
            <a:ext cx="6324480" cy="55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«Авторской исповеди» Гоголя (написана в 1847 году, напечатана в 1855 г.) читаем: «Он (Пушкин) уже давно склонял меня приняться за большое сочинение и наконец, один раз, после того, как я ему прочел одно небольшое изображение небольшой сцены, но которое, однако же, поразило его больше всего мной прежде читанного, он мне сказал: «Как с этой способностью угадывать человека и несколькими чертами выставлять его вдруг всего, как живого, с этой способностью не приняться за большое сочинение! Это просто грех!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лед за этим начал он представлять мне слабое мое сложение, мои недуги, которые могут прекратить мою жизнь рано; привел мне в пример Сервантеса, который, хотя и написал несколько очень замечательных и хороших повестей, но, если бы не принялся за Донкишота, никогда бы не занял того места, которое занимает теперь между писателями, и, в заключенье всего отдал мне свой собственный сюжет, из которого он хотел сделать сам что-то в роде поэмы и которого, по словам его, он бы не отдал никому»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4" name="Picture 4" descr="Пушкин"/>
          <p:cNvPicPr/>
          <p:nvPr/>
        </p:nvPicPr>
        <p:blipFill>
          <a:blip r:embed="rId1"/>
          <a:stretch/>
        </p:blipFill>
        <p:spPr>
          <a:xfrm>
            <a:off x="0" y="990720"/>
            <a:ext cx="2473200" cy="305748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565" name="WordArt 8"/>
          <p:cNvSpPr txBox="1"/>
          <p:nvPr/>
        </p:nvSpPr>
        <p:spPr>
          <a:xfrm>
            <a:off x="762120" y="0"/>
            <a:ext cx="50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мысел произведен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E6FE-EB29-48C8-909E-EACBA9576F4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4B11-7514-451B-B68C-EB54FB673F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2819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оголь последовал совету Пушкина, быстро принялся за работу и в письме от 7 октября 1835 года извещал его: «Начал писать «Мёртвых душ». Сюжет раскинулся на предлинный роман и, кажется, будто сильно смешон... Мне хочется в этом романе показать хотя бы с одного боку всю Русь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9" name="Picture 8" descr="Ромашки"/>
          <p:cNvPicPr/>
          <p:nvPr/>
        </p:nvPicPr>
        <p:blipFill>
          <a:blip r:embed="rId1"/>
          <a:stretch/>
        </p:blipFill>
        <p:spPr>
          <a:xfrm>
            <a:off x="152280" y="2743200"/>
            <a:ext cx="8991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6FAD-EE8C-4613-8494-5338C815B26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CFCD-CC08-42E6-AC07-3E12D33B9DF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аков замысел произведения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ного позднее, в письме к Жуковскому 1848 года, Гоголь пояснял замысел своего творения: «Уже давно занимала меня мысль большого сочиненья, в котором бы предстало все, что ни есть и хорошего и дурного в русском человеке, и обнаружилось бы пред нами видней свойство нашей русской природы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енис</dc:creator>
  <dc:description/>
  <dc:language>en-US</dc:language>
  <cp:lastModifiedBy>Admin</cp:lastModifiedBy>
  <dcterms:modified xsi:type="dcterms:W3CDTF">2010-02-18T20:29:09Z</dcterms:modified>
  <cp:revision>11</cp:revision>
  <dc:subject/>
  <dc:title>Н.В.Гоголь «Мертвые души» - история созд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