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7B81-9BDE-48E4-8171-566B094C14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8190-3B0D-4FC9-A560-88AA819C9C0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5D17-2F2B-4FEC-8C85-100207B6B03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ABE5-5376-46D0-B589-DFF8393E69D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3B15-0FD8-4982-A561-A46BE04EBCB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18B2-F273-4F41-8D87-C62A4CCB0B8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F113-DFDB-422C-963A-10A1943A552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81A1-BEFB-43B2-BD4D-E361231A07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55E7-ECBE-4B09-8402-CD9F7D09391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C62B-D134-405F-B647-FBBA5887051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A7DC-ED23-423B-B5B4-96404CC586E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E570-59D3-41AF-885E-6597EC91325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C93C-1558-43F1-8B89-C5211569DA9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9FCE-046D-499D-B96F-CC8E46FE260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0C3E-FA68-4656-AA53-A0CD090321B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EAA6-2EE6-44CD-97E0-9B30BA57BAB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71FE-144A-4B7E-82C6-97CB2A2E6A2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8515-68E5-47CA-923F-A858BD01CE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CDDE-02A1-4C94-994B-39110B19D05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DF66-DEFB-4799-902B-11316655A08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DA9B-3EB3-4E8E-A167-5BC2798938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D045-213F-41A9-9148-B64171F909B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5338-8515-49B3-AEAC-40D891A6C73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4C32-5B0D-4A11-8C1C-D7B87E0AD5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BD80-C635-46A4-AA82-454E15AFF3A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8873-6C6F-47CD-82B5-63B54DD71ED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AE2E-75B2-416C-8397-0BA71AF3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515D-6A9C-4867-A5C9-C9BF3851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16187-A4B5-4728-B8FB-32B7C5D5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BA0B2-4571-479E-92C8-5384E2FE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53D20-49B5-45AD-BCF1-846836B9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38134-9038-4E43-94E3-50181BB5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3593B-3AAE-496B-8854-14181CEE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4E625-D410-4140-91D1-BF8D9FEF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BB6D9-B115-468D-929F-84A3BD6E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3812F-63B3-49A1-9582-20F7E460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ED56C-6098-4B8D-B2A3-5A44F758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F5777-AE5C-4EE6-849E-35300404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B5E-0BAA-407E-89AD-B7EDF856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9B6E3-9994-4DFE-B46E-236BED91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33A70-005D-49CF-996D-B83AE8B4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B3FD9-D734-4047-A5A8-2A6B7CEF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7D76B-9D77-4A6F-8255-DE3356E8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A0811-E437-41DD-9E48-B9DF65DB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8FC22-7B05-4652-ABE0-67FEB070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27712-9E65-4720-91B7-41D9BCCB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4F2B2-7C83-44D2-B1AF-52B4E58F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E0409-5591-4C27-9173-46D42B7F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78965-1D2F-4C8F-B058-B8C310A3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290-CD1D-4F42-82B7-E7A30F9C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8521F-F11D-4E70-956A-A5F45BE5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EC811-D9ED-422B-ADD5-D5A8B936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5D8EE-0A1E-4AAD-8516-F4ED0D4C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F402E-5DE8-4642-8070-EE85E785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05F25-448F-4DDB-A831-FB1C038E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0F310-6235-4E42-A14F-601D2AA1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36A26-4204-4F13-8599-2FF4067F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2A4E5-508C-4F60-B402-4DDC40E9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F0EE1-2C08-4C9A-AC06-C0B48576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0CCBD-CF91-40DD-82BE-2056A602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2C08-61F9-4DE3-9026-BB354269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3C360-3F77-4AF6-BE9C-95615804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9F7C2-9592-4130-9D37-5EA1808E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51991-3529-4013-BB89-1EB138B6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4B777-64B2-48E4-B037-999717C1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C3F73-D0C0-4DBC-A013-A29D5D7F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9E53E-A2B5-4644-B431-67F056AB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8F882-D003-452C-805D-5E7F5C31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FD5FE-2AED-49F3-AB22-908EEF97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7C30F-EACC-435C-BC04-D0638448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5530E-E512-4564-97B4-7BDCA0EF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7DFB-B580-402F-B59B-A5590780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9D9BF-D5AB-402F-85E6-4BFAD658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47F88-1CAD-481E-9773-E932CACE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2892B-C218-469C-A509-1B7D3D65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D7FA5-4407-48D2-8B1D-48A5E916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21FE5-B7B0-44EB-846F-5AC2047F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995F-5C7F-429E-A74D-B1AA9835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5AA3-6962-457F-8A38-01413DF1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5F0E-C48D-49E5-8704-A3C03B11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CF69-C024-4CDB-9DB7-FCBD73A6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C094-4C82-4B65-A95B-11087B54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956-E8C1-4670-AE8C-BB0CD755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CDFE-855F-44B4-A92C-EB35CED6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9F9C-47E6-451A-AC5B-7A4274BE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932C-B0CB-4B4A-AB4D-B399307F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BBB5-178A-44F2-973B-19CEC9D3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35A4-D954-4848-8564-D4F7B897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81921-E539-4F47-B28C-8BEE98E8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D95A0-AFFC-489D-ADA1-79214C29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4D230-1464-441F-B0BF-E4A69F1B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C0C8B-A697-4BF8-B8CA-A9F6A156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063D2-E172-4435-845C-9FA59B27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4D1-29E8-4E88-BAFF-992D2880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1E6F7-C09C-4783-ADE1-BC1B72A3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5E2AC-C355-47C4-A061-78EB9B41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9183E-DE2F-4D10-A132-121A750D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ABFED-766B-43D1-BF24-FCB2FEEB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61B67-D7CD-48F8-A6B8-A360A8EB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619AF-048E-415A-AA0D-44EBE05B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DB0E6-7ACC-4FAB-AC02-9A113E1E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0EE05-FC95-49FC-98DC-5242F330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8F037-2F3A-462B-9820-695892DD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DB922-53A1-4BC2-AD88-E089EE5A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DD1D-8CB5-4C4B-AB5D-854ADECA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6464D-5E91-4CF5-A6E0-2130119E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42A52-B137-4B46-9239-C3D0163C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E8CA7-4868-45F3-901A-C0EC8044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DCB55-D5BC-48CF-A714-7B06D711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52DD9-BF87-445B-9B56-9EFCC083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DAF52-D6F1-48B3-8D75-E9073883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27C0A-4D8C-4B19-82A9-24431199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CE1D3-D5E5-4DD2-90FA-55AD864F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7C392-AFB2-48C6-AEEC-C4CDA949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9527A-CD40-45D9-AC10-5E91F220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F3E-185F-48E3-85CC-6D012776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BE035-9D3C-4954-92E0-C6644369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D9736-7685-4327-A9E3-542AA3BA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19187-CB59-4B21-8B12-344D10BC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76266-5A7F-4993-B028-C334D2DF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F1527-5F98-4B7E-BBB0-48BB068A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8F180-5FCC-4477-B20D-1D5E719C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93C13-5BEC-4A68-82C5-5BC8AEDF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8398E-51D7-4C06-BFA5-D255EAD2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33C36-7DA2-4DD7-AC15-B135E598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4924F-35FB-40E9-B866-15A6BE9D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1872-451C-4029-B0DC-42BFC095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867C0-EE2E-4A55-A8CE-E4A47378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DA91F-416A-4F1F-B4EF-D1AC6FD3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4A6B5-4402-4B2D-8E7C-F1AEE064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617F1-CE7C-411B-8EEC-3F87AD55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E8DA2-07E8-42D8-A9BA-AB27675B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C62C6-3D04-4A55-B797-CB359D0D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2C492-5ECC-43EF-9178-EA00A198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03B5A-F70E-42C6-B6B3-1F2A238B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6D64C-546C-4040-BC1D-2FCD8BCE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D3D50-999E-4ACA-B9BA-482FAF93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B87-E8BF-41D0-9EDA-08DD8572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86BDB-2657-4893-83BB-417E9C4F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33B41-D796-40E2-99BB-E2370D9B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9845E-DF97-46D3-B76A-3D7202F1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F7C3E-9151-4079-8892-47F71C71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CA6EF-C200-4F8D-BF1D-5878D994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1F511-173F-4E5C-9D51-8ED7ED68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96170-E61F-47BD-A47D-DA85742C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82E90-8F25-4E90-BF6A-77CF7B6C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DE241-15DD-41C6-B866-DA605101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37F47-E3ED-4F1D-AE33-5670DF59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AEDD-32F2-4E2E-B97E-8EB13EED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11889-820A-48E6-8BD0-7275A1A8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8E0A4-CABD-4CE1-B691-A8915B1E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F630E-7208-49C0-BE42-5A7D5FFA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6E958-83C2-4D07-A9F4-524CAF53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E96D0-E9DE-4B5B-9043-0B0E368D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55A6E-2E8B-4E58-BEFC-DDD112AB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969D3-225D-4CF2-9C9C-6D0E986B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B2B3D-39B4-47EA-B154-03A310B2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26689-0F17-4AD1-AA72-F3DBAD36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3686C-6E07-4019-8EE7-B734425C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A3B-3D77-4426-B5FB-C6F62B70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5E711-E937-458F-82E7-51FA0826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FCA4F-31EE-4C60-8B45-C6F162A2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DC0C8-A527-4739-9360-9BCE875D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12F6A-8D54-4CEC-9FF3-FB5DD70F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7BE18-43D3-48FE-BDE6-D215FE3D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AC657-063A-4DF4-B286-7D06AB80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6189F-72DE-4D79-A1BD-4E1D4078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440CF-C0CB-473F-AD47-A0083616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9BF16-EE54-4D9A-990C-880229D7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31701-8C33-48D9-9799-1CC3B271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BA85-875C-438A-81B2-1E66FAEED56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8720-063F-41CE-A79C-E7D9768DC0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1C5E-C1BE-46FF-A7E7-7EEF5670F54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DF22-453A-4CCD-84EA-BA5CF18E8C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0FDD-0E04-43C2-B13C-4ECFC8FDFF8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A04E-0FFE-4DDD-AC31-7559C265F70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A210-A55F-497A-9B6D-A1E5540B290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10F1-5686-45A1-8042-90CE7A6913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1C0A-54CB-464A-B26E-B94778D8228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0563-6E56-47FB-9DB3-281B23403C1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DA4A-063D-4D24-9A66-76EC934E995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4AC6-7CE1-4453-A2F5-360E529764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351A-F156-42F3-9B76-6A84A4F9102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C009-0923-4B2E-99D7-C6DC6DA3F9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0256-67B6-40E1-BD32-33C2639DCAE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18A5-B95F-401B-A3A7-7155077AA8A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816E-111B-4457-8EE5-EB12EF0C5E5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05E5-D7F3-45AD-80D7-6CA1D876C3B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A6FA-6AFA-436E-A019-A78A52FD8EE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8C02-96E2-4D7D-8D3A-CBF578012F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4A2D-581B-47C8-AF07-5A95AEC7975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9FA0-752D-4B39-B9AA-6DCB6AD0BF2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E9C7-EE60-4641-9556-9054F162A95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3BC0-2EB5-4B83-8EFC-522C242B24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37D9-EB30-444C-A054-459850AA5FE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2696-6F78-4E22-85EB-57C04CE527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.В.Гоголь «Мертвые души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стория создания, особенности жанра, композиции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мысл заглав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Picture 4" descr="2"/>
          <p:cNvPicPr/>
          <p:nvPr/>
        </p:nvPicPr>
        <p:blipFill>
          <a:blip r:embed="rId1"/>
          <a:stretch/>
        </p:blipFill>
        <p:spPr>
          <a:xfrm>
            <a:off x="0" y="2057400"/>
            <a:ext cx="346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EA2B-F6B0-442F-ABC2-49AB0CF54B7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543F-3DD5-4704-99D7-572F5CA4A5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Н.В.Гоголь сжег второй том «Мертвых душ»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работы Гоголь замыслил дать уже не один, а три тома, в которых можно было бы показать Русь уже не «с одного боку», а всесторонне. Второй и третий тома «Мёртвых душ» должны были, по мысли автора, наряду с отрицательными вывести и положительных героев и показать нравственное возрождение «подлеца-приобретателя» Чичико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ая широта сюжета и насыщенность произведения лирическими местами, позволяющими писателю многообразно выявлять своё отношение к изображаемому, внушили Гоголю мысль назвать «Мёртвые души» не романом, а поэм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Гоголь сжёг второй том «Мёртвых душ», а к третьему он и не приступал. Причина неудачи была в том, что Гоголь искал положительных героев в мире «мёртвых душ» — представителей господствовавших в то время общественных слоев, а не в народном, демократическом лагер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1395-BBE2-4477-B028-260830FC689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3F5F-2B67-4CC0-B0CA-FAC6B64EB6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Times New Roman"/>
              </a:rPr>
              <a:t>Почему Гоголь не смог найти положительного героя среди господствующих в то время слоев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инский  ещё в  1842    году предсказал     неизбежность неудачи Гоголя в осуществлении подобного замысла. «Много, слишком много обещано, так много, что негде и взять того, чем выполнить обещание, потому что того и нет ещё на свете»,— писал 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шедшие до нас главы второго тома «Мёртвых душ» подтверждают справедливость мыслей Белинского. В этих главах есть блестяще написанные образы, родственные помещикам первого тома (Пётр Петрович Петух, Хлобуев и др.), но положительные герои (добродетельный генерал-губернатор, идеальный помещик Костанжогло и откупщик Муразов, «самым безукоризненным путём» наживший свыше сорока миллионов) явно не типичны, жизненно не убедитель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0FC0-DD99-4617-96E1-5ADC4182E95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0BBA-0A4D-4BCC-9AC1-8CDAC871F0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99"/>
                </a:solidFill>
                <a:latin typeface="Arial"/>
              </a:rPr>
              <a:t>Что представляет собой композиция поэмы?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Замысел «изъездить вместе с героем всю Русь и вывести множество самых разнообразных характеров» предопределил композицию поэмы. Она построена как история похождений «приобретателя» Чичикова, покупающего мёртвые фактически, но живые юридически, т. е. не вычеркнутые из ревизских списков, душ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Центральное место в первом томе занимают пять помещиков  «портретных» глав (со второй по шестую).  Эти главы, построенные по одинаковому плану, показывают, как на почве крепостничества складывались разные типы крепостников и как крепостное право в 20—30-х годах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века, в   связи с ростом капиталистических сил, приводило помещичий класс к экономическому и моральному упадку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F65E-5F76-462C-B4D4-D67F23662F1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A1E5-2E3A-446C-89FE-C1F850CE79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6699"/>
                </a:solidFill>
                <a:latin typeface="Arial"/>
              </a:rPr>
              <a:t>Гоголь даёт главы в определённом порядке</a:t>
            </a:r>
            <a:r>
              <a:rPr b="0" lang="ru-RU" sz="2100" spc="-1" strike="noStrike">
                <a:solidFill>
                  <a:srgbClr val="003399"/>
                </a:solidFill>
                <a:latin typeface="Arial"/>
              </a:rPr>
              <a:t>. </a:t>
            </a:r>
            <a:br>
              <a:rPr sz="2100"/>
            </a:br>
            <a:endParaRPr b="0" lang="en-US" sz="2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схозяйственного помещика Манилова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меняет мелочная скопидомка Коробоч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залаберного прожигателя жизни Ноздрёв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жимистый Собакевич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вершает эту галерею помещиков Плюшкин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кряга, доведший своё имение и крестьян д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ного разор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7C2F-B97B-48F8-95B4-22198E23A86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FED5-DA00-4B2C-A443-70F75182976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эма превращается в гениальное обличение крепостничества как такого социально-экономического строя, который закономерно порождает культурную и экономическую отсталость страны, морально разлагает тот класс, который являлся в то время вершителем судеб государст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идейный замысел поэмы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DB47-19F7-49A4-B771-0F37C6ECD24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A211-393E-4D37-A28F-7ECAF330EB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Какими были отзывы критиков на выход поэм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круг первого тома сразу же разгорелись жаркие споры. Вопрос о книге Гоголя, по словам Белинского, был «столько же литературным, сколько и общественным». «Между восторгом и ожесточенной ненавистью к «Мертвым душам» середины решительно нет...», — писал Прокопович Гоголю в октябре 1842 года. Одни обвиняли автора в клевете на Россию, другие, напротив, увидели в поэме апофеоз Рус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560A-016B-46B3-B61E-43AE05AF44C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CAD5-214F-4960-9736-4DFCA97230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15004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выход «Мертвых душ» не замедлили откликнуться и журналы. Наиболее подробные и интересные разборы дали Шевырев в «Москвитянине» и Плетнев в «Современнике» — как раз те критики, которые ближе других стояли к Гоголю и более чем кто-либо были посвящены в его замыслы. Так, Плетнев писал, что «на книгу Гоголя нельзя иначе смотреть, как только на вступление к великой идее о жизни человека, увлекаемого страстями жалкими, но неотступно действующими в мелком кругу общества». Замечание Шевырева о «неполноте комического взгляда, берущего только вполобхвата предмет», особенно понравилось Гогол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F037-F100-43ED-80AE-1914625D647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190E-80E0-49AC-8728-C3B5AAE049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том же 1842 году в Москве вышла брошюра Константина Сергеевича Аксакова "Несколько слов о поэме Гоголя: «Похождения Чичикова, или Мертвые души»", в которой он сравнивал Гоголя с Гомером, находя у них общий взгляд на мир — «всеобъемлющее эпическое созерцание». По мысли критика, поэма Гоголя возрождала в русской литературе традиции гоме­ровского эпоса. «Уж не тайна ли русской жизни лежит, заклю­ченная в ней, не выговорится ли она здесь художественно?» — вопрошал Аксаков, разумея всю поэму в цел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7A91-AF38-4EEC-A151-8A8C94AC0CC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FD53-4C83-4D18-B5C0-6E3BEBE9D9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всякое глубокое создание, «Мертвые души» не раскрываются вполне с первого чтения даже для людей мыслящих, — писал Белинский, — читая их во второй раз, точно читаешь новое, никогда не виданное произведение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ко именно Белинскому принадлежит определение поэмы, как «творения чисто русского, национального, выхваченного из тайника народной жизни &lt;...&gt; дышащего страстною, нервистою, кровною любовью к плодовитому зерну русской жизни», и Гоголя как «русского национального поэта во всем пространстве этого слова». Одним из первых критик подчеркнул и важнейшую особенность творчества Гоголя — его исключительную оригинальность и самобытнос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D040-6A40-42C8-835B-07EC9D98202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9AF4-ADD2-43EC-A51A-9AD8946829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АЛИЗ 1 ГЛАВ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надо, что вчитаться, - боже мой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дела, что помедлить над строкою -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ролистнуть нетерпеливою рукою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задержаться, прочитать и перечес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Ю. Левита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0B67-FE38-42A5-AEC7-55EA04F2A86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E2D2-04D8-49D8-9F71-CCCC965D760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воих произведениях Н.В. Гоголь предстает перед нами не только как замечательный писател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тарайтесь лучше видеть во мне христианина и человека, чем литератора», —призывал 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CB5C-772D-4299-9B8F-EA3334A1D8C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5A87-6DF8-475A-8796-ADDDE80532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опробуем и мы разобраться, како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ение первых строк поэм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. В. Гоголя «Мертвые душ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 уроке перед нами стоит непростая задача – проанализировать не только смысловой аспект, но художественные особенности языка представленного отрыв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39C7-3429-4773-9B63-A560A4767E2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F357-99F5-4556-B9F7-59634945DD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Чтение 1 главы поэм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ше знакомство с Чичиковым происходит в губернском городе NN. Тихо и незаметно его бричка на мягких рессорах подкатила к воротам гостиниц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йдите, как встретил город приезд Чичикова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A4E3-B6EC-43F5-ADC9-E69F9CDC42D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6218-F4AB-4180-9647-466801CA7F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ая часть речи указывает на отношение жителей города NN к приезду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аблюдайте над художественными особенностями портрета этого господин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ой деталью подчеркивает Гоголь безразличие к приезду некоего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обратив ни малейшего внимания на Чичикова, на чем сосредоточились мужик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лучайно ли столь частое употребление слов « доедет, не доедет"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17DE-420A-4183-98A9-1D5C5D7C20D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F4A0-EC38-444B-8917-D094199F0C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 на лица персонажей, встречающих Чичико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, сколько раз встречается слово покой? Что это? У Гоголя – мастера русского языка, не может быть неоправданных повторов, значит, и эти не случайны? О каком покое говори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DE12-0760-4555-BAD3-7B129307F5D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2E32-135A-4528-A10E-321988323E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4. Итог урока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немся к эпиграфу нашего урок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ожете ли вы теперь объяснить смысл этих слов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.В. Гоголь действительно мастер художественного слова, который так умело и точно подбирает каждое слово. Иногда мелкая деталь красноречивее пространного описания или развернутой характеристики. Именно такая манера и заставляет вдумчиво читать и размышлять над страницами Н. В. Гого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BAF8-D2E7-4E78-9ECA-521CB093BA1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6788-B8D0-4B97-9A86-278E04C082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Домашнее задание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, на ваш взгляд, смысл заглавия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 II главу и подготовить сообщение о Манилове (первые впечатления, внешность, манера поведения и речь, отношение к хозяйству, к окружающим, любимые занятия, жизненные цели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2BFD-E492-4BF5-A4A5-26C0AB11BB9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45CE-29B7-4169-9EF6-B6A6C9E14E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дания к лек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йдите  ответы на предложенные вопросы, выводы запишите  в тетрад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BBAD-BC1E-4E76-A54A-1DF1E67FFDD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BA69-8AC6-4DD9-9E90-3CFED781FC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ую цель ставил перед собой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256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ще с лицейской поры думал Н.В. Гоголь о службе на благо России. Он искренне и беззаветно любил ее и писал, что молится о спасении Русской зем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тойный сын своего Отечества и истинный христианин, Гоголь не только верил, что Россия — страна истинно христианск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Дружно докажем всему свету, что в русской земле все, что ни есть, от мала до велика, стремится служить Тому же, Кому все должно служить на земле, несется туда же, кверху, к Верховной вечной красоте», но и вдохновенно призывал к служению Росс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Нет выше звания, как монашеское, — писал он. — Монастырь Ваш — Россия. Облеките же себя умственно рясой чернеца и всего себя умертвите для себя, а не для нее, ступайте подвизаться в ней..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A40F-59F6-41F1-A14A-69C8ACC90B3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6CEC-73E4-44A7-A55E-89CFCF0765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В чем видел свой долг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сатель видел смысл собственного служения России в великой ответственности за каждое свое слово, ибо именно оно «есть высший подарок Бога человеку», то орудие, с помощью которого художник «призван все в мире исправлять к добру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все произведения, созданные им в первый период творчества, кажутся Гоголю лишь «давнею тетрадью ученика», и он восклицает: «Пора, пора, наконец, заняться делом» (письмо В.А.Жуковскому, 28 июня 1836 года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это дело —работа над «Мертвыми душами», поэмой, на которую автор возлагал большие надежды. «Какой огромный, какой оригинальный сюжет! — писал он. — Вся Русь явится в нем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531F-B0DB-4D4D-B97E-6A91E5E34D7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3749-E39E-4C8A-9024-B3B0869454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А.С.Пушкин отдал сюжет своего произведения Н.В.Гоголю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письма Н.В.Гоголя  А.С.Пушкин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делайте милость, дайте какой-нибудь смешной или не смешной, но русский анекдот. Рука дрожит написать тем временем комедию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4EE4-BD6C-4183-B864-5A6E7AE3C0A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E4AA-6F1F-4109-8EEF-F093854AE3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-360" y="-8640"/>
            <a:ext cx="80802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520" y="914400"/>
            <a:ext cx="6324480" cy="55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«Авторской исповеди» Гоголя (написана в 1847 году, напечатана в 1855 г.) читаем: «Он (Пушкин) уже давно склонял меня приняться за большое сочинение и наконец, один раз, после того, как я ему прочел одно небольшое изображение небольшой сцены, но которое, однако же, поразило его больше всего мной прежде читанного, он мне сказал: «Как с этой способностью угадывать человека и несколькими чертами выставлять его вдруг всего, как живого, с этой способностью не приняться за большое сочинение! Это просто грех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лед за этим начал он представлять мне слабое мое сложение, мои недуги, которые могут прекратить мою жизнь рано; привел мне в пример Сервантеса, который, хотя и написал несколько очень замечательных и хороших повестей, но, если бы не принялся за Донкишота, никогда бы не занял того места, которое занимает теперь между писателями, и, в заключенье всего отдал мне свой собственный сюжет, из которого он хотел сделать сам что-то в роде поэмы и которого, по словам его, он бы не отдал никому»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Picture 4" descr="Пушкин"/>
          <p:cNvPicPr/>
          <p:nvPr/>
        </p:nvPicPr>
        <p:blipFill>
          <a:blip r:embed="rId1"/>
          <a:stretch/>
        </p:blipFill>
        <p:spPr>
          <a:xfrm>
            <a:off x="0" y="990720"/>
            <a:ext cx="2473200" cy="30574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65" name="WordArt 8"/>
          <p:cNvSpPr txBox="1"/>
          <p:nvPr/>
        </p:nvSpPr>
        <p:spPr>
          <a:xfrm>
            <a:off x="762120" y="0"/>
            <a:ext cx="50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мысел произведе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4A67-9C6A-45FB-8FBC-2F36EBB0C51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B224-5D65-439D-9DDD-817538798D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голь последовал совету Пушкина, быстро принялся за работу и в письме от 7 октября 1835 года извещал его: «Начал писать «Мёртвых душ». Сюжет раскинулся на предлинный роман и, кажется, будто сильно смешон... Мне хочется в этом романе показать хотя бы с одного боку всю Русь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8" descr="Ромашки"/>
          <p:cNvPicPr/>
          <p:nvPr/>
        </p:nvPicPr>
        <p:blipFill>
          <a:blip r:embed="rId1"/>
          <a:stretch/>
        </p:blipFill>
        <p:spPr>
          <a:xfrm>
            <a:off x="152280" y="2743200"/>
            <a:ext cx="899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24E4-D2DE-4FB3-BE6E-0FCD218068B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0AF3-5D84-4561-A65F-B02561F2196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замысел произведения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о позднее, в письме к Жуковскому 1848 года, Гоголь пояснял замысел своего творения: «Уже давно занимала меня мысль большого сочиненья, в котором бы предстало все, что ни есть и хорошего и дурного в русском человеке, и обнаружилось бы пред нами видней свойство нашей русской природы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нис</dc:creator>
  <dc:description/>
  <dc:language>en-US</dc:language>
  <cp:lastModifiedBy>Admin</cp:lastModifiedBy>
  <dcterms:modified xsi:type="dcterms:W3CDTF">2010-02-18T20:29:09Z</dcterms:modified>
  <cp:revision>11</cp:revision>
  <dc:subject/>
  <dc:title>Н.В.Гоголь «Мертвые души» - история созд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