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dt" idx="3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 type="ftr" idx="3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 type="sldNum" idx="3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AEE4E-7B66-49D5-96DE-5D544E73411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EF186-C577-4D67-A8A4-A9E19D711630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9BA18-B548-45BB-9F41-13B3A109DF5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24C6F-061E-46E3-AC5D-25BE2625F16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495D4-56B6-4A6B-885F-CEAD14234AAC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04E44-2DDB-4241-A561-858FAA76FE0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F220D-6704-4405-AE3D-525D60DA869F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CBBD1-8948-4839-A579-8A2B62CDB44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2C325-6636-4A0E-843A-0C530816CD05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0D6B2-5465-4684-AB66-B5865D4CE67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C2B9E-2EE2-48DE-A8A2-B5F07F7EBE8C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91E90-35BA-4030-8BE9-C740A4F8767C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513D5-7B5D-4F3E-BA5D-28DEF1663E9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D4533-34CC-4A0B-A02C-D3B97C03D697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951A4-26CD-4019-A587-1933E268DB0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DBAD5-5BA0-4904-B8CB-E1AD673D7407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70132-F579-427A-B56B-35735979E196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0E4BA-3D5C-4B2D-BCD4-D719F8DD14D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DC7EC-F2A4-4FC5-82FB-11F8E416ED2D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9EAD2-9B97-425E-BC9C-57D6FD760EE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C4A8C-B350-42E9-B10D-E23CECEA8C7F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82CF3-B4A3-4A3B-A609-D6F3780A4C85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B86BC-8ABF-4E5C-A1C2-C63CC4EBF3F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D6281-C6B3-4572-A4D3-22432C934FC1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3C802-7AD9-4565-BEC8-4555DBA8420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7BB2B-045B-4B69-96C2-833DADA4CFFC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2738-12DE-46A1-B511-CDFCE33EC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0FBF-6C26-4EC0-A373-E60A617A0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8AC354-6AE6-42AA-9AED-C29A7158D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4A194F-015E-4172-AD56-9C4F59E29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D1D727-5953-47EC-B2B8-F34CDB8FD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38AC9C-D521-463B-9063-FEEFDFBA9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FB36E6-361B-4774-A26C-52D27FA35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32D0DD-66C6-4B15-9485-E5DDEB95C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8858A4-85D8-46A1-BF7F-B9D600FE3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5CDD3B-5794-46BA-938B-AF69A88BA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CD2161-A8D3-4C2A-9FF8-15AF901DA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85FF47-A1AF-45ED-9DC5-6442ED7BD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7C6B-1120-4008-8122-6A65C1EB5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E53D55-AB53-4F36-BC0F-1DB648DCB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9A70BA-E1CE-4B49-8474-CA9512862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C8AAE9-C6C7-4DF4-8216-557C1432A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4E7726-AEC4-4A5A-A637-78974D1FA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64EF87-EDD0-4D2F-BAA0-24C56FF66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483539-BD86-459E-843E-AEFC2447A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7BFF6D-D56E-4B65-8258-04816F705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CB99C2-8D85-464E-BD79-77503C265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0DAF68-AE33-4BDB-B2A4-75E762123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B08558-81BF-4A1E-94D3-9FA2A1C70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0F4F-A686-4283-8B4A-3E70DB616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A11D27-93E3-4D7B-ACA1-07DDB63B0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4E436F-9290-444F-A2B1-876889E13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1E970B-B8BB-4E8F-A7DF-FB3FE1A3F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54CFDD-9255-4B83-A2C6-DF29BC721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D48DBD-5013-48D8-AEF8-1A7FF6F39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0ADD9B-5BF0-435E-AEB1-B9318BE3B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AC67FF-6637-48C1-873D-6D6859AC3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999A34-ECCD-457A-819F-5BD63F4F7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5E51EE-5A31-4DE8-8732-B211FA104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3EAAC4-ACB4-472F-BF08-DB683EEA1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3F018-43F9-457C-89D3-8622B2209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B60542-B39D-4902-9DAE-F2658E66F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8F22FB-EDF1-4303-A9A9-E1201E25E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3B39E5-048D-4530-BC6A-250064EF9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184C65-BF14-4DD1-8D1A-0BCBB15BF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DE4433-D3E4-4B79-A69F-FF05148F5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CAA9DD-3602-4FD3-8673-6FDDDEB8E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101720-7093-46E2-951C-42B814229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1054D2-1AD5-4416-AE67-7BF4516A7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04EF69-4F25-444B-BE4F-007612D37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BEED78-E556-4E2B-92E5-8A39A7003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DA99B-C247-48D9-8488-C82332A04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0D8809-00AE-4525-8DEF-EAF2029BD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7ED435-58A7-486E-B6AD-CD5F2BFF2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D6382E-9283-4F9C-ADAE-F351EF5C8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2E7DEA-E3BB-42C5-BDCB-14983DB3D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CAE454-FF14-40FA-B91E-52B05EF04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6B3F0-7946-485C-B0E3-4C53576EE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2361C-F962-4FE1-B4EF-BCB9BA60F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9CBEC-2A7B-434C-8CDB-5E404A8F3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E6E19-6936-4257-88C0-F87D26804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1376E-18D6-4DB4-B49F-98226BF6B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4286-52A2-4268-A50A-ED1D5A82C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1FE03-FE5E-459F-9713-1307DD78E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A7EE2-B622-4616-9806-9176D4F5B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150D3-F6CF-4468-A4A4-64EB73891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C5F4C-0B41-44C0-875D-00B3811B3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5B6C4-7FE6-4A95-AD6D-6C19B2269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063A9B-542E-40A7-9DA4-59E754C75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EEFBD0-769B-43D6-B541-7478ED8F2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30972A-92F8-4B1F-9985-7F42C85D1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525D74-9349-4F68-B935-AA7981F6B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9D0BDC-517B-447E-BC17-6CA10F922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7505-E090-4525-802F-DD7C01289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508474-A80B-444B-BCE4-52E7690DF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34C556-2B41-4384-BD6D-E7D468820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18B594-CCB8-45B6-9B10-148CDAD56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46C5CF-AF2F-4C60-BDA8-1A2110408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C8E31A-8B3E-4272-8340-C6466C6F6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E96BCD-56AD-4B27-9BCE-92219C352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B04AD9-3673-403E-9383-6486D05DB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5C601C-ED5F-4F61-A2C0-08DC08E6E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916B09-3D70-4AFD-A40D-F5C93523C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776C26-D336-4EDD-A203-287DAAECC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82EA-B372-498A-B8F3-8B76800C0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CB335B-1079-430A-AAE5-37BC7DE33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945802-6FCC-4E3C-A34A-1A1EA5A86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B867E5-4D4B-4EB9-90C4-997CE8B81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7B1730-8F03-4828-B9D3-AD13CD218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77B0F0-E967-4564-9444-E748FDCCA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4347BB-69F7-41A4-AD79-ABA2FAADD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96266C-3F24-4901-B135-AFD2BA21E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90AD51-C68C-4B89-9EC0-E81C5A580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434F0A-83A6-43D0-8042-51D490A1A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783223-6FB5-405D-8AFE-44C2FFF18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5CAC-BC92-4C1D-BB17-FA6EA10F6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3A3109-C713-41CA-B8A4-C7F28035F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E79A6D-5D61-4102-A604-06CD05A06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D110B8-1054-4097-9867-E4959D858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9E2DC9-4BC6-4A2D-A0A1-7CA0FA4E3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DA1250-48BE-42BB-8476-B7825CD8A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3180BE-ADA8-4A10-89DF-2513730EE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039DC5-129A-4003-8B63-854FA57BD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0B4108-AB49-4194-816D-24D0F2A33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D9F136-DA76-4DCD-B7E0-1026352AA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FB3C5A-C9A3-4EEA-8D4C-818EC6A32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51E8-B9C6-4253-BB93-61670D0E5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CC2310-DF71-44C4-B432-D3B2A7A75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71EFC1-603E-4B40-85B0-6D176147D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39F582-63B5-4754-975C-E7F722C1E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94F04E-47A0-4EF0-B196-D164946AC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9D7428-FFFB-4FC2-B697-3BAE5818D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0F5C87-6B0F-4B89-AE8E-A3D41D435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0A302D-93A6-4C7E-B284-7D1E0AE31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7B60BA-2BE1-4EBC-B7D3-C475E7F15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597915-C8F5-466C-827E-AD6DDBA7D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7A8BBF-B0ED-4373-A2D2-DAD2D9671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F259-A29D-4C6F-A730-96201DB96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A4F611-6B29-4E9F-AB70-4FA3C269F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7767BA-6BC3-429E-A347-184F0F0EF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B4CB0F-8DAA-40EB-9BEF-D63CBF34E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35C24C-5A69-4462-A980-ACE250EB3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C137A0-6FE3-49B2-B003-C44E6F303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834451-E4B0-49B7-AB22-CE5375F33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528B00-91E9-4492-ADB4-F076834A4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49B66E-67F0-4681-917E-FB364C950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7EA4A9-5F7A-4C34-89C1-DE3AC3C6F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343963-7B71-4CC4-A811-C38E402C5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FC9F-E57A-46EB-BEAE-26FD90AC7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8D9026-DB9E-45ED-B128-0AA9948A3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F46428-432D-4DBE-8969-543FD66EA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E8D047-1A17-40BF-982D-8635A6CEE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874E25-14B8-4042-8EF5-49A252989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E10FAB-3DD8-4739-A08A-31001DC15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A7C0BC-C90C-4D86-A2C1-74512E816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F8EC64-7958-4BDF-BE51-1CC81B671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3CE29F-5478-436A-8249-94DA2402E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82B210-FE49-4875-99D2-7837686FF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CDA298-394C-421D-A64C-D32C2486D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601E-B633-413A-A944-1B4AE9713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E91701-6BC1-4A90-9F59-C888C284D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7DC989-F45A-4703-944F-BFF417EA9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334BD8-7DB0-40C1-846D-65AB7CC27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B8B657-A44F-48F5-B302-80B35529F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EEEBC4-B2BD-4355-B6C6-A0D3C8576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CF8A9B-B89B-46E1-84A7-72C1DB04B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A39F8D-40A5-4B7C-8C87-288425C48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2295B2-E250-4BBD-BFC4-586D1CE26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362A69-C3B2-4B9B-AC02-A86BCDC08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D0C129-ABD1-4843-A14E-9AB5C47B4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1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7FF95-EFF9-4764-BE4F-151B451EAC7F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EDE91-8CE8-454D-B7B2-6B585FAFD48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6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397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8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A66E2-BADD-4F8A-BBE3-31D0489E0070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9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30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660EC-2717-452D-8D15-854272B0526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0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441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3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5EA5D-10CA-48F1-BD18-23C426EEEB42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3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3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A96B3-734B-44D5-8BE8-A7C899F66B5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4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485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 type="dt" idx="3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16773-8B06-40A2-8351-D06B626A33B6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 type="ftr" idx="35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 type="sldNum" idx="3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75390-E23E-47B9-8F49-DA7DFC708CC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026"/>
          <p:cNvGrpSpPr/>
          <p:nvPr/>
        </p:nvGrpSpPr>
        <p:grpSpPr>
          <a:xfrm>
            <a:off x="-7758000" y="1463760"/>
            <a:ext cx="16902000" cy="10794960"/>
            <a:chOff x="-7758000" y="1463760"/>
            <a:chExt cx="16902000" cy="10794960"/>
          </a:xfrm>
        </p:grpSpPr>
        <p:sp>
          <p:nvSpPr>
            <p:cNvPr id="45" name="Freeform 1027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1028"/>
            <p:cNvSpPr/>
            <p:nvPr/>
          </p:nvSpPr>
          <p:spPr>
            <a:xfrm>
              <a:off x="-7758000" y="1463760"/>
              <a:ext cx="13452480" cy="1079496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2731" y="-1"/>
                    <a:pt x="23861" y="88"/>
                    <a:pt x="24979" y="265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2731" y="-1"/>
                    <a:pt x="23861" y="88"/>
                    <a:pt x="24979" y="265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F0678-FA9E-4126-8AA3-3C45B573346A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2D026-5870-41A4-B523-F52E6B78904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89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B07D5-F900-41C9-AFC6-2EE11EA29CEA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24E7D-CB3A-4587-8609-20FDC914C35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133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6BA3A-7025-491A-827A-AC5908BA8D14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40DC5-F09F-4B29-B292-37F6C330FFB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177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22FAB-4CCA-4577-AF17-187224367E6F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B8AAD-CA32-44C2-B4F4-C097CB654D6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221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E85E8-D742-4B64-95BB-9233B907A34F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341C4-B424-4041-A564-6067C52A57F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265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0BF53-A812-459F-AD64-31DE909F6CA3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A7C06-E0DF-43C6-9C0A-44A2E0E4DFD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309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A6D9F-DEF3-40D0-B850-5C358B768032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E53F1-2CDE-47FA-8FAC-5434E628E5C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353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25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F00E1-0E88-4FE0-864E-2C8163AC0C75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26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27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2C60E-18A5-4B25-9DC4-1FE9CE53272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62A7E-DA05-4F32-8013-3F6C96DB3D29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2AC11-FF25-4365-9011-4BB5BC7C5DF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Н.В.Гоголь «Мертвые души»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Тема урока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История создания, особенности жанра, композиции,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смысл заглавия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9" name="Picture 4" descr="2"/>
          <p:cNvPicPr/>
          <p:nvPr/>
        </p:nvPicPr>
        <p:blipFill>
          <a:blip r:embed="rId1"/>
          <a:stretch/>
        </p:blipFill>
        <p:spPr>
          <a:xfrm>
            <a:off x="0" y="2057400"/>
            <a:ext cx="346716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9F206-A125-4FCA-8401-5518EDB87F3C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B4111-C443-498C-9775-CA7345D6979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Почему Н.В.Гоголь сжег второй том «Мертвых душ»?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процессе работы Гоголь замыслил дать уже не один, а три тома, в которых можно было бы показать Русь уже не «с одного боку», а всесторонне. Второй и третий тома «Мёртвых душ» должны были, по мысли автора, наряду с отрицательными вывести и положительных героев и показать нравственное возрождение «подлеца-приобретателя» Чичиков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акая широта сюжета и насыщенность произведения лирическими местами, позволяющими писателю многообразно выявлять своё отношение к изображаемому, внушили Гоголю мысль назвать «Мёртвые души» не романом, а поэмой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о Гоголь сжёг второй том «Мёртвых душ», а к третьему он и не приступал. Причина неудачи была в том, что Гоголь искал положительных героев в мире «мёртвых душ» — представителей господствовавших в то время общественных слоев, а не в народном, демократическом лагере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247ED-DB4E-4968-9C5E-422CA81B4FD9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BFA5A-9330-463D-B807-71EFF47DB56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99"/>
                </a:solidFill>
                <a:latin typeface="Arial"/>
                <a:ea typeface="Times New Roman"/>
              </a:rPr>
              <a:t>Почему Гоголь не смог найти положительного героя среди господствующих в то время слоев?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7000"/>
          </a:bodyPr>
          <a:p>
            <a:pPr marL="3326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елинский  ещё в  1842    году предсказал     неизбежность неудачи Гоголя в осуществлении подобного замысла. «Много, слишком много обещано, так много, что негде и взять того, чем выполнить обещание, потому что того и нет ещё на свете»,— писал он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ошедшие до нас главы второго тома «Мёртвых душ» подтверждают справедливость мыслей Белинского. В этих главах есть блестяще написанные образы, родственные помещикам первого тома (Пётр Петрович Петух, Хлобуев и др.), но положительные герои (добродетельный генерал-губернатор, идеальный помещик Костанжогло и откупщик Муразов, «самым безукоризненным путём» наживший свыше сорока миллионов) явно не типичны, жизненно не убедительн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353F4-F2FD-4E31-B548-1158CB627CE5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5521D-12CF-4DFE-95D3-B3C2CDA0993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6699"/>
                </a:solidFill>
                <a:latin typeface="Arial"/>
              </a:rPr>
              <a:t>Что представляет собой композиция поэмы?</a:t>
            </a:r>
            <a:endParaRPr b="0" lang="en-US" sz="3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imes New Roman"/>
              </a:rPr>
              <a:t>Замысел «изъездить вместе с героем всю Русь и вывести множество самых разнообразных характеров» предопределил композицию поэмы. Она построена как история похождений «приобретателя» Чичикова, покупающего мёртвые фактически, но живые юридически, т. е. не вычеркнутые из ревизских списков, души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9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900" spc="-1" strike="noStrike">
                <a:solidFill>
                  <a:srgbClr val="ffffff"/>
                </a:solidFill>
                <a:latin typeface="Times New Roman"/>
              </a:rPr>
              <a:t>Центральное место в первом томе занимают пять помещиков  «портретных» глав (со второй по шестую).  Эти главы, построенные по одинаковому плану, показывают, как на почве крепостничества складывались разные типы крепостников и как крепостное право в 20—30-х годах 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XIX </a:t>
            </a:r>
            <a:r>
              <a:rPr b="0" lang="ru-RU" sz="1900" spc="-1" strike="noStrike">
                <a:solidFill>
                  <a:srgbClr val="ffffff"/>
                </a:solidFill>
                <a:latin typeface="Times New Roman"/>
              </a:rPr>
              <a:t>века, в   связи с ростом капиталистических сил, приводило помещичий класс к экономическому и моральному упадку. 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3294A-9CA7-438C-8484-A6F3003DAA5B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ADE11-FB1B-4B08-B22A-20B4CCD0D6A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6699"/>
                </a:solidFill>
                <a:latin typeface="Arial"/>
              </a:rPr>
              <a:t>Гоголь даёт главы в определённом порядке</a:t>
            </a:r>
            <a:r>
              <a:rPr b="0" lang="ru-RU" sz="2100" spc="-1" strike="noStrike">
                <a:solidFill>
                  <a:srgbClr val="003399"/>
                </a:solidFill>
                <a:latin typeface="Arial"/>
              </a:rPr>
              <a:t>. </a:t>
            </a:r>
            <a:br>
              <a:rPr sz="2100"/>
            </a:br>
            <a:endParaRPr b="0" lang="en-US" sz="21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Бесхозяйственного помещика Манилова (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II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глава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сменяет мелочная скопидомка Коробочк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III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глава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безалаберного прожигателя жизни Ноздрёва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IV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глава)—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рижимистый Собакевич (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V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глава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Завершает эту галерею помещиков Плюшкин —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скряга, доведший своё имение и крестьян до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олного разорен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4E4A0-60C2-4CD5-94D7-133C34FF39F4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7E278-EEA2-44F6-BD8C-422BA8A5E8F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оэма превращается в гениальное обличение крепостничества как такого социально-экономического строя, который закономерно порождает культурную и экономическую отсталость страны, морально разлагает тот класс, который являлся в то время вершителем судеб государства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Каков идейный замысел поэмы?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Дата 1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D5FC4-7B24-4947-8C13-A401B2E96587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Номер слайда 3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BB714-B2D2-42F1-8ADF-F4CC47A3D48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/>
          </p:nvPr>
        </p:nvSpPr>
        <p:spPr>
          <a:xfrm>
            <a:off x="0" y="22860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Times New Roman"/>
              </a:rPr>
              <a:t>Какими были отзывы критиков на выход поэмы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округ первого тома сразу же разгорелись жаркие споры. Вопрос о книге Гоголя, по словам Белинского, был «столько же литературным, сколько и общественным». «Между восторгом и ожесточенной ненавистью к «Мертвым душам» середины решительно нет...», — писал Прокопович Гоголю в октябре 1842 года. Одни обвиняли автора в клевете на Россию, другие, напротив, увидели в поэме апофеоз Рус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D2F2E-0491-482B-A2E1-98E42AE7FB5F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F58FC-1100-4502-9446-77082341172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Какими были отзывы критиков на выход поэмы?</a:t>
            </a:r>
            <a:br>
              <a:rPr sz="2800"/>
            </a:b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150040" cy="464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 выход «Мертвых душ» не замедлили откликнуться и журналы. Наиболее подробные и интересные разборы дали Шевырев в «Москвитянине» и Плетнев в «Современнике» — как раз те критики, которые ближе других стояли к Гоголю и более чем кто-либо были посвящены в его замыслы. Так, Плетнев писал, что «на книгу Гоголя нельзя иначе смотреть, как только на вступление к великой идее о жизни человека, увлекаемого страстями жалкими, но неотступно действующими в мелком кругу общества». Замечание Шевырева о «неполноте комического взгляда, берущего только вполобхвата предмет», особенно понравилось Гоголю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88084-E1C0-483D-B8E6-860ED46E9068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5E706-B7D6-44D6-812B-32FC70247C1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Какими были отзывы критиков на выход поэмы?</a:t>
            </a:r>
            <a:br>
              <a:rPr sz="2800"/>
            </a:b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 том же 1842 году в Москве вышла брошюра Константина Сергеевича Аксакова "Несколько слов о поэме Гоголя: «Похождения Чичикова, или Мертвые души»", в которой он сравнивал Гоголя с Гомером, находя у них общий взгляд на мир — «всеобъемлющее эпическое созерцание». По мысли критика, поэма Гоголя возрождала в русской литературе традиции гоме­ровского эпоса. «Уж не тайна ли русской жизни лежит, заклю­ченная в ней, не выговорится ли она здесь художественно?» — вопрошал Аксаков, разумея всю поэму в целом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92AE2-8CDE-4333-851B-C53101B7356D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A2DCE-FC48-44D9-8AEC-E1E19DE7BB5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Какими были отзывы критиков на выход поэмы?</a:t>
            </a:r>
            <a:br>
              <a:rPr sz="2800"/>
            </a:b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8256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"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ак всякое глубокое создание, «Мертвые души» не раскрываются вполне с первого чтения даже для людей мыслящих, — писал Белинский, — читая их во второй раз, точно читаешь новое, никогда не виданное произведение"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днако именно Белинскому принадлежит определение поэмы, как «творения чисто русского, национального, выхваченного из тайника народной жизни &lt;...&gt; дышащего страстною, нервистою, кровною любовью к плодовитому зерну русской жизни», и Гоголя как «русского национального поэта во всем пространстве этого слова». Одним из первых критик подчеркнул и важнейшую особенность творчества Гоголя — его исключительную оригинальность и самобытность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B4910-6A5A-4C00-810F-76781A45C037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45A41-8356-40B3-A990-DBD9066532F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АНАЛИЗ 1 ГЛАВЫ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сего и надо, что вчитаться, - боже мой,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сего и дела, что помедлить над строкою -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е пролистнуть нетерпеливою рукою,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 задержаться, прочитать и перечесть.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 Ю. Левитански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D60D6-89F0-4622-B1F2-A29CEECAA82E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1DFD7-B6CA-4879-A694-25C8AB5B7EF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 своих произведениях Н.В. Гоголь предстает перед нами не только как замечательный писатель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«Старайтесь лучше видеть во мне христианина и человека, чем литератора», —призывал он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303FD-8B7E-4B21-928A-2310FCA37CC6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AEB10-AE8E-4B2F-8EE5-D94BC4E57FB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 Попробуем и мы разобраться, каков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значение первых строк поэмы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. В. Гоголя «Мертвые души»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 На уроке перед нами стоит непростая задача – проанализировать не только смысловой аспект, но художественные особенности языка представленного отрывк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AE6E1-8003-40F8-9B22-432AFD60E01A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4102F-C6BA-4255-847E-D573DC2DBA3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Чтение 1 главы поэмы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аше знакомство с Чичиковым происходит в губернском городе NN. Тихо и незаметно его бричка на мягких рессорах подкатила к воротам гостиницы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 Найдите, как встретил город приезд Чичикова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FE895-6716-4ADE-B723-62077DBB6E41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0BB6F-E0D3-40C2-90E3-73BFD0A186E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Какая часть речи указывает на отношение жителей города NN к приезду господина?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наблюдайте над художественными особенностями портрета этого господина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Какой деталью подчеркивает Гоголь безразличие к приезду некоего господина?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е обратив ни малейшего внимания на Чичикова, на чем сосредоточились мужики?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Случайно ли столь частое употребление слов « доедет, не доедет"?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9276F-0320-44BC-BAE3-4FDD076E1DE8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76379-0882-41AC-8D29-BEF48733053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 Обратите внимание на лица персонажей, встречающих Чичикова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 Обратите внимание, сколько раз встречается слово покой? Что это? У Гоголя – мастера русского языка, не может быть неоправданных повторов, значит, и эти не случайны? О каком покое говорится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D1CCB-8E2C-4851-84E2-5D78EE2AB30D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1C7BB-6DCD-4D09-B45A-6251204E657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66"/>
                </a:solidFill>
                <a:latin typeface="Arial"/>
              </a:rPr>
              <a:t>4. Итог урока</a:t>
            </a: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ернемся к эпиграфу нашего урока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можете ли вы теперь объяснить смысл этих слов?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.В. Гоголь действительно мастер художественного слова, который так умело и точно подбирает каждое слово. Иногда мелкая деталь красноречивее пространного описания или развернутой характеристики. Именно такая манера и заставляет вдумчиво читать и размышлять над страницами Н. В. Гогол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FCFA7-89E5-4BE8-A57E-EBCF139B5FA7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4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12CC4-969E-4D60-9F3C-4813CA39235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66"/>
                </a:solidFill>
                <a:latin typeface="Arial"/>
              </a:rPr>
              <a:t>Домашнее задание:</a:t>
            </a: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аков, на ваш взгляд, смысл заглавия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очитать II главу и подготовить сообщение о Манилове (первые впечатления, внешность, манера поведения и речь, отношение к хозяйству, к окружающим, любимые занятия, жизненные цели)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D9F38-29CE-4510-B664-8158E847148B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9F072-7C32-457E-B3C4-6372D349BC1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Задания к лекции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Найдите  ответы на предложенные вопросы, выводы запишите  в тетрадь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C5FA0-5774-4769-8C3F-900540614935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51F65-11FF-411A-B612-48DE6B902CC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Какую цель ставил перед собой Н.В.Гоголь?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256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Еще с лицейской поры думал Н.В. Гоголь о службе на благо России. Он искренне и беззаветно любил ее и писал, что молится о спасении Русской земл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остойный сын своего Отечества и истинный христианин, Гоголь не только верил, что Россия — страна истинно христианска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«Дружно докажем всему свету, что в русской земле все, что ни есть, от мала до велика, стремится служить Тому же, Кому все должно служить на земле, несется туда же, кверху, к Верховной вечной красоте», но и вдохновенно призывал к служению Росси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«Нет выше звания, как монашеское, — писал он. — Монастырь Ваш — Россия. Облеките же себя умственно рясой чернеца и всего себя умертвите для себя, а не для нее, ступайте подвизаться в ней...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C3373-463B-431D-A8EC-5D12AB444976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D9E20-1D66-4122-AF35-06A41D14E0E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В чем видел свой долг Н.В.Гоголь?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исатель видел смысл собственного служения России в великой ответственности за каждое свое слово, ибо именно оно «есть высший подарок Бога человеку», то орудие, с помощью которого художник «призван все в мире исправлять к добру»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о все произведения, созданные им в первый период творчества, кажутся Гоголю лишь «давнею тетрадью ученика», и он восклицает: «Пора, пора, наконец, заняться делом» (письмо В.А.Жуковскому, 28 июня 1836 года)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 это дело —работа над «Мертвыми душами», поэмой, на которую автор возлагал большие надежды. «Какой огромный, какой оригинальный сюжет! — писал он. — Вся Русь явится в нем!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DA981-F833-4FBF-8F93-B4602F56C3D2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8C5CA-4234-4D29-BC1E-C904857FC50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Почему А.С.Пушкин отдал сюжет своего произведения Н.В.Гоголю?</a:t>
            </a: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з письма Н.В.Гоголя  А.С.Пушкину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: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«Сделайте милость, дайте какой-нибудь смешной или не смешной, но русский анекдот. Рука дрожит написать тем временем комедию»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Дата 1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844C2-FB00-4FD9-9FAC-B4543909CB9C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Номер слайда 3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ECCE3-1008-415E-B3AA-227CBC5448F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-360" y="-8640"/>
            <a:ext cx="80802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0033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2819520" y="914400"/>
            <a:ext cx="6324480" cy="55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33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 «Авторской исповеди» Гоголя (написана в 1847 году, напечатана в 1855 г.) читаем: «Он (Пушкин) уже давно склонял меня приняться за большое сочинение и наконец, один раз, после того, как я ему прочел одно небольшое изображение небольшой сцены, но которое, однако же, поразило его больше всего мной прежде читанного, он мне сказал: «Как с этой способностью угадывать человека и несколькими чертами выставлять его вдруг всего, как живого, с этой способностью не приняться за большое сочинение! Это просто грех!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след за этим начал он представлять мне слабое мое сложение, мои недуги, которые могут прекратить мою жизнь рано; привел мне в пример Сервантеса, который, хотя и написал несколько очень замечательных и хороших повестей, но, если бы не принялся за Донкишота, никогда бы не занял того места, которое занимает теперь между писателями, и, в заключенье всего отдал мне свой собственный сюжет, из которого он хотел сделать сам что-то в роде поэмы и которого, по словам его, он бы не отдал никому».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64" name="Picture 4" descr="Пушкин"/>
          <p:cNvPicPr/>
          <p:nvPr/>
        </p:nvPicPr>
        <p:blipFill>
          <a:blip r:embed="rId1"/>
          <a:stretch/>
        </p:blipFill>
        <p:spPr>
          <a:xfrm>
            <a:off x="0" y="990720"/>
            <a:ext cx="2473200" cy="3057480"/>
          </a:xfrm>
          <a:prstGeom prst="rect">
            <a:avLst/>
          </a:prstGeom>
          <a:ln w="9360">
            <a:solidFill>
              <a:srgbClr val="003399"/>
            </a:solidFill>
            <a:miter/>
          </a:ln>
        </p:spPr>
      </p:pic>
      <p:sp>
        <p:nvSpPr>
          <p:cNvPr id="565" name="WordArt 8"/>
          <p:cNvSpPr txBox="1"/>
          <p:nvPr/>
        </p:nvSpPr>
        <p:spPr>
          <a:xfrm>
            <a:off x="762120" y="0"/>
            <a:ext cx="5076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Замысел произведения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Дата 1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B690D-87C3-498F-A88A-F9F2A2D8AF49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Номер слайда 3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7AB20-296B-4E28-B02D-243EEC69B2A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/>
          </p:nvPr>
        </p:nvSpPr>
        <p:spPr>
          <a:xfrm>
            <a:off x="0" y="0"/>
            <a:ext cx="8763120" cy="2819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Гоголь последовал совету Пушкина, быстро принялся за работу и в письме от 7 октября 1835 года извещал его: «Начал писать «Мёртвых душ». Сюжет раскинулся на предлинный роман и, кажется, будто сильно смешон... Мне хочется в этом романе показать хотя бы с одного боку всю Русь»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69" name="Picture 8" descr="Ромашки"/>
          <p:cNvPicPr/>
          <p:nvPr/>
        </p:nvPicPr>
        <p:blipFill>
          <a:blip r:embed="rId1"/>
          <a:stretch/>
        </p:blipFill>
        <p:spPr>
          <a:xfrm>
            <a:off x="152280" y="2743200"/>
            <a:ext cx="89917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5E1DB-F976-4FE6-B502-EE5321EA7F19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5F75A-762B-4C41-A0E8-B6F82D66ED6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Каков замысел произведения?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ного позднее, в письме к Жуковскому 1848 года, Гоголь пояснял замысел своего творения: «Уже давно занимала меня мысль большого сочиненья, в котором бы предстало все, что ни есть и хорошего и дурного в русском человеке, и обнаружилось бы пред нами видней свойство нашей русской природы»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Денис</dc:creator>
  <dc:description/>
  <dc:language>en-US</dc:language>
  <cp:lastModifiedBy>Admin</cp:lastModifiedBy>
  <dcterms:modified xsi:type="dcterms:W3CDTF">2010-02-18T20:29:09Z</dcterms:modified>
  <cp:revision>11</cp:revision>
  <dc:subject/>
  <dc:title>Н.В.Гоголь «Мертвые души» - история создан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3</vt:r8>
  </property>
</Properties>
</file>