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6712-C59D-49D2-A0CA-F2E9D7A1FF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86FC-75E2-4664-9D20-7A13628BAAD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AF52-4D0F-4012-BDE5-DC5B7B9ECDC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9DC8-4FE6-4ABE-9B41-69476A8EFA2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3471-F005-48DA-9816-F02E5F485F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823C-252E-4668-B80B-D1F5C7212F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84C1-59C8-451D-B92A-39C7028F2AB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A608-204F-4FFD-85E4-8B5F4A0737E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7327-43B4-48AF-8666-434CDF70A58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EE3A-54D0-4D2B-80CA-7ECBE0C925F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3830-885C-409D-A50B-640F978722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0DBF-E0A7-4598-AB95-0890BB9BE9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CB93-3E0F-437B-8D8C-0DEADF6DD36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3303-D5B5-42D9-A20F-58648E85EB9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EA35-FE40-47D3-A62D-3234E28A9DC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D605-DE66-4FEA-818E-3E74E3FAD1A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088E-D6AE-457E-BB49-9055A517F7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174F-E514-4126-B3D3-BCF466C0E50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4C7A-C57B-4FFB-939A-883CB27466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79A9-79F6-42D3-8599-4C84F66B152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1EB7-D3F5-417C-AF58-8EDA3F7D044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FCBF-ECF1-480B-B78B-72507C881B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C6D6-7E26-41C9-BB4B-99CDBD4DFD7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FC7D-6924-42B7-BB8C-69218935182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3D0C-B75F-4ABE-9A0F-C34A5381E02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FE71-7A4A-482A-9940-DA46A6239F6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1D8C-98EA-4A2D-B9E4-2AFBFDACA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E9C-AC8C-4C6F-BB00-B3C60164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B8977-D1F5-4160-908F-BC91B9B5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993AE-5B10-4B50-92BC-5FB1D577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C975E-E423-47CC-A0BC-B38C29AF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F9D84-9F14-4139-AB08-111C869E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479D2-DB48-485B-98FB-4E8CA90A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E12B5-3D51-408F-9601-5C4311E0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3DB00-4F69-47DA-9D68-279D730C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D4C89-1562-4682-93E3-50F2BDCB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42FEF-C736-4EBB-BF33-3584327A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BFCF6-9FA2-4B2D-A214-991740B9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880D-B11B-474D-8CBC-4A7047C6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1E2E4-B829-4BA4-A176-821D8766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8B008-AB9D-47E0-8F5B-6184F1E2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023B9-D80D-464F-A9F2-8A2C54E0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D9210-D7C9-423B-834D-552A15C5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42968-FDA9-417C-B17A-B11FC766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BF3EB-1FCF-4C8D-A4C6-9CA46CA2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69F8E-319B-4DB9-81A2-5771BE0B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06032-E1D1-4F49-BF7A-F8901680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86229-1A89-4CE6-A83A-16C26DCD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6B292-2F22-46B1-AB6B-8117CEB9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150-8EAA-4484-AADF-4896834B0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E7297-E1D0-40FC-8A96-85A85147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DC732-BC54-48A6-9959-88C58E72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54BA5-ACA0-493D-8BC0-35D2A766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BBCE8A-33ED-4B1B-BC4A-6D718D15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AF1C2-57CE-4439-83CE-8A6038E8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306EA-2270-4ED3-B720-E73139E8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04905-A6FE-4B70-AAC2-A029AC97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97337-C570-4CD9-AEEE-332903A3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91008-89C4-40DD-9A99-A86A02FD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57DF4-D976-43C9-91D2-BC94086B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7440-BAE4-45F9-AE03-97CB46CA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16411-9973-4C76-8749-3A3ED407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F52D6-E3AD-41BD-B945-4FCFC08D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4838F-057B-4134-A1C0-8B41B47B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99671-F7AB-4D03-A3C3-093678B7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FC8CC-3BCE-4E70-BFEF-9D225867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A810B-8194-4E50-BF54-0C90F0B8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0123C-E907-474D-BBEF-3B7C13F0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C0DD6-DC37-4F0E-A13A-D7F3BB67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4AF94-412C-433D-A576-C9F8B20C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13BB1-B97A-4084-AB10-9E7F12A5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A5F2-C707-40F1-81E0-599512A6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F66D4-82C4-4DF3-A04C-6378301D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60DBC-A66F-4D0F-AEE8-9E30DF42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A7DEC-25F9-4D37-902E-157E2D95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9E9F4-C001-44CA-B0CC-0D9FF2184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27CA22-FA26-49FD-BB3B-C3D275B44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376E-3408-4584-9CDD-6FD41987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35BB-26B3-4FFB-BD9D-66C0779A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355A-501B-47A4-BF9C-E0C4EEB2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3D5C-0E45-42A8-9007-75E9BDF6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789F-1C87-4002-B71C-B352C9DD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DB8-B387-439F-A16D-130A13DB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2590-A430-4B8B-B33B-3FB28506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674D-BAF0-46E0-9C4C-D10173BF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7CBC-FADF-4F36-82CB-06A11150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B645-7E06-41B1-81EF-1CB0ECAD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0268-4844-4962-B95F-41B30518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8436F-D388-4C18-89F4-0CC18D329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96430-8B31-41FE-8F8E-A7ED5E3C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7813A-16F8-424B-BAC0-67392ED3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66F96-4FAE-4159-BAED-D5D8C212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D0723-40EA-4DCA-A4F8-37962383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23F-2BE7-431E-BFE4-32C56FA0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59479-416C-43E9-881A-DB2AA6B2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9F194-1B07-4A75-9671-AFDB799A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56B7B-BE3B-425F-B6D7-DA372E12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759A6-24D8-4772-944C-A9235F96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D7DA8-5E46-4F90-879C-AEB0E0DD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8DAE6-9C55-49FF-8F23-983A60E2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812A8-7883-424F-9B67-B0FC31EE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4C906-42BA-4816-9FF7-B3B3D8C4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E567E-5445-4D43-ACF8-EF53492D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69632-9A16-47A9-A607-00C6ACA3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F37E-C1B4-4247-8108-4E64BE12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FF551-1651-4DC0-970E-66E32590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8972B-5611-4E34-8F58-C5307138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6FF5E-13A4-43E9-8183-1805DDFC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CD578-6509-4BBF-9159-D423CFFD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4CE9E-79EE-4B07-8E44-50762359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446B5-91CB-43D2-817B-79CD0793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F0CE7-3854-4195-B311-7EC711D9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AD8CD-0171-42C1-BFE6-F534DEF5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331D5-6BAA-4B1F-B529-DD70C1D8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6C11A-EF29-4E3F-95EF-58DFEC38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2C6-F82D-4892-B796-DC6D3EBD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D0339-B9B6-42A3-97BD-DD6286F8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A65F1-9930-4520-A32B-C424660F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2E1E6-FD50-4E0B-802A-699FA0A2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3FA0C-D3F0-4255-95A1-2DCE365D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9CA71-D37F-4FC9-87AE-3A7251B4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54775-3BCF-4360-8573-38471798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CFEE0-04EF-4C54-93CC-E6C06EBB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F8D96-16AB-4B3D-ACF9-6D855187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1272B-F799-4A96-A0E5-DD19EA4D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D70DE-90B1-4A98-85DC-DAAC6ECF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39A2-614A-495E-B280-FEA7EB5B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64DD0-4E6E-465F-87AA-9623AF8A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1F122-5F48-4CFE-BB4B-92C38DBA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C6756-B65A-4E57-8121-CDC54EB6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542AE-C65D-409E-A3E5-ED879C0D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F46EE-5444-489A-8748-37DB0E86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226DE-1695-4B3D-BE84-A7D9F332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1ED89-01D1-43B3-BC75-8F3764AF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EF2DA-0787-4166-9509-20EA9CA6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EDC50-46E2-484C-8697-7443ADF4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7ADA0-D115-46DE-B5D8-C3027149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2C4-C087-4D06-9CD1-CC8C8CA8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161E5-E7B3-4981-8BAE-DCE3DFC1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5638B-C239-4090-8324-2EFEE29C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C5881-12DA-40A2-871E-B8222622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4DA51-E8B9-4659-952F-1FFBC751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E22E4-F5F8-4BE9-B896-9C1FC2AD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242F6-77AC-4EB0-B370-0F46CB8A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C1A3E-73AD-418B-8004-5F7AE2FD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D878D-FF03-46AD-817A-411D0266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E00C3-A0DE-4DA8-8791-906C232E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67BCF-A26A-4B46-9E8B-C2F73A5F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74C-24B4-4581-9656-8E03F81E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8C9D0-3BC0-4E1A-BD3D-46E54CE2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918A5-4EFE-4DCA-9834-4A067EFD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ECD95-4E09-4895-AB4C-C3B38196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8F18F-8714-4E57-AD73-CCFF08F0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9C77F-A6CA-4C36-BD44-BD5911B3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DF576-D0E5-4BD8-A23D-2F6AC739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5AD80-D92F-4F98-AEC8-2E72C2CB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269E1-1811-41DD-80AC-B49C71CE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355C6-12A4-4E4C-82CB-B56F7022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B3C60-DE11-49D6-9142-B5AD65EA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49FC-6ED4-4BF7-970A-921AEAAE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72F96-EC6B-4AF7-9D23-71300462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62384-CA2B-4530-A7A8-0AB8BD7C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1606C-543E-4110-9EF4-357EAC59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BF5A0-B513-4C8F-B10F-E45FC341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EC871-0444-4827-B40E-17D6FD7A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3FD03-03DC-4474-AE0C-CB188148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E50F9-4AF9-42CC-93F8-B6946F20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D63C4-08B5-47BF-9204-E6580117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2AF07-27F5-4F91-AAB0-C803B1D8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4A867-2D79-4BBC-ACAF-D0BA8929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F5AC-5AAE-4578-BD0A-2B1BAA0AA54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756C-6148-4049-BAB9-5065FF8879D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074D-D173-4D6F-BA5A-0CB81A0612C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4D85-082D-4440-AA17-089FB9EE06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4417-D524-4B84-8A1E-91CC94ACE93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C7AC-5FE9-485E-95C4-C8F950A235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416F-1621-4DDA-9D9A-D1530A71DF5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166C-7BB1-4647-8CCF-EB59692F137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F5AC-BF60-4FF5-BC5D-294E0618986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D4C6-9050-4F82-87A9-B61BFB4A45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80F3-0E23-4BBB-A4E4-01420E75058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9901-8F6E-42A7-9484-EA05D9A4BD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09DE-D738-4C27-9D64-A7257B1FF55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E987-7E87-49FD-8937-15D078C7CC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D9FE-C8AC-4D0A-9451-1E4F517B189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0868-77A0-4929-B8AD-137B535736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E5D0-792A-488A-8F5B-FB86993E893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43BA-4311-48BC-8F78-1E4633DF38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0E7E-5964-4CE0-8DED-242ECA43886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B44F-9491-4595-BF91-F94155D6C2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125D-BEBD-45C9-94CB-387BD18DADB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76E0-75B6-4016-B59A-5E45491BB49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95E9-137C-4DD8-A6AD-0ABC26BC526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4AC8-4E3E-4D63-A0F4-8BAD0790D6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A922-8FA7-4815-AA0B-DD2E1C48D45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8FFA-9345-4EF4-98B3-C4DA3C50D8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.В.Гоголь «Мертвые души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стория создания, особенности жанра, композиции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мысл заглав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4" descr="2"/>
          <p:cNvPicPr/>
          <p:nvPr/>
        </p:nvPicPr>
        <p:blipFill>
          <a:blip r:embed="rId1"/>
          <a:stretch/>
        </p:blipFill>
        <p:spPr>
          <a:xfrm>
            <a:off x="0" y="2057400"/>
            <a:ext cx="346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6530-7829-4C25-B59E-4FB025CF850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237D-5AC2-4126-8CA7-326A4091EA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Н.В.Гоголь сжег второй том «Мертвых душ»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работы Гоголь замыслил дать уже не один, а три тома, в которых можно было бы показать Русь уже не «с одного боку», а всесторонне. Второй и третий тома «Мёртвых душ» должны были, по мысли автора, наряду с отрицательными вывести и положительных героев и показать нравственное возрождение «подлеца-приобретателя» Чичик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ая широта сюжета и насыщенность произведения лирическими местами, позволяющими писателю многообразно выявлять своё отношение к изображаемому, внушили Гоголю мысль назвать «Мёртвые души» не романом, а поэм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Гоголь сжёг второй том «Мёртвых душ», а к третьему он и не приступал. Причина неудачи была в том, что Гоголь искал положительных героев в мире «мёртвых душ» — представителей господствовавших в то время общественных слоев, а не в народном, демократическом лагер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ABD9-5330-4092-8743-8657DBE3C14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C340-679F-459B-B0E5-469F7486A0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Times New Roman"/>
              </a:rPr>
              <a:t>Почему Гоголь не смог найти положительного героя среди господствующих в то время слоев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инский  ещё в  1842    году предсказал     неизбежность неудачи Гоголя в осуществлении подобного замысла. «Много, слишком много обещано, так много, что негде и взять того, чем выполнить обещание, потому что того и нет ещё на свете»,— писал 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шедшие до нас главы второго тома «Мёртвых душ» подтверждают справедливость мыслей Белинского. В этих главах есть блестяще написанные образы, родственные помещикам первого тома (Пётр Петрович Петух, Хлобуев и др.), но положительные герои (добродетельный генерал-губернатор, идеальный помещик Костанжогло и откупщик Муразов, «самым безукоризненным путём» наживший свыше сорока миллионов) явно не типичны, жизненно не убедитель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7E70-FE53-437C-8B6F-327150FB6BB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A111-BA34-4B3B-BA27-CFBE059CB3B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99"/>
                </a:solidFill>
                <a:latin typeface="Arial"/>
              </a:rPr>
              <a:t>Что представляет собой композиция поэмы?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Замысел «изъездить вместе с героем всю Русь и вывести множество самых разнообразных характеров» предопределил композицию поэмы. Она построена как история похождений «приобретателя» Чичикова, покупающего мёртвые фактически, но живые юридически, т. е. не вычеркнутые из ревизских списков, душ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Центральное место в первом томе занимают пять помещиков  «портретных» глав (со второй по шестую).  Эти главы, построенные по одинаковому плану, показывают, как на почве крепостничества складывались разные типы крепостников и как крепостное право в 20—30-х годах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ека, в   связи с ростом капиталистических сил, приводило помещичий класс к экономическому и моральному упадку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E3F4-5BF2-4B59-B8E5-A5D5C188CA6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0D88-BBA7-4BCB-AC8B-EA322DE47E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6699"/>
                </a:solidFill>
                <a:latin typeface="Arial"/>
              </a:rPr>
              <a:t>Гоголь даёт главы в определённом порядке</a:t>
            </a:r>
            <a:r>
              <a:rPr b="0" lang="ru-RU" sz="2100" spc="-1" strike="noStrike">
                <a:solidFill>
                  <a:srgbClr val="003399"/>
                </a:solidFill>
                <a:latin typeface="Arial"/>
              </a:rPr>
              <a:t>. </a:t>
            </a:r>
            <a:br>
              <a:rPr sz="2100"/>
            </a:br>
            <a:endParaRPr b="0" lang="en-US" sz="2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схозяйственного помещика Манилова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меняет мелочная скопидомка Коробоч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залаберного прожигателя жизни Ноздрёв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жимистый Собакевич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вершает эту галерею помещиков Плюшкин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кряга, доведший своё имение и крестьян д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ного разор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E7B8-266A-4D06-8502-4C89DE57823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3B4B-DC17-454F-82FD-49A379AEBBF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эма превращается в гениальное обличение крепостничества как такого социально-экономического строя, который закономерно порождает культурную и экономическую отсталость страны, морально разлагает тот класс, который являлся в то время вершителем судеб государст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идейный замысел поэмы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C349-97B7-4A23-890A-5171D20CDA2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76BF-C914-4EA9-970D-54E662A328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Какими были отзывы критиков на выход поэм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круг первого тома сразу же разгорелись жаркие споры. Вопрос о книге Гоголя, по словам Белинского, был «столько же литературным, сколько и общественным». «Между восторгом и ожесточенной ненавистью к «Мертвым душам» середины решительно нет...», — писал Прокопович Гоголю в октябре 1842 года. Одни обвиняли автора в клевете на Россию, другие, напротив, увидели в поэме апофеоз Рус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455C-F702-48A1-B258-D4DD20F0E4D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1C87-E122-44A9-A7DF-B0A9B013B9D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15004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выход «Мертвых душ» не замедлили откликнуться и журналы. Наиболее подробные и интересные разборы дали Шевырев в «Москвитянине» и Плетнев в «Современнике» — как раз те критики, которые ближе других стояли к Гоголю и более чем кто-либо были посвящены в его замыслы. Так, Плетнев писал, что «на книгу Гоголя нельзя иначе смотреть, как только на вступление к великой идее о жизни человека, увлекаемого страстями жалкими, но неотступно действующими в мелком кругу общества». Замечание Шевырева о «неполноте комического взгляда, берущего только вполобхвата предмет», особенно понравилось Гого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68E9-375F-4BDF-BF36-CDF291C5836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0CD7-7AA6-4DEC-AC39-97A0C78313A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ом же 1842 году в Москве вышла брошюра Константина Сергеевича Аксакова "Несколько слов о поэме Гоголя: «Похождения Чичикова, или Мертвые души»", в которой он сравнивал Гоголя с Гомером, находя у них общий взгляд на мир — «всеобъемлющее эпическое созерцание». По мысли критика, поэма Гоголя возрождала в русской литературе традиции гоме­ровского эпоса. «Уж не тайна ли русской жизни лежит, заклю­ченная в ней, не выговорится ли она здесь художественно?» — вопрошал Аксаков, разумея всю поэму в це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866F-4EE2-447D-BD65-CA6D163D0D1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F511-5DC3-4351-A8AE-8AEF95138C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всякое глубокое создание, «Мертвые души» не раскрываются вполне с первого чтения даже для людей мыслящих, — писал Белинский, — читая их во второй раз, точно читаешь новое, никогда не виданное произведение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ко именно Белинскому принадлежит определение поэмы, как «творения чисто русского, национального, выхваченного из тайника народной жизни &lt;...&gt; дышащего страстною, нервистою, кровною любовью к плодовитому зерну русской жизни», и Гоголя как «русского национального поэта во всем пространстве этого слова». Одним из первых критик подчеркнул и важнейшую особенность творчества Гоголя — его исключительную оригинальность и самобытн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F060-AC4C-491C-BAC9-8C9E0B0B123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1C31-57D2-4F04-BF52-393454D20BA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АЛИЗ 1 ГЛАВ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надо, что вчитаться, - боже мой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дела, что помедлить над строкою -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ролистнуть нетерпеливою рукою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задержаться, прочитать и перечес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Ю. Левита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54E7-8D5C-4C8A-AAB8-D62957B31F8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C12E-033D-421D-A0C7-95238B139E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воих произведениях Н.В. Гоголь предстает перед нами не только как замечательный писате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тарайтесь лучше видеть во мне христианина и человека, чем литератора», —призывал 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EBFB-0FDF-4125-B672-3C415323E56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3BB6-459F-4777-BB42-428C37E8E4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пробуем и мы разобраться, како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ение первых строк поэм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. В. Гоголя «Мертвые душ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уроке перед нами стоит непростая задача – проанализировать не только смысловой аспект, но художественные особенности языка представленного отрыв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DD02-7468-4D2B-ADA5-CDA3C1A71D3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86DE-F8D2-4422-A0D1-62E791A2B5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тение 1 главы поэм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ше знакомство с Чичиковым происходит в губернском городе NN. Тихо и незаметно его бричка на мягких рессорах подкатила к воротам гостиниц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йдите, как встретил город приезд Чичикова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2A62-CBF0-405A-BE8E-6ACCEBBDAC3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F907-50B6-48A5-93C3-405CB41B3A6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ая часть речи указывает на отношение жителей города NN к приезду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аблюдайте над художественными особенностями портрета этого господин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ой деталью подчеркивает Гоголь безразличие к приезду некоего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обратив ни малейшего внимания на Чичикова, на чем сосредоточились мужик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лучайно ли столь частое употребление слов « доедет, не доедет"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5579-5DCD-4026-8A7E-10FEDAA6CF1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3461-D565-4D44-8943-1C8D32FDF72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 на лица персонажей, встречающих Чичико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, сколько раз встречается слово покой? Что это? У Гоголя – мастера русского языка, не может быть неоправданных повторов, значит, и эти не случайны? О каком покое говори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B23A-90EA-419C-84B3-6B9569875EE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2483-C8DC-4F3E-90A0-FA1511F063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4. Итог урока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немся к эпиграфу нашего урок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ожете ли вы теперь объяснить смысл этих слов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.В. Гоголь действительно мастер художественного слова, который так умело и точно подбирает каждое слово. Иногда мелкая деталь красноречивее пространного описания или развернутой характеристики. Именно такая манера и заставляет вдумчиво читать и размышлять над страницами Н. В. Гого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BF4D-57EB-4470-A127-4536766E528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CC9C-B8D2-4A22-9326-FC796F12D4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, на ваш взгляд, смысл заглавия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 II главу и подготовить сообщение о Манилове (первые впечатления, внешность, манера поведения и речь, отношение к хозяйству, к окружающим, любимые занятия, жизненные цели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D65A-A65F-4F73-A49F-FC9E2BDC31E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90D7-ED57-4960-B0ED-B95DD7B532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дания к лек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йдите  ответы на предложенные вопросы, выводы запишите  в тетрад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B592-317B-4188-8ED4-ACEA9702EF7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486C-9291-446E-BE13-EA15501651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ую цель ставил перед собой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ще с лицейской поры думал Н.В. Гоголь о службе на благо России. Он искренне и беззаветно любил ее и писал, что молится о спасении Русской зем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ойный сын своего Отечества и истинный христианин, Гоголь не только верил, что Россия — страна истинно христианск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ружно докажем всему свету, что в русской земле все, что ни есть, от мала до велика, стремится служить Тому же, Кому все должно служить на земле, несется туда же, кверху, к Верховной вечной красоте», но и вдохновенно призывал к служению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Нет выше звания, как монашеское, — писал он. — Монастырь Ваш — Россия. Облеките же себя умственно рясой чернеца и всего себя умертвите для себя, а не для нее, ступайте подвизаться в ней..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D5FF-D8B3-4F21-B215-24BE487BA31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45A1-686B-4288-AFF9-5C311D612C8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В чем видел свой долг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сатель видел смысл собственного служения России в великой ответственности за каждое свое слово, ибо именно оно «есть высший подарок Бога человеку», то орудие, с помощью которого художник «призван все в мире исправлять к добру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все произведения, созданные им в первый период творчества, кажутся Гоголю лишь «давнею тетрадью ученика», и он восклицает: «Пора, пора, наконец, заняться делом» (письмо В.А.Жуковскому, 28 июня 1836 года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это дело —работа над «Мертвыми душами», поэмой, на которую автор возлагал большие надежды. «Какой огромный, какой оригинальный сюжет! — писал он. — Вся Русь явится в нем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FC54-ED27-4470-B1D4-2B7E853256A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BAA8-0D7B-4CE0-A754-F462D298AD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А.С.Пушкин отдал сюжет своего произведения Н.В.Гоголю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письма Н.В.Гоголя  А.С.Пушкин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делайте милость, дайте какой-нибудь смешной или не смешной, но русский анекдот. Рука дрожит написать тем временем комедию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A7E3-2344-4856-A934-3FDF3D02467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E362-0AD5-41A6-B338-8E5F242CF1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-8640"/>
            <a:ext cx="80802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520" y="914400"/>
            <a:ext cx="6324480" cy="55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«Авторской исповеди» Гоголя (написана в 1847 году, напечатана в 1855 г.) читаем: «Он (Пушкин) уже давно склонял меня приняться за большое сочинение и наконец, один раз, после того, как я ему прочел одно небольшое изображение небольшой сцены, но которое, однако же, поразило его больше всего мной прежде читанного, он мне сказал: «Как с этой способностью угадывать человека и несколькими чертами выставлять его вдруг всего, как живого, с этой способностью не приняться за большое сочинение! Это просто грех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лед за этим начал он представлять мне слабое мое сложение, мои недуги, которые могут прекратить мою жизнь рано; привел мне в пример Сервантеса, который, хотя и написал несколько очень замечательных и хороших повестей, но, если бы не принялся за Донкишота, никогда бы не занял того места, которое занимает теперь между писателями, и, в заключенье всего отдал мне свой собственный сюжет, из которого он хотел сделать сам что-то в роде поэмы и которого, по словам его, он бы не отдал никому»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4" descr="Пушкин"/>
          <p:cNvPicPr/>
          <p:nvPr/>
        </p:nvPicPr>
        <p:blipFill>
          <a:blip r:embed="rId1"/>
          <a:stretch/>
        </p:blipFill>
        <p:spPr>
          <a:xfrm>
            <a:off x="0" y="990720"/>
            <a:ext cx="2473200" cy="30574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65" name="WordArt 8"/>
          <p:cNvSpPr txBox="1"/>
          <p:nvPr/>
        </p:nvSpPr>
        <p:spPr>
          <a:xfrm>
            <a:off x="762120" y="0"/>
            <a:ext cx="50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мысел произведе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2C7A-A141-4950-8B70-4E9E73BB595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B6A2-2EF9-45AE-A8A6-E47C290789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голь последовал совету Пушкина, быстро принялся за работу и в письме от 7 октября 1835 года извещал его: «Начал писать «Мёртвых душ». Сюжет раскинулся на предлинный роман и, кажется, будто сильно смешон... Мне хочется в этом романе показать хотя бы с одного боку всю Русь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Ромашки"/>
          <p:cNvPicPr/>
          <p:nvPr/>
        </p:nvPicPr>
        <p:blipFill>
          <a:blip r:embed="rId1"/>
          <a:stretch/>
        </p:blipFill>
        <p:spPr>
          <a:xfrm>
            <a:off x="152280" y="2743200"/>
            <a:ext cx="899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CA7F-FB22-4772-942B-60DB08B2537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8AB0-BC58-4C81-BDD4-449CAB00BD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замысел произведения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о позднее, в письме к Жуковскому 1848 года, Гоголь пояснял замысел своего творения: «Уже давно занимала меня мысль большого сочиненья, в котором бы предстало все, что ни есть и хорошего и дурного в русском человеке, и обнаружилось бы пред нами видней свойство нашей русской природы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</dc:creator>
  <dc:description/>
  <dc:language>en-US</dc:language>
  <cp:lastModifiedBy>Admin</cp:lastModifiedBy>
  <dcterms:modified xsi:type="dcterms:W3CDTF">2010-02-18T20:29:09Z</dcterms:modified>
  <cp:revision>11</cp:revision>
  <dc:subject/>
  <dc:title>Н.В.Гоголь «Мертвые души» - история созд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