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6635-6F3B-44B3-9F4E-F57F423D638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96064-FEE8-4383-BD6E-4CDE62E8173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0B58-C2B5-4D85-B09A-029B69AA523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E894-E377-46FD-84F8-FB508D8B8EE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607E-7C23-478D-83AE-C6A5659AF69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BE4F-4709-4018-A9CF-58E30E22ECD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2102-56E7-4625-A79D-FFDBF4034F6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CC70-B72B-4ED9-A751-4939DB76F5F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CCC1-6BEB-44D2-AFCF-063F1E497FE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497E-4D69-4EA5-AA68-FB9B1652473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8308-AE26-4888-99AB-A0F53573BB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4CC5-FB6C-4EDD-BDB2-0A9E29806DA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A5AD-7CBA-4EDD-BA11-89591C9A8AF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3FF5-4246-49FC-9E73-11259A50CD3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9784-00A5-43AD-9569-78F30235B62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AA63F-40F9-43F3-84F7-A5C0C75D039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19B2-5159-4C58-83B0-120B1C2F31A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7B23-231E-4362-8782-CC812BB9CF2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06E68-BBE7-4011-A3D7-8446E5657AA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71B55-EA18-40D4-BC64-EC92D8B5E1F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DAB7-333F-4779-AB8A-49E1960833E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721F-96D2-48DD-AAE5-669AA1202A9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E28D-6515-4BDF-BE02-8AF24D39D11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4AE5-2F6C-4056-A0B8-879AEE347A0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E92C-297E-4DBA-B7D6-A58B31F6BE0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26B9-619B-423A-8058-9FB5E8896F3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746-FA60-46DC-A8EC-094EB2E85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BF47-E211-4001-8874-F7F8E5F6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C0AFC9-28F2-4A5E-AE31-4AE9ACD8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E0FFF2-B7DB-4CE3-BC73-29806C34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CF1EE-33F7-453E-830F-8E04B072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58EA0F-608A-4ECE-A6B6-61196343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89CE9-EA2F-48DE-B860-86895B57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50EF75-A795-4E8E-9EFB-1E7C1BEB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FEDB8-AFB0-4DDA-966E-38E5BA2D7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DE7159-75C8-4765-99A9-868A4AA48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C8BFEF-9830-423E-8F8B-46CECCDC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3DE2BB-BD22-4372-8DDB-905909C81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0643-D528-4D9A-BDEE-A1C25F1B1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7FA5D3-DE6D-4AC9-9040-D4693921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02247-9D90-4503-8999-02DF2303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6110C5-3294-40C5-8C85-7325CD1D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BFECE-F54E-4A82-8492-758D3ECA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B6E220-E24D-4D9C-9CFA-78ACC98C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5B65F-5479-4A96-96DA-16C4CDF4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48764-0BAA-477B-B590-830CDCEB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1CBFC8-0321-4808-A915-5E85D826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3CC9A8-D77E-4ED9-B9EC-70915BC7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EA822-EE78-4E2D-ABEC-CB9178B1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CCF0-48E9-4C2F-80D3-F2BE07B04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BC983-343A-484A-991E-1F53B97F8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B13699-3031-46B4-8476-57DCF8FE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24E3CE-9E2C-42F1-817C-4A0C65391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6F93B-B10D-443B-9E58-84A1056C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F39263-FEE0-4F11-BF6B-22A3BBB9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BACA9-D59F-43D6-B73D-8ADC17A8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58725-1E68-4F47-976B-E34567FEC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98D7A-89B4-4643-BBCE-E7CFBA34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4AB57-BEF9-4BDE-BC26-A3E1EC3F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62817A-3E1A-40C9-96BA-4526AD75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A549D-868D-4DB3-93C6-C9244C312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EDD78-95E6-4D8A-8DB5-5A6254889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10B2C-8C27-44BB-BBBD-A347016A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BE3B0-2B8B-4027-9636-01F97F63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D9BFC-8E82-4EF6-A2BF-CBC1B40E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FE32B1-B572-4220-B2BF-59731619D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CBDA85-74BD-4BEF-ADD4-526B4308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F7C9B-32A7-4A73-874C-5C1D9093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24E93-7A46-44D2-A020-B0F9D71C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0E77A1-45E8-4E36-93A2-48D78053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03337D-8369-43C6-AC30-EA8F7CB7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D716A-6009-434E-8348-4AFCF159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426348-390E-4FF3-8515-5BD037F9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DB204-8C88-4573-99D0-A6DDD391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92AE72-3D7B-4AA9-8712-64221D1A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A249E-656A-42C1-B88C-54EE3833D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7EC0F6-B4F3-4643-97FF-8B02D49B3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39A5-A1C3-47E8-8EF6-DDCF9B262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1F35-C9EF-4DF4-83A7-06763EF5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1EA2-F108-4A08-9824-328CF72A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A196-061A-4C79-BC07-FDE3D3A59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9BF0-5CB3-480E-A07F-841994B0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DEE1-EE12-41BE-9875-9F8D22748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BFC6-2183-4B8E-989C-FF3DE5A6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5B5A-FF8C-4610-BBC6-273F5754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5F58-93CF-4492-AA6A-4E718766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21542-B791-4D1E-82C8-017B817B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69A3-5607-4B17-848C-8E0FD8F8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C6032-958D-4CA4-BCB1-51C9C181C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5A8E9-EADB-484B-B618-418371A9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542EA-0630-4BE0-A3FC-F7BF5F56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AC3D1-8148-4B85-AE59-9B2FEE0B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22048-2DD4-407E-82A8-3542E941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714E-890F-48E3-9DE8-85714457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98508-D102-4C4E-A5AB-6C24DD5F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F17A18-F1EF-426B-96C5-E78CCED7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75825D-1ACA-45E6-B048-3BB6A967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F9ECA-8543-4F51-9198-3E367801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56DA6-F9EE-440A-8CF9-54D7FFAE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E1274-A213-41BB-9E4E-DAB63BDFA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5C134-0253-481B-A0D3-03296E3D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16749-10AF-4D6E-B953-E7BA2924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91A5A-95C0-4767-98C1-E910109D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B233B-E737-4124-B535-C26A672F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E315-24B9-40C8-B951-25626421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22F69-F38B-4BD6-9134-8D8718C0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B0799-D79F-4B7C-995E-B9B982DC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4B2F1-37DF-4860-9E56-5927C6E4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9B7D8-B4D6-495D-9ECD-1F5699575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0FA6A-4AB9-4975-92A3-B25F5B14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D7ABD-C17A-4D24-9CE3-D3CEC12A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92922-D5D2-45E5-91C6-D550D350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3D555-8C56-453C-8B8C-E011704E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241C9F-5D7E-4CF4-883A-22264C29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2B8C9-CF5F-4E73-BC2A-DAEC31DCB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77AE-F273-4A0B-BE97-C57C9CAE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0116A8-185B-4C58-9300-AAED98C4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3EFED-3286-46EA-9C11-EB8ECACB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57CB2-1B7E-4E4B-A820-4EDD07C8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D45A1-A82E-4818-8140-9204A540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F2364-AC8C-4EDE-B732-B5C91359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B737F-C471-4FB2-A809-9B6E09F02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FC3E3-3745-46FC-9428-D7B88C83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1DBC4-7549-4F9A-AF37-CBDB27591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321DB-D5D0-4888-A143-8D9FB129C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4AFFB9-9C30-4AF8-B4A5-6B801E3C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B431-F264-49F7-8740-76D70191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D22AB-ACC4-42F9-AD9E-A25B06FB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13BD0-4226-4F04-A5BC-78BEA5BCF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A78F8-D391-4A0C-A91B-730CEB341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A374D-0AC7-4E4C-BBC1-66ABC965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71869-7B99-4460-918B-27DD032A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2FA52-73D6-42AF-A064-2E17DF1F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BC0D5-0090-49F1-BFB8-36445512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C5D88-7F78-4E28-A4B0-73C6C6A4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A0851-88A9-42A1-92D0-902EA581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AA141-33B9-4F0E-B96C-837AB5F3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DF1-0B26-49EE-BBCD-8A307A4A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CDA916-E279-4746-9109-A6E8096F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01DB6-EA04-4D52-BEA5-A66763E93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0E56A-3CD6-4F33-BF33-6A72F1A1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B56D5-1021-4AFF-BB9E-8E0A30F44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D1495-E1FD-4374-B9AF-F5A57E0DA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26C4E-906D-4280-9B63-B8529FC9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B8890-0D4D-4563-A42C-E6263536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7E26F-929B-4CD8-B51D-9DE722F5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0BB9E-1AF4-497B-AD70-0237C463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42E6E-9A47-41C9-B41F-652C4805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D25A-C458-429A-9465-2815BA44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70010-8EB7-4F65-9260-187B2D05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4B33B-9A58-474A-9697-5C1054A2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BD06E-916F-49D9-B65E-56671C96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7B67E-39B6-471B-809B-A61C3D366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71455-D989-47F0-AC91-BFEE25E5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FFD0E-9858-4792-983D-F2666A9A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21D36-8230-493C-BEE4-E40D242B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7C1A1-8454-46A1-B230-D64F9804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2B947C-74BC-4451-949F-C0E6C648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8BCBC-FBDE-4066-ACB0-A1C3D57BC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6FEB-B703-4568-8380-9D50ED5F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7CB19-6704-4F09-AF31-E06D79A07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7836B8-30F8-4722-BEB2-28AE14EA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FAD6D8-1702-44DA-87AD-22F28323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AA374-59E2-46F3-A57A-7C4D6E98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31FA0-4CA8-4093-BCDC-F5E3521E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D884E8-6FA0-4B14-8AAB-065674A5A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8E1C1-6F69-46AF-BFBE-80DC4C18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69006-182B-43B9-92F0-7A66B8DDB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EEB71B-8E62-4DBE-94C0-881CBD37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A740F-F988-4670-BB68-8EFD81B3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6E6F-46FB-4F8E-B34E-A45EEF0C40AA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0570-61B8-4921-B93E-8F5FCA6BC8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725F-9468-4753-BF31-4E36C85576E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7373-1A23-4B9A-BBB2-E1BA527884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4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8FFCC-9DFC-45D2-809C-C7731737419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700A-0BB1-4B2F-A1A5-2B10C40EF24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0147-970E-43DA-BFBC-4B528B8386F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B1B0-93EF-4600-9E0D-41DEB95A889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A7B6-0A42-453B-B041-A6B5A1E74A5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54F6-C5D6-48AA-AA05-0E99778D973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8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69EE-920F-440D-848D-582E04F348C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5250-03E0-496D-BFEC-74E9E859037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6207D-351E-42EF-BA4B-9D0DAAAD378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20A75-3E72-45EB-8714-CA7DA376EA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7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1FCD0-6C58-4F4B-B29F-C5069CB3B03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BFDD-96D5-48B1-A712-32A4F93DDB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2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1479A-08C4-4D5A-8928-DECEB745C2F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B76D6-7620-415E-9A65-DB8BC0A6613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5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3EE5-BF1C-4FFA-8853-E2F47F0B38C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E46D-AD65-48F9-A1A1-9CCEB43D92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9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BFFF-D1BB-4CCA-9AAB-DAA8858B475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75A02-A66C-412F-901E-BE6B0DA2F56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3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56B81-562C-4638-9710-B838112F096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913B-207B-466B-8398-9F8A308CB68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1402-F94C-4882-8A54-5DBD07FDEB23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08E5-2C1E-4B29-A634-D7D09E7128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Н.В.Гоголь «Мертвые души»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ема урока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стория создания, особенности жанра, композиции,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мысл заглав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9" name="Picture 4" descr="2"/>
          <p:cNvPicPr/>
          <p:nvPr/>
        </p:nvPicPr>
        <p:blipFill>
          <a:blip r:embed="rId1"/>
          <a:stretch/>
        </p:blipFill>
        <p:spPr>
          <a:xfrm>
            <a:off x="0" y="2057400"/>
            <a:ext cx="34671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9DE4-F2BE-4409-BB82-602C9F161AB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2A92-0E04-4106-9691-31C5CB2C4C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Н.В.Гоголь сжег второй том «Мертвых душ»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процессе работы Гоголь замыслил дать уже не один, а три тома, в которых можно было бы показать Русь уже не «с одного боку», а всесторонне. Второй и третий тома «Мёртвых душ» должны были, по мысли автора, наряду с отрицательными вывести и положительных героев и показать нравственное возрождение «подлеца-приобретателя» Чичико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Такая широта сюжета и насыщенность произведения лирическими местами, позволяющими писателю многообразно выявлять своё отношение к изображаемому, внушили Гоголю мысль назвать «Мёртвые души» не романом, а поэмо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Гоголь сжёг второй том «Мёртвых душ», а к третьему он и не приступал. Причина неудачи была в том, что Гоголь искал положительных героев в мире «мёртвых душ» — представителей господствовавших в то время общественных слоев, а не в народном, демократическом лагере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547C-7ED1-467B-8BF1-11B2A01E12F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8B15-B8D5-4543-85C3-AB508B85629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99"/>
                </a:solidFill>
                <a:latin typeface="Arial"/>
                <a:ea typeface="Times New Roman"/>
              </a:rPr>
              <a:t>Почему Гоголь не смог найти положительного героя среди господствующих в то время слоев?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7000"/>
          </a:bodyPr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елинский  ещё в  1842    году предсказал     неизбежность неудачи Гоголя в осуществлении подобного замысла. «Много, слишком много обещано, так много, что негде и взять того, чем выполнить обещание, потому что того и нет ещё на свете»,— писал он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шедшие до нас главы второго тома «Мёртвых душ» подтверждают справедливость мыслей Белинского. В этих главах есть блестяще написанные образы, родственные помещикам первого тома (Пётр Петрович Петух, Хлобуев и др.), но положительные герои (добродетельный генерал-губернатор, идеальный помещик Костанжогло и откупщик Муразов, «самым безукоризненным путём» наживший свыше сорока миллионов) явно не типичны, жизненно не убедитель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85243-0583-4846-B92E-D1A8EF94B46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53D61-78AA-4266-854B-AD8FA169B77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6699"/>
                </a:solidFill>
                <a:latin typeface="Arial"/>
              </a:rPr>
              <a:t>Что представляет собой композиция поэмы?</a:t>
            </a:r>
            <a:endParaRPr b="0" lang="en-US" sz="3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Замысел «изъездить вместе с героем всю Русь и вывести множество самых разнообразных характеров» предопределил композицию поэмы. Она построена как история похождений «приобретателя» Чичикова, покупающего мёртвые фактически, но живые юридически, т. е. не вычеркнутые из ревизских списков, душ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Центральное место в первом томе занимают пять помещиков  «портретных» глав (со второй по шестую).  Эти главы, построенные по одинаковому плану, показывают, как на почве крепостничества складывались разные типы крепостников и как крепостное право в 20—30-х годах 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XIX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века, в   связи с ростом капиталистических сил, приводило помещичий класс к экономическому и моральному упадку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E020-CFDA-4A2B-AECD-3AC7A26660D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06B3-E4E8-47F9-BC2A-F7116EFDBE2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6699"/>
                </a:solidFill>
                <a:latin typeface="Arial"/>
              </a:rPr>
              <a:t>Гоголь даёт главы в определённом порядке</a:t>
            </a:r>
            <a:r>
              <a:rPr b="0" lang="ru-RU" sz="2100" spc="-1" strike="noStrike">
                <a:solidFill>
                  <a:srgbClr val="003399"/>
                </a:solidFill>
                <a:latin typeface="Arial"/>
              </a:rPr>
              <a:t>. </a:t>
            </a:r>
            <a:br>
              <a:rPr sz="2100"/>
            </a:br>
            <a:endParaRPr b="0" lang="en-US" sz="21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схозяйственного помещика Манилова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меняет мелочная скопидомка Коробочк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безалаберного прожигателя жизни Ноздрёв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рижимистый Собакевич (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V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глава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Завершает эту галерею помещиков Плюшкин —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кряга, доведший своё имение и крестьян д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лного разоре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7AC0C-1D54-4127-A4A5-3B3D0B9035F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E348D-F807-4491-AFDA-0BF819A0499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оэма превращается в гениальное обличение крепостничества как такого социально-экономического строя, который закономерно порождает культурную и экономическую отсталость страны, морально разлагает тот класс, который являлся в то время вершителем судеб государст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идейный замысел поэмы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C7F6-BD13-426F-98DD-7251080DEDB0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AB42-D787-4FE1-A425-8EF3A9E485E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Times New Roman"/>
              </a:rPr>
              <a:t>Какими были отзывы критиков на выход поэмы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круг первого тома сразу же разгорелись жаркие споры. Вопрос о книге Гоголя, по словам Белинского, был «столько же литературным, сколько и общественным». «Между восторгом и ожесточенной ненавистью к «Мертвым душам» середины решительно нет...», — писал Прокопович Гоголю в октябре 1842 года. Одни обвиняли автора в клевете на Россию, другие, напротив, увидели в поэме апофеоз Рус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0D51-9558-4423-822A-3ED43015732B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5908-AC79-45F4-B988-4FC96D4B226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15004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 выход «Мертвых душ» не замедлили откликнуться и журналы. Наиболее подробные и интересные разборы дали Шевырев в «Москвитянине» и Плетнев в «Современнике» — как раз те критики, которые ближе других стояли к Гоголю и более чем кто-либо были посвящены в его замыслы. Так, Плетнев писал, что «на книгу Гоголя нельзя иначе смотреть, как только на вступление к великой идее о жизни человека, увлекаемого страстями жалкими, но неотступно действующими в мелком кругу общества». Замечание Шевырева о «неполноте комического взгляда, берущего только вполобхвата предмет», особенно понравилось Гоголю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F9FF-D382-4FAA-B1E9-1441C227876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1BA1-B026-4549-AAF4-923DD1D9B0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том же 1842 году в Москве вышла брошюра Константина Сергеевича Аксакова "Несколько слов о поэме Гоголя: «Похождения Чичикова, или Мертвые души»", в которой он сравнивал Гоголя с Гомером, находя у них общий взгляд на мир — «всеобъемлющее эпическое созерцание». По мысли критика, поэма Гоголя возрождала в русской литературе традиции гоме­ровского эпоса. «Уж не тайна ли русской жизни лежит, заклю­ченная в ней, не выговорится ли она здесь художественно?» — вопрошал Аксаков, разумея всю поэму в цел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400C5-D5E9-425A-A47A-4656F207F63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4E4A-92E3-40B8-A9EE-E8CF00505A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ими были отзывы критиков на выход поэмы?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256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Как всякое глубокое создание, «Мертвые души» не раскрываются вполне с первого чтения даже для людей мыслящих, — писал Белинский, — читая их во второй раз, точно читаешь новое, никогда не виданное произведение"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днако именно Белинскому принадлежит определение поэмы, как «творения чисто русского, национального, выхваченного из тайника народной жизни &lt;...&gt; дышащего страстною, нервистою, кровною любовью к плодовитому зерну русской жизни», и Гоголя как «русского национального поэта во всем пространстве этого слова». Одним из первых критик подчеркнул и важнейшую особенность творчества Гоголя — его исключительную оригинальность и самобытност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781E-7F42-4B16-9912-1017B88768D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F711-318D-4AFC-8968-C6A903EA0E0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АНАЛИЗ 1 ГЛАВ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надо, что вчитаться, - боже мой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сего и дела, что помедлить над строкою -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 пролистнуть нетерпеливою рукою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 задержаться, прочитать и перечест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Ю. Левита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3CEB-816C-471D-86F0-CE0699CBC55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0391-6CA3-42B7-BD38-4252DB036A5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своих произведениях Н.В. Гоголь предстает перед нами не только как замечательный писател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тарайтесь лучше видеть во мне христианина и человека, чем литератора», —призывал о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7A89-9CCA-45A4-8BED-22C62E56E52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4E9B-3961-4424-AE26-6FB4D8BCAA9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Попробуем и мы разобраться, каков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начение первых строк поэмы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. В. Гоголя «Мертвые душ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 уроке перед нами стоит непростая задача – проанализировать не только смысловой аспект, но художественные особенности языка представленного отрыв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BCD0-BB11-4152-8D38-4D8834259CA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35B6-ED0A-47A2-8769-97701035BE9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Чтение 1 главы поэмы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ше знакомство с Чичиковым происходит в губернском городе NN. Тихо и незаметно его бричка на мягких рессорах подкатила к воротам гостиницы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Найдите, как встретил город приезд Чичикова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A606-1934-4EA6-9F55-422D96E3F014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4683-600C-4BC8-9F93-2E60E4A7424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ая часть речи указывает на отношение жителей города NN к приезду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наблюдайте над художественными особенностями портрета этого господин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акой деталью подчеркивает Гоголь безразличие к приезду некоего господина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 обратив ни малейшего внимания на Чичикова, на чем сосредоточились мужики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лучайно ли столь частое употребление слов « доедет, не доедет"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A036-4C84-4306-B7EA-3C0EE7088AC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B110-FDE4-428B-BD7C-60C6D157979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 на лица персонажей, встречающих Чичиков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- Обратите внимание, сколько раз встречается слово покой? Что это? У Гоголя – мастера русского языка, не может быть неоправданных повторов, значит, и эти не случайны? О каком покое говорится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DB7E-2E03-4EF6-8360-6C655A53AE6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CCED2-1805-4CA5-9350-F42735EEEA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4. Итог урока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рнемся к эпиграфу нашего урок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ожете ли вы теперь объяснить смысл этих слов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.В. Гоголь действительно мастер художественного слова, который так умело и точно подбирает каждое слово. Иногда мелкая деталь красноречивее пространного описания или развернутой характеристики. Именно такая манера и заставляет вдумчиво читать и размышлять над страницами Н. В. Гого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CFA7-2CFB-4FB0-A1B6-43C315D922F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CEBF-02EC-4821-8146-3CB89434AE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Домашнее задание: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в, на ваш взгляд, смысл заглавия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читать II главу и подготовить сообщение о Манилове (первые впечатления, внешность, манера поведения и речь, отношение к хозяйству, к окружающим, любимые занятия, жизненные цели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8898-D099-495E-87C9-D75E3CBC8CB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C81D-91E7-4D6E-872C-383D3084832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Задания к лекции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айдите  ответы на предложенные вопросы, выводы запишите  в тетрадь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B7A0-F7A1-4044-8701-D9E9A76B9C4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DE2E-FDB1-4323-85B2-9F0DCF99B4D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Какую цель ставил перед собой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256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Еще с лицейской поры думал Н.В. Гоголь о службе на благо России. Он искренне и беззаветно любил ее и писал, что молится о спасении Русской зем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остойный сын своего Отечества и истинный христианин, Гоголь не только верил, что Россия — страна истинно христианская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Дружно докажем всему свету, что в русской земле все, что ни есть, от мала до велика, стремится служить Тому же, Кому все должно служить на земле, несется туда же, кверху, к Верховной вечной красоте», но и вдохновенно призывал к служению Росси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Нет выше звания, как монашеское, — писал он. — Монастырь Ваш — Россия. Облеките же себя умственно рясой чернеца и всего себя умертвите для себя, а не для нее, ступайте подвизаться в ней...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33A6-094B-4DCD-B52E-24C71E6B014C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6612-A6C1-4559-906A-735B996BF0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В чем видел свой долг Н.В.Гоголь?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сатель видел смысл собственного служения России в великой ответственности за каждое свое слово, ибо именно оно «есть высший подарок Бога человеку», то орудие, с помощью которого художник «призван все в мире исправлять к добру»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все произведения, созданные им в первый период творчества, кажутся Гоголю лишь «давнею тетрадью ученика», и он восклицает: «Пора, пора, наконец, заняться делом» (письмо В.А.Жуковскому, 28 июня 1836 года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это дело —работа над «Мертвыми душами», поэмой, на которую автор возлагал большие надежды. «Какой огромный, какой оригинальный сюжет! — писал он. — Вся Русь явится в нем!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BF53-6C60-465C-993D-FC09B561BD8E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DD5F-3EC0-47A8-8D42-CB12B14A4B2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А.С.Пушкин отдал сюжет своего произведения Н.В.Гоголю?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з письма Н.В.Гоголя  А.С.Пушкину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делайте милость, дайте какой-нибудь смешной или не смешной, но русский анекдот. Рука дрожит написать тем временем комедию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56F33-1EA6-4C94-B81B-7ACFE49818E5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C2D7-E7B6-4F91-87FC-AA5B7930724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-360" y="-8640"/>
            <a:ext cx="80802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33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2819520" y="914400"/>
            <a:ext cx="6324480" cy="55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«Авторской исповеди» Гоголя (написана в 1847 году, напечатана в 1855 г.) читаем: «Он (Пушкин) уже давно склонял меня приняться за большое сочинение и наконец, один раз, после того, как я ему прочел одно небольшое изображение небольшой сцены, но которое, однако же, поразило его больше всего мной прежде читанного, он мне сказал: «Как с этой способностью угадывать человека и несколькими чертами выставлять его вдруг всего, как живого, с этой способностью не приняться за большое сочинение! Это просто грех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след за этим начал он представлять мне слабое мое сложение, мои недуги, которые могут прекратить мою жизнь рано; привел мне в пример Сервантеса, который, хотя и написал несколько очень замечательных и хороших повестей, но, если бы не принялся за Донкишота, никогда бы не занял того места, которое занимает теперь между писателями, и, в заключенье всего отдал мне свой собственный сюжет, из которого он хотел сделать сам что-то в роде поэмы и которого, по словам его, он бы не отдал никому»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4" name="Picture 4" descr="Пушкин"/>
          <p:cNvPicPr/>
          <p:nvPr/>
        </p:nvPicPr>
        <p:blipFill>
          <a:blip r:embed="rId1"/>
          <a:stretch/>
        </p:blipFill>
        <p:spPr>
          <a:xfrm>
            <a:off x="0" y="990720"/>
            <a:ext cx="2473200" cy="3057480"/>
          </a:xfrm>
          <a:prstGeom prst="rect">
            <a:avLst/>
          </a:prstGeom>
          <a:ln w="9360">
            <a:solidFill>
              <a:srgbClr val="003399"/>
            </a:solidFill>
            <a:miter/>
          </a:ln>
        </p:spPr>
      </p:pic>
      <p:sp>
        <p:nvSpPr>
          <p:cNvPr id="565" name="WordArt 8"/>
          <p:cNvSpPr txBox="1"/>
          <p:nvPr/>
        </p:nvSpPr>
        <p:spPr>
          <a:xfrm>
            <a:off x="762120" y="0"/>
            <a:ext cx="5076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мысел произведен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Дата 1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7456-F125-4450-AE6A-F7E1B8196F99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EE1C-64DD-4F62-A393-8BA833DA538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28195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Гоголь последовал совету Пушкина, быстро принялся за работу и в письме от 7 октября 1835 года извещал его: «Начал писать «Мёртвых душ». Сюжет раскинулся на предлинный роман и, кажется, будто сильно смешон... Мне хочется в этом романе показать хотя бы с одного боку всю Русь»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9" name="Picture 8" descr="Ромашки"/>
          <p:cNvPicPr/>
          <p:nvPr/>
        </p:nvPicPr>
        <p:blipFill>
          <a:blip r:embed="rId1"/>
          <a:stretch/>
        </p:blipFill>
        <p:spPr>
          <a:xfrm>
            <a:off x="152280" y="2743200"/>
            <a:ext cx="8991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Дата 3"/>
          <p:cNvSpPr/>
          <p:nvPr/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4855-5763-4F91-904F-79372A0B4E1F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Номер слайда 5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0" bIns="0" anchor="b">
            <a:noAutofit/>
          </a:bodyPr>
          <a:p>
            <a:pPr lvl="1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89B0A-29FE-4BB7-8A06-87C63B9210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Каков замысел произведения?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ного позднее, в письме к Жуковскому 1848 года, Гоголь пояснял замысел своего творения: «Уже давно занимала меня мысль большого сочиненья, в котором бы предстало все, что ни есть и хорошего и дурного в русском человеке, и обнаружилось бы пред нами видней свойство нашей русской природы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енис</dc:creator>
  <dc:description/>
  <dc:language>en-US</dc:language>
  <cp:lastModifiedBy>Admin</cp:lastModifiedBy>
  <dcterms:modified xsi:type="dcterms:W3CDTF">2010-02-18T20:29:09Z</dcterms:modified>
  <cp:revision>11</cp:revision>
  <dc:subject/>
  <dc:title>Н.В.Гоголь «Мертвые души» - история созда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