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B274-21E4-41D9-ABA8-80E1235365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40CF-C14D-47FF-B67A-789E04F1071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F728-BBFD-4C46-B19E-BBC042C89BF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B5B4-00BC-4D21-ADCB-9CFBCAD7C0E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E1FB-CB98-4EBB-A5C0-8A1365FC4EF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AB5C-EF3D-45B7-BF07-3AC015A0928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5F34-0452-43D9-8021-556396E1749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2414-EE09-4847-A7E8-F6FBFB0C006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F227-2D8D-4A03-8014-7683B52AD29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B4CF-ACA4-428D-9858-0069533E2E4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4AA1-6BDA-49BF-AAD9-44083817AA8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7A89-7AE7-40FE-B9AF-F3BEF7554CC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0B56-11F9-4319-AE24-826923244A5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3907-06D5-4110-8B4D-93E698EBD65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BFB5-2B31-4FE6-A255-573120B8105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ABDE-AFEF-42BC-9EA2-C7388E142CA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3DA4-D941-4ACB-9E42-4A8F61F0E08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5546-83C1-4349-929A-09E33566B8F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B5BB-F079-4835-A1BB-A7E3C01E116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B945-720D-430F-8DF8-C4CE18B2EC5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1F22-5E72-4916-AE9D-77BCD80F84F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14D0-28EB-42C3-A914-8D362DA6901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68BB-8DE3-45C2-8FC3-2AB06B3EC39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01C3-C783-4784-BC19-D3F6F04D07D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F56B-F142-4E3D-BEAE-AD480216686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458A-E411-4566-8F2C-69A5BF6C98C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66BE-C1F1-47F0-BE82-B28889B95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B4B9-2322-4C16-965F-3F0404A9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F91B7E-6859-4F43-8C2F-8EF9C52D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C0D169-A687-4078-B13B-359CD56A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1D34C-59E8-43F1-9E8F-6275F38E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A9C9C6-2799-4956-863F-5D310A9D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9E971F-C46C-4DEE-BEEF-7F0F7258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C41B84-F29E-4286-8453-C04259E9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BA970-D572-4F73-839E-39E83EE6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131258-2C95-4EAB-A3FE-F84016801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A95DC5-BC81-4E0D-8822-372618725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71831E-1061-4E3A-8AD9-E65258271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11E7-ED71-481A-9744-13E779B5F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B2968D-2A6B-4A22-B396-C27A3DCA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60432A-B62C-4DD8-AF03-30F191B0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F10ADA-10CC-43A6-82B0-84C9A2B9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079A5C-C878-4E77-96FF-C02D5622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F2AF21-82B0-439A-AFB8-FEC09785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D99BD2-16AA-4295-AFB9-630FBA83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01EF6B-BC92-4FB4-8187-DB6AAC65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3E4AAD-D68C-40D0-B6B7-CBF4AAAE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53AE1E-3839-433A-95E6-F21F6DFE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0B8953-21FA-422A-8181-C1D31DD48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81DC-4BE0-422D-A53D-49838E205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6837D4-C190-4C48-9D23-9DE30F6A2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DC6DC-6A2C-437D-A4A4-08EA72167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A0DD5-5BF9-4D60-84DD-E20F24AE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2DC64-6AAE-4A37-B077-D7F4B86C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6E203-9317-47BC-ACE7-7AA8F31B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5987B-FFFB-41AC-84C5-9252687C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45770F-8915-4BB7-9A50-DCD82930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8E473-B0A8-4F81-A820-71BEE6C6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6C8E0-5A67-484C-9072-06EBBCE6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66D95-AB01-42A7-A999-3951CC55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6F2C-609E-4718-9A77-E5154D13B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7ECB21-7001-437A-8703-0C50FD20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FEC33-24E8-49ED-872C-3EEA122D7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90BAE-7098-44F7-BF6A-A3BD0F75C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0B1864-1CA2-49F2-8C07-1350F6D49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60956F-07D4-4426-8409-5BE9377E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976E90-4DB3-469A-BD9A-118C7145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FF008A-1B97-4CA5-AC8C-ED5283DC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491DF0-982F-4632-8051-3F11A461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6372C3-E432-4C32-8BDD-4267DA18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7E3AFB-5B01-47F7-B1D1-2C3F2695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7D15-C7A3-4595-A099-CE7DA26B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1E87F3-8D6B-4BA9-9F2B-36C0FF5B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6995DF-2870-45A3-9E41-FC97E7E8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604856-D898-491E-BA9E-7BB078E3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D9993A-63C3-47E9-85DF-BD2ED17B9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B0EFBD-91C5-49E0-A75B-99EE9978C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84FF1-7995-414D-9664-6F3B2BE5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BB5C-E362-4E27-9297-90BA4CB6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D7B67-71F3-4A0E-8755-7FF8F8CC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5E996-1286-44B3-80EB-4B1AD32F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F25A-6C76-48B6-A932-2461E28E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6AED-9119-45E3-90D0-B79E5F24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66DAF-381F-4730-AB20-76A13AF7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74555-CE48-466C-B0A8-E038108B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9F67-9F7D-400F-9D46-54468E04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E6B8-42A4-47A5-8ECB-9E6C0A75B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04BC-14E5-4A42-A4B2-2DB406651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55E9E-67D5-4A90-A292-E9B5E581E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3E96B-6F64-413A-9C99-77FE4215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0D315-7444-4115-B07F-15A20C09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61328-63F7-4E00-B3D9-E6482AFA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A4225-2B5C-48F7-8D6B-5857BEED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9253-3CBF-424F-A1A7-5BF91956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072E3-6F87-431D-852F-5B4FC747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291CF-E0BE-49CF-BFAE-D8E11B41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70CE2-8856-44B2-9404-3EB2FBCB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50F5B-7B4E-4C78-8C33-1F0DA4BC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C262D-C95B-4E35-80A2-78AE98AF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D23CA-F206-4FB3-A662-5D17FBD38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A8F93-06B1-45CD-99B9-11E560DE1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F2A0D-2E30-4073-A6AB-677EAB933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0D0B0-C87A-4A9B-85AE-29589EF1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06DB9-62DF-4BB0-ADAF-B65B008B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D9BF-1A64-4264-8208-C4C09EDB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FC51D-114D-4F01-84E8-F961173F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DCD94-6A3C-4D13-9347-AF5897E1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4CB7F-A26C-4F55-8D24-A800034C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D3D96-B5B7-4165-BB02-F24E11BD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C6917-99A8-4947-BE91-317789A4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8CF09-3A2B-4836-B3FB-CEC54A8B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82AE4-5AC3-4E92-9262-49B3F35F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D5D41-1597-4F9C-816E-AFF28EDEE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1BBFC-DFF2-4901-951F-D63DFF73F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32F65-5126-441E-814F-C1DF62008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207A-5691-4036-9D42-D7CADFA1E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FF1A8-089E-48F9-8745-18430DE4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6FFB3-C58B-4D3E-8E7F-F0E2EF58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4231A-4C34-42AF-AB4F-50044B3A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62655-9569-4BCA-A43C-9A1AF0DA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FA425-CE46-45AB-A998-9CDAB13E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81234-C22F-4977-B003-9D52D092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E93CB-77BE-46D8-AD27-6975CD06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C4BD5-AC6E-44C4-BB81-66C4537F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CA25D-71C7-450E-B3F0-129E98E5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F8076-6419-4DCC-B114-D4CC3F54F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7383-3393-4FBD-9FF0-0D114989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4D81B-0742-4C78-A3C7-35FCC866A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2A48C-33CB-40BF-9A08-3607873F4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648B2-76EA-43A3-B45D-8216E2A3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93DCB-12BB-4875-9679-DFE9AFA4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4BAE1-1638-4A84-B1CB-16C1D5B0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C9181-D93E-460B-B403-DCBEEC77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6D7DA-DAAC-45A6-A5AA-CEDE4EFA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7EB4D-D912-42E0-8C82-DB655CB0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2166D-6F3C-4A76-BC6E-46028FC8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8AD0F-FA48-4371-9EC6-6EEA28F3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0C27-5390-488C-8D29-7475D4D8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A389B-B6D0-4D3C-AADC-ED0A8DE2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B3E2C-E66A-4786-A763-7B74AA3A3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5558F-8603-470D-AF83-74B173C7C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9DA64-A46D-4445-BA3A-F74535D40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1FC57-E4FB-4577-9AD0-5FA1B21C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B7E1F-8EF3-4165-AD2F-93B90F43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8C9BC-42DA-4324-8F57-FF962B0C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3341F-9135-456C-B343-3D123ED4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52BFF-5D7B-4112-A7A9-D7DE4B15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13A01-FAC9-4A81-9BE1-DECFACCB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F133-A945-4530-B094-27118C6C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59A7D-03A3-423D-A805-9722253E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D88AB-69A0-4D9B-AEA9-CD45679D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142B2-53E7-401D-9B38-94ED4C120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0244A-D5DE-43B6-B9E2-83F0133E4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22812-A343-4BE8-80A4-58778614F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C1006-6A2C-4701-AA1E-BB8238E46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39400-AC73-4DA8-93D1-AAAA32AB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F19F9-1449-43C9-A9FF-4F63E9CD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5223F-CF97-4762-8E20-3A56ED97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F5C9E-62C5-482E-AFB2-C5191E6F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3931-602F-423E-A88E-F7495CE1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92520-783B-427E-84B0-01AAB9FC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88675-6576-4147-86FB-632DFAD4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14969-8E30-44AA-8284-FE417B26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1D4DA-1CAA-4B33-8F09-8775CBDA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01D56-CAD3-427F-947B-F00BFD46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BE711-2337-483A-B76A-6FDF8D830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9C772-645A-4988-A218-1109974EF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30676-F9A4-4559-A0F4-A02C39B8D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5CCFE-8328-4C65-805B-004DE4CC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9139CE-649A-4EC9-8656-01ED8FCB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5F37-2EB5-4D62-9092-B2FC341C0A2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ABE2-2F74-41DB-863F-730F57494F5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9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2406-8F45-47B3-A3A5-E15E18A9E9D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30E0-7DA1-4FB2-A2F4-DE2983B6AE4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4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239E-26CB-4B84-B70A-EBD7ACE4C49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CAC1-C1EF-487B-9309-C67597635C7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8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599F-C295-4C8F-9C5E-9F76BC592C8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76BE-C8FB-4963-A929-E007DF2532A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0AF5-84DF-4DEA-9560-E691543A20F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C8E3-7050-4405-A129-6965866EDD0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C09A-D0CF-4223-A073-0BCD867AD279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E86D-DFDA-4029-A6B7-22F0601121E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3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F2A1-AE88-4624-BF70-E9C2883E85E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1EC0-3B35-4556-9B66-9DFD434BD27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7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01D4-DF2F-4B93-8AD1-DB51ABD3965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A272-9359-4328-A423-3B0F381F301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2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728B-8DD9-4018-B30A-42825379E5D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9059-7D58-44A4-9997-638EB8A2C58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6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84C7-51C4-44B3-A88C-60B198387A5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75BB-6DD5-48D9-AF54-6B2536EFDA7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0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EA1D-7071-4276-8922-B9BEABBD9D9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AEB6-671D-4A12-B08D-EA1C47D9354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5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70A2-5580-4FE7-84E5-5B3729C4B80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1631-2992-4431-8619-F45560D66A8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DF8D-C158-4C32-AD6D-2552BC5BA2F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BACA-89E8-45EE-9270-D67E4C21D07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Н.В.Гоголь «Мертвые души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Тема урока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История создания, особенности жанра, композиции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мысл заглав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9" name="Picture 4" descr="2"/>
          <p:cNvPicPr/>
          <p:nvPr/>
        </p:nvPicPr>
        <p:blipFill>
          <a:blip r:embed="rId1"/>
          <a:stretch/>
        </p:blipFill>
        <p:spPr>
          <a:xfrm>
            <a:off x="0" y="2057400"/>
            <a:ext cx="34671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4077-A875-437C-A2F8-B87EF95742F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B483-45A8-4C38-B547-9E454948B76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очему Н.В.Гоголь сжег второй том «Мертвых душ»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процессе работы Гоголь замыслил дать уже не один, а три тома, в которых можно было бы показать Русь уже не «с одного боку», а всесторонне. Второй и третий тома «Мёртвых душ» должны были, по мысли автора, наряду с отрицательными вывести и положительных героев и показать нравственное возрождение «подлеца-приобретателя» Чичико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кая широта сюжета и насыщенность произведения лирическими местами, позволяющими писателю многообразно выявлять своё отношение к изображаемому, внушили Гоголю мысль назвать «Мёртвые души» не романом, а поэм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 Гоголь сжёг второй том «Мёртвых душ», а к третьему он и не приступал. Причина неудачи была в том, что Гоголь искал положительных героев в мире «мёртвых душ» — представителей господствовавших в то время общественных слоев, а не в народном, демократическом лагер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D2E5-1FB1-4A24-B515-B53EE62EA0CD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2863-1585-4748-9605-D734D2881B8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99"/>
                </a:solidFill>
                <a:latin typeface="Arial"/>
                <a:ea typeface="Times New Roman"/>
              </a:rPr>
              <a:t>Почему Гоголь не смог найти положительного героя среди господствующих в то время слоев?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7000"/>
          </a:bodyPr>
          <a:p>
            <a:pPr marL="332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елинский  ещё в  1842    году предсказал     неизбежность неудачи Гоголя в осуществлении подобного замысла. «Много, слишком много обещано, так много, что негде и взять того, чем выполнить обещание, потому что того и нет ещё на свете»,— писал о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шедшие до нас главы второго тома «Мёртвых душ» подтверждают справедливость мыслей Белинского. В этих главах есть блестяще написанные образы, родственные помещикам первого тома (Пётр Петрович Петух, Хлобуев и др.), но положительные герои (добродетельный генерал-губернатор, идеальный помещик Костанжогло и откупщик Муразов, «самым безукоризненным путём» наживший свыше сорока миллионов) явно не типичны, жизненно не убедительн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DC59-A26A-409A-BD04-E240A3253BD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9705-4DF1-4D37-A861-8F482E55A69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6699"/>
                </a:solidFill>
                <a:latin typeface="Arial"/>
              </a:rPr>
              <a:t>Что представляет собой композиция поэмы?</a:t>
            </a:r>
            <a:endParaRPr b="0" lang="en-US" sz="3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Замысел «изъездить вместе с героем всю Русь и вывести множество самых разнообразных характеров» предопределил композицию поэмы. Она построена как история похождений «приобретателя» Чичикова, покупающего мёртвые фактически, но живые юридически, т. е. не вычеркнутые из ревизских списков, души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Центральное место в первом томе занимают пять помещиков  «портретных» глав (со второй по шестую).  Эти главы, построенные по одинаковому плану, показывают, как на почве крепостничества складывались разные типы крепостников и как крепостное право в 20—30-х годах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XIX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века, в   связи с ростом капиталистических сил, приводило помещичий класс к экономическому и моральному упадку.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F209-696A-4CE6-8F82-FF8DAC6E8DE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B8ED-1701-4768-AA38-42CCE36C3C4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6699"/>
                </a:solidFill>
                <a:latin typeface="Arial"/>
              </a:rPr>
              <a:t>Гоголь даёт главы в определённом порядке</a:t>
            </a:r>
            <a:r>
              <a:rPr b="0" lang="ru-RU" sz="2100" spc="-1" strike="noStrike">
                <a:solidFill>
                  <a:srgbClr val="003399"/>
                </a:solidFill>
                <a:latin typeface="Arial"/>
              </a:rPr>
              <a:t>. </a:t>
            </a:r>
            <a:br>
              <a:rPr sz="2100"/>
            </a:br>
            <a:endParaRPr b="0" lang="en-US" sz="21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Бесхозяйственного помещика Манилова 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I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лава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меняет мелочная скопидомка Коробоч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II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лава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безалаберного прожигателя жизни Ноздрёв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V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лава)—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ижимистый Собакевич 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V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лава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Завершает эту галерею помещиков Плюшкин —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кряга, доведший своё имение и крестьян д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лного разоре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5F9D-C1C9-4272-8DEA-60F204B89E53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D71D-C60D-4A24-8059-9506573D930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эма превращается в гениальное обличение крепостничества как такого социально-экономического строя, который закономерно порождает культурную и экономическую отсталость страны, морально разлагает тот класс, который являлся в то время вершителем судеб государств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Каков идейный замысел поэмы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Дата 1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88CC-6242-4CF7-A4D1-45C00AD017D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Номер слайда 3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67A0-08CD-45A8-A657-0107C3DE191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Какими были отзывы критиков на выход поэмы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круг первого тома сразу же разгорелись жаркие споры. Вопрос о книге Гоголя, по словам Белинского, был «столько же литературным, сколько и общественным». «Между восторгом и ожесточенной ненавистью к «Мертвым душам» середины решительно нет...», — писал Прокопович Гоголю в октябре 1842 года. Одни обвиняли автора в клевете на Россию, другие, напротив, увидели в поэме апофеоз Рус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ADB8-972A-4230-998A-9153E102523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4F8D-B382-47E8-AAD7-AD90DCD165F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акими были отзывы критиков на выход поэмы?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15004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выход «Мертвых душ» не замедлили откликнуться и журналы. Наиболее подробные и интересные разборы дали Шевырев в «Москвитянине» и Плетнев в «Современнике» — как раз те критики, которые ближе других стояли к Гоголю и более чем кто-либо были посвящены в его замыслы. Так, Плетнев писал, что «на книгу Гоголя нельзя иначе смотреть, как только на вступление к великой идее о жизни человека, увлекаемого страстями жалкими, но неотступно действующими в мелком кругу общества». Замечание Шевырева о «неполноте комического взгляда, берущего только вполобхвата предмет», особенно понравилось Гогол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0CE2-38B8-47A5-A283-848295F2FE4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49A5-B03A-4E9A-8AD0-4C8480D55BA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акими были отзывы критиков на выход поэмы?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том же 1842 году в Москве вышла брошюра Константина Сергеевича Аксакова "Несколько слов о поэме Гоголя: «Похождения Чичикова, или Мертвые души»", в которой он сравнивал Гоголя с Гомером, находя у них общий взгляд на мир — «всеобъемлющее эпическое созерцание». По мысли критика, поэма Гоголя возрождала в русской литературе традиции гоме­ровского эпоса. «Уж не тайна ли русской жизни лежит, заклю­ченная в ней, не выговорится ли она здесь художественно?» — вопрошал Аксаков, разумея всю поэму в цел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C0E0-48C0-439B-BD34-0FC866643EA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9844C-F422-41EC-A8F0-0F23A819493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акими были отзывы критиков на выход поэмы?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 всякое глубокое создание, «Мертвые души» не раскрываются вполне с первого чтения даже для людей мыслящих, — писал Белинский, — читая их во второй раз, точно читаешь новое, никогда не виданное произведение"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нако именно Белинскому принадлежит определение поэмы, как «творения чисто русского, национального, выхваченного из тайника народной жизни &lt;...&gt; дышащего страстною, нервистою, кровною любовью к плодовитому зерну русской жизни», и Гоголя как «русского национального поэта во всем пространстве этого слова». Одним из первых критик подчеркнул и важнейшую особенность творчества Гоголя — его исключительную оригинальность и самобытность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7E5B-3F05-4AE6-93CE-265AD83F799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2072-5817-4738-AF24-83F1469AC8F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АНАЛИЗ 1 ГЛАВ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сего и надо, что вчитаться, - боже мой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сего и дела, что помедлить над строкою -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пролистнуть нетерпеливою рукою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 задержаться, прочитать и перечесть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Ю. Левитанск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F856-462A-4862-BEE4-D4640D4CB72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FC6C-0A1E-45A3-A96F-58EA2AC6713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своих произведениях Н.В. Гоголь предстает перед нами не только как замечательный писатель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Старайтесь лучше видеть во мне христианина и человека, чем литератора», —призывал о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3530-5941-4989-B68D-85F05AE0FFB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BFD5-1611-45C6-A480-CDF1CF0C4E7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Попробуем и мы разобраться, каков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начение первых строк поэмы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. В. Гоголя «Мертвые души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На уроке перед нами стоит непростая задача – проанализировать не только смысловой аспект, но художественные особенности языка представленного отрыв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10F1-471F-46C1-9355-3C13CF36560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8DBA-7113-4EF0-B14F-2FA1823787F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Чтение 1 главы поэм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ше знакомство с Чичиковым происходит в губернском городе NN. Тихо и незаметно его бричка на мягких рессорах подкатила к воротам гостиниц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Найдите, как встретил город приезд Чичикова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ED7D-F743-4F18-8DDB-6A31E62DF78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13BE-1E57-470A-A220-2021552BF45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акая часть речи указывает на отношение жителей города NN к приезду господина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наблюдайте над художественными особенностями портрета этого господин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акой деталью подчеркивает Гоголь безразличие к приезду некоего господина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 обратив ни малейшего внимания на Чичикова, на чем сосредоточились мужики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лучайно ли столь частое употребление слов « доедет, не доедет"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D142-9177-47CE-A8C6-561A979B76E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13CA-A859-4332-8AFC-BAFF6045F39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Обратите внимание на лица персонажей, встречающих Чичиков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Обратите внимание, сколько раз встречается слово покой? Что это? У Гоголя – мастера русского языка, не может быть неоправданных повторов, значит, и эти не случайны? О каком покое говорится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C7B8-24C3-48B1-B3CE-4476A9B3E73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E651-A636-403F-B45A-BCF89729ACE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4. Итог урока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рнемся к эпиграфу нашего урока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можете ли вы теперь объяснить смысл этих слов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.В. Гоголь действительно мастер художественного слова, который так умело и точно подбирает каждое слово. Иногда мелкая деталь красноречивее пространного описания или развернутой характеристики. Именно такая манера и заставляет вдумчиво читать и размышлять над страницами Н. В. Гогол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A586-6CDF-47EA-A896-9973FB3E25F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1071-8D8C-4B42-94B7-2B9632662B5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Домашнее задание: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ов, на ваш взгляд, смысл заглавия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читать II главу и подготовить сообщение о Манилове (первые впечатления, внешность, манера поведения и речь, отношение к хозяйству, к окружающим, любимые занятия, жизненные цели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8E87-C84A-4607-B7BE-4E5E300EAD50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846F-DCF0-4BDA-A212-BE4B197985C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Задания к лекци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Найдите  ответы на предложенные вопросы, выводы запишите  в тетрадь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9E83-F030-4322-A76A-F1A78587AE8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41AC-B548-4AC3-8103-464F19CDDA0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акую цель ставил перед собой Н.В.Гоголь?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256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ще с лицейской поры думал Н.В. Гоголь о службе на благо России. Он искренне и беззаветно любил ее и писал, что молится о спасении Русской земл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стойный сын своего Отечества и истинный христианин, Гоголь не только верил, что Россия — страна истинно христианска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Дружно докажем всему свету, что в русской земле все, что ни есть, от мала до велика, стремится служить Тому же, Кому все должно служить на земле, несется туда же, кверху, к Верховной вечной красоте», но и вдохновенно призывал к служению Росс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Нет выше звания, как монашеское, — писал он. — Монастырь Ваш — Россия. Облеките же себя умственно рясой чернеца и всего себя умертвите для себя, а не для нее, ступайте подвизаться в ней...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CA3B-DE03-400C-9B5F-DFD6E5381BE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B030-0D75-41C6-A7F7-D075ADB743B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В чем видел свой долг Н.В.Гоголь?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исатель видел смысл собственного служения России в великой ответственности за каждое свое слово, ибо именно оно «есть высший подарок Бога человеку», то орудие, с помощью которого художник «призван все в мире исправлять к добру»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 все произведения, созданные им в первый период творчества, кажутся Гоголю лишь «давнею тетрадью ученика», и он восклицает: «Пора, пора, наконец, заняться делом» (письмо В.А.Жуковскому, 28 июня 1836 года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это дело —работа над «Мертвыми душами», поэмой, на которую автор возлагал большие надежды. «Какой огромный, какой оригинальный сюжет! — писал он. — Вся Русь явится в нем!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0344-13CF-49FA-8D47-2387AE34B46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C768-7BB8-45DA-864D-8290DC44EB9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очему А.С.Пушкин отдал сюжет своего произведения Н.В.Гоголю?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 письма Н.В.Гоголя  А.С.Пушкину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Сделайте милость, дайте какой-нибудь смешной или не смешной, но русский анекдот. Рука дрожит написать тем временем комедию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Дата 1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E963-7632-4F13-8CD7-D8BF92868E9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Номер слайда 3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46DC-26C5-4D30-A439-0338EAA2BF3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-360" y="-8640"/>
            <a:ext cx="80802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819520" y="914400"/>
            <a:ext cx="6324480" cy="55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«Авторской исповеди» Гоголя (написана в 1847 году, напечатана в 1855 г.) читаем: «Он (Пушкин) уже давно склонял меня приняться за большое сочинение и наконец, один раз, после того, как я ему прочел одно небольшое изображение небольшой сцены, но которое, однако же, поразило его больше всего мной прежде читанного, он мне сказал: «Как с этой способностью угадывать человека и несколькими чертами выставлять его вдруг всего, как живого, с этой способностью не приняться за большое сочинение! Это просто грех!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след за этим начал он представлять мне слабое мое сложение, мои недуги, которые могут прекратить мою жизнь рано; привел мне в пример Сервантеса, который, хотя и написал несколько очень замечательных и хороших повестей, но, если бы не принялся за Донкишота, никогда бы не занял того места, которое занимает теперь между писателями, и, в заключенье всего отдал мне свой собственный сюжет, из которого он хотел сделать сам что-то в роде поэмы и которого, по словам его, он бы не отдал никому»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4" name="Picture 4" descr="Пушкин"/>
          <p:cNvPicPr/>
          <p:nvPr/>
        </p:nvPicPr>
        <p:blipFill>
          <a:blip r:embed="rId1"/>
          <a:stretch/>
        </p:blipFill>
        <p:spPr>
          <a:xfrm>
            <a:off x="0" y="990720"/>
            <a:ext cx="2473200" cy="305748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565" name="WordArt 8"/>
          <p:cNvSpPr txBox="1"/>
          <p:nvPr/>
        </p:nvSpPr>
        <p:spPr>
          <a:xfrm>
            <a:off x="762120" y="0"/>
            <a:ext cx="5076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мысел произведени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Дата 1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E191-58F1-4862-8706-0052549FCA4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Номер слайда 3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6666-65CE-4297-AFBC-8A326281709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0" y="0"/>
            <a:ext cx="8763120" cy="2819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оголь последовал совету Пушкина, быстро принялся за работу и в письме от 7 октября 1835 года извещал его: «Начал писать «Мёртвых душ». Сюжет раскинулся на предлинный роман и, кажется, будто сильно смешон... Мне хочется в этом романе показать хотя бы с одного боку всю Русь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9" name="Picture 8" descr="Ромашки"/>
          <p:cNvPicPr/>
          <p:nvPr/>
        </p:nvPicPr>
        <p:blipFill>
          <a:blip r:embed="rId1"/>
          <a:stretch/>
        </p:blipFill>
        <p:spPr>
          <a:xfrm>
            <a:off x="152280" y="2743200"/>
            <a:ext cx="8991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3271-9233-4037-8647-0AD1EFD6CFC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5DFD-B257-44AD-8526-0D6B76942B3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Каков замысел произведения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ного позднее, в письме к Жуковскому 1848 года, Гоголь пояснял замысел своего творения: «Уже давно занимала меня мысль большого сочиненья, в котором бы предстало все, что ни есть и хорошего и дурного в русском человеке, и обнаружилось бы пред нами видней свойство нашей русской природы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енис</dc:creator>
  <dc:description/>
  <dc:language>en-US</dc:language>
  <cp:lastModifiedBy>Admin</cp:lastModifiedBy>
  <dcterms:modified xsi:type="dcterms:W3CDTF">2010-02-18T20:29:09Z</dcterms:modified>
  <cp:revision>11</cp:revision>
  <dc:subject/>
  <dc:title>Н.В.Гоголь «Мертвые души» - история созда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