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4055-2497-4E55-8D58-D187E727CB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DBAF-6F47-4AD2-BCB8-5A2AA33C1A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10EA-9E29-4F92-A7E5-B9BEF55246B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B120-ADAD-49E5-B668-1F35DE8AA2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47C5-06D4-4097-B159-E9880AC3F6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F8DF-751F-47B8-9ADB-8777B5C2D0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FB5D-A05C-4418-AA39-4EA5582B65C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CF9B-9E13-4A91-BFEA-DD77514311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C603-53D8-4F68-83C4-352E0B50EFB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1246-A020-4F4B-9AC6-2A6B64135F0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4397-63CF-4671-AEA9-B087CD6AF7F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71B0-FE91-476A-8F74-18D3B71BF8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12D5-3BE4-486D-B0DE-4CA78ABF68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BC70-4ED3-44C3-9551-24FD0A1F81A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7E80-FBE0-4251-B4DD-9833DCB3CCB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2AB1-917B-42A0-8657-8E89FEF474B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0B51-9702-4B8E-9038-2FD878E521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3F1E-A49B-47A3-A073-98119BFE2A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347C-C18A-4992-B7F2-BCE09DC2AE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EE04-4C74-4E64-BBD0-5E6E3AF951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FC68-1B53-4757-8D09-2CD7A312BFB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BCAB-DC24-4DE2-8686-98D72F7011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4772-9C73-4577-B9DC-E52DD3C392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20B1-DCB3-46C8-84F6-143698B5861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8B88-B627-4E34-8EF6-13C3D8B3876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5E50-FBA5-409A-A155-C3EC623AAE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690-AA08-4F51-AD21-9EB9B3E7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0A9-2C51-477D-905D-1ABE940A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3928F-CA2A-42C9-8959-5F2B4D79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54C30-5A9A-4CC3-ADD6-4240EDCD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3A179-26E4-4D40-9521-868351F3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E2061-2C86-4EC1-9968-D6631515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B76C2-AD7D-41B9-AE16-78621E37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5711C-C5D9-4CA4-800A-687D7E58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98769-70A4-44D0-9C5C-4B068CE1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ECFEC-7A9E-4F61-BD0C-5B0DB643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727BF-030A-4E39-B4DA-4F0DF07A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D4DDC-FD1F-43D4-90F6-0A9FDBC7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286-0AE5-4A83-9EFE-DB47DC68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064B5-B046-448D-A60F-656EB8A8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84C84-095F-44A6-822D-5A3D2DFC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2432C-2C4E-4DE5-B430-96F0C75D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B94DD-77C6-41EF-A2FA-20D63F65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D92B6-95F5-4FCE-866D-3933408D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ACF9A-5D15-4996-865A-AFACFE14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C79CD-637B-4700-ABBC-B69D23DB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93FDA-4120-4518-BF39-FCB21FCE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06389-F460-4109-B521-97FFE10D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0D19C-B5EC-4107-801D-F247841C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692-D7DF-4468-BBC3-263674EA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B3DB1-211D-4CF8-A155-AB0EE4BA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4899C-C56A-4E37-9117-A895CD9F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7097C-6018-40E1-A5F0-EB65DBFB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5C5D8-1604-461D-8066-74C25290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B2AB4-7908-41B0-A908-B25F41F4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03C33-0AF8-49FF-BA5D-DCD9535F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AD105-925A-4A71-890E-A335CED8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DE407-1884-4A69-83EA-A4DE39F3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59AE5-293F-4D7F-BA66-285A2B07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BA09A-99F5-4209-9081-35FE0B46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130E-D104-4CCE-AF8D-D76DDBC4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1E54A-6AEE-4988-97A2-B5E0CDAF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1193C-31EE-4D93-A1A0-1390C18D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36882-F3D3-4E57-80B2-09C5DA1A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40FEF-420D-49CD-AED3-AE77D6EA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A7A7E-F363-4BE5-9502-553A2252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73450-D024-432F-A4EA-6F501044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C2D40-0CAF-48E1-ADB7-6705CDF8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6B25E-2FA5-4787-BD5F-9A869DAD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02745-FFDE-4544-BE4C-F0EAA1E5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272E3-914D-425E-8FF1-37D725D9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03C0-4F58-411E-B39D-BB762071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C20AC-3746-4606-B684-F2D83DD2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55962-073F-418B-ABD2-17EB2717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13BCA-A110-4C33-BAB6-E00119DC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84A87-7C20-4B34-B3EC-BE712249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925B1-C7B9-4826-AA04-418AE8D1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9CEA-58B8-4034-B97D-271D8747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6E96-2737-47A4-A343-4DB75405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CF30-3EF5-4BB3-A670-3E55A03A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0ABF-9EDE-4844-B02E-67E8C137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3B1C-ADD4-4F8E-B657-C06C800F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49A-245F-41B3-9C1F-3F71416F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43D4-9CB6-4F17-A3F8-471B46EA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A373-48B8-4940-BFC2-54559DE4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B0C1-C9A6-4A6A-A86B-C1CE8C87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4828-5AEB-431E-AEDC-82DEC219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2FCE-EE38-4A18-8CB0-ADB84742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8C4E-7891-480D-BC7F-A9E799A3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4CA80-E535-46F6-8372-DEDB89D4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0D861-89FD-44B6-B879-42725C6B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4C844-82B1-4F3D-8D6B-2D178D72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FACA7-78B9-4090-B77F-99D9205A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7F99-C333-4B91-B23F-25A59F5B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2134C-7149-4D63-9275-D2CAE280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D63AE-84BF-45F0-84BC-5FB26E85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D2136-CF6F-484C-B76F-2E2C90FE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E9F2B-F726-478E-BAEB-FD6A3DB8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26D38-C221-4745-845F-37AEE657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DC1F7-6EE1-40A3-BAEE-B3245026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69586-047E-4C45-9E2E-B8B8E6BE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1543D-C55B-40A4-9909-B7775C06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65CE9-827B-479F-B1DD-96093CDB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BBE80-C8D0-4003-9D11-E3CFAE4F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DD1-445D-46EB-A67A-59213362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364E5-1538-4E43-BF1F-022F6351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FB785-0382-4F2B-BFF9-54DA4F44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F296C-8693-4B6E-B9A9-4DD590A9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2C098-E217-4091-9594-989FCEE1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C4AD9-9D83-4BFA-8E29-0DE79D0D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F031E-8E72-4B03-A51D-80B483C2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FE9AF-6C3A-4C5B-91D6-9567CEAC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ABA69-96FC-44F8-B053-C5D35E96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6E6A6-00F7-4303-ACA8-A09A56CA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AB063-1BD0-4915-908A-4A5E0006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7FE-A1BB-4950-B26E-2D536CCA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D8A32-4450-4080-A525-7872615D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F45BC-9E8A-4429-ADDD-D528AA54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15D50-749E-41FE-82B5-84CCBFFF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3DE8C-6909-4746-8028-18E205A4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78566-DD54-43C0-A0EC-A484B087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67D37-F00A-4297-BA37-8F1203F8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17B19-04AB-40B0-9D05-B61950D4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0B850-B3BE-48A6-82EE-6CC657E1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00864-7585-423D-834C-E1A6E1DD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E7020-4714-42CC-A455-6E80CC8B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508-4A3F-4D62-B06F-9CA7187F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33FCC-D3BB-4652-889F-14951CD2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F9986-6940-4C10-969A-6EB7AAB7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24A68-AF23-4011-BEE5-FB16546F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230B8-14ED-4FE7-B573-E446BED6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AA3EC-7333-42EA-B90D-B49BE65A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193E1-DBE4-4F81-B26E-4FFB9169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35FBA-DE93-4B57-89FA-0BADCF6E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7E675-4710-4184-9638-7D059B0C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29DB4-8716-4146-A747-00ECA586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DCC15-C58B-4CE4-AD71-19EC4093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B00-C605-4A98-94C8-EC8203FA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F43A1-C4E7-4B76-85C0-5D6A6548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44E19-617C-4491-A65A-6EE68AF7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8A6F7-E32E-43B0-94FA-2089FBC8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E2A11-8291-478B-A9BE-9665F481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CDA5C-DEB1-43E8-ADE9-02D9317B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BADA0-0F6E-4712-A736-04E67954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EBC3F-D9C5-4710-A520-3AB567A9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1E7EE-7574-47B5-B4CD-414ABF67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9F596-0C9D-4ADA-B8A1-6F573D17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712D5-D122-4417-8C19-860E406D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5BE-07DB-43A8-84F2-EFDD0D11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F3179-D0AF-4943-AFED-1E8B24F9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7A6FF-E220-4879-880F-F3838E6D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FF658-2AB0-4DBC-992D-AAFEC86F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2C4A6-C898-4CCD-BE1F-B0C2AA6F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97619-29E3-4D87-AF83-49710EDA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3859A-2DEB-4B6D-8F71-ACFF6A7D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37355-829E-4C88-8E53-35BD7B62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5B8C0-57DA-4D23-ACB5-ED910551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19FE5-853B-45ED-A24D-9B21E9B1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2414F-DA6D-4211-B216-891FC4E8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79E-AE69-43B4-879D-D833973E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848CB-BE9B-49A6-AB87-22206DD4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FE4ED-C452-4D50-8268-A8F6F007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2421A-C9A5-4E9D-BADB-CD127B8F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B2E06-08AD-44F6-A5AF-3C987B8C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68B90-56D3-44B0-A8B7-21796C80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49DC3-8319-4B4A-B7FC-5EB00F1F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36445-2133-4DA5-A520-6C297009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145B9-A396-40C2-87C1-88C5624B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37E1D-CBF7-460D-849A-CA2DA912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23697-01D4-4022-8BA9-EC4F7FFA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2C5C-8E8D-4648-B5BD-1FAE64F33AE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1EBE-0589-4B15-8E77-4EAF0DC0D7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404B-D5B9-4D41-A358-26CE6731A84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8EEB-5F56-4B35-9ED7-D760CE215B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22A7-E480-47AB-8CA0-2712F4CD8AB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886C-B0FB-4531-B8DD-C166BB81D4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4265-7BFA-41DD-A680-31E37D80BFF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59A6-88AD-4EFE-8D9B-565D09412D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E33F-53C6-4B88-A9F0-05B04562468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BBCF-9056-43C7-BBED-1673AF70E8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D776-479D-4570-A87E-F232CB84294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8B56-BF08-4AA9-9D47-7C7060F500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2A65-0E5E-48E3-AA8F-1F9B3C7EAC9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50D9-D21B-4218-ABF5-82FF1E270A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7403-C764-46B1-BF39-971E0362ADD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E425-3A04-4122-AC76-1B2F2BEE07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2C8F-BEC7-44BB-BC03-08338D728C6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A1C9-736F-4E55-B0A5-7E5B4F78DE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F160-C2CB-4EAA-92C0-67E93567087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9645-5B8E-460D-A4AB-61014BE292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EF9D-57AF-4B9E-9A4C-ACFCBA4B5D8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223C-D9D3-45D5-855B-262376E45B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91AF-DCAD-4AC9-85CE-28012F02488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556B-C350-43D8-A337-067B6952EA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0D84-1A7A-430C-BA70-BD6880ECEE6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6650-12E2-434E-BCB2-668E23744C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.В.Гоголь «Мертвые души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стория создания, особенности жанра, композиции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мысл заглав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4" descr="2"/>
          <p:cNvPicPr/>
          <p:nvPr/>
        </p:nvPicPr>
        <p:blipFill>
          <a:blip r:embed="rId1"/>
          <a:stretch/>
        </p:blipFill>
        <p:spPr>
          <a:xfrm>
            <a:off x="0" y="2057400"/>
            <a:ext cx="346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DCB0-38A5-4EBD-886C-A7690FBEF99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7564-FEB9-4DB2-AC94-E65BA68E9D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Н.В.Гоголь сжег второй том «Мертвых душ»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работы Гоголь замыслил дать уже не один, а три тома, в которых можно было бы показать Русь уже не «с одного боку», а всесторонне. Второй и третий тома «Мёртвых душ» должны были, по мысли автора, наряду с отрицательными вывести и положительных героев и показать нравственное возрождение «подлеца-приобретателя» Чичик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ая широта сюжета и насыщенность произведения лирическими местами, позволяющими писателю многообразно выявлять своё отношение к изображаемому, внушили Гоголю мысль назвать «Мёртвые души» не романом, а поэм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Гоголь сжёг второй том «Мёртвых душ», а к третьему он и не приступал. Причина неудачи была в том, что Гоголь искал положительных героев в мире «мёртвых душ» — представителей господствовавших в то время общественных слоев, а не в народном, демократическом лагер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8FAE-A95C-4386-8AA7-D755F412770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DE4A-77E5-43B1-A059-217E051346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Times New Roman"/>
              </a:rPr>
              <a:t>Почему Гоголь не смог найти положительного героя среди господствующих в то время слоев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инский  ещё в  1842    году предсказал     неизбежность неудачи Гоголя в осуществлении подобного замысла. «Много, слишком много обещано, так много, что негде и взять того, чем выполнить обещание, потому что того и нет ещё на свете»,— писал 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едшие до нас главы второго тома «Мёртвых душ» подтверждают справедливость мыслей Белинского. В этих главах есть блестяще написанные образы, родственные помещикам первого тома (Пётр Петрович Петух, Хлобуев и др.), но положительные герои (добродетельный генерал-губернатор, идеальный помещик Костанжогло и откупщик Муразов, «самым безукоризненным путём» наживший свыше сорока миллионов) явно не типичны, жизненно не убедитель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76CF-FEF5-4A7F-B589-662EAE92FF0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AFDC-292F-49FB-9946-CD4B9881CE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99"/>
                </a:solidFill>
                <a:latin typeface="Arial"/>
              </a:rPr>
              <a:t>Что представляет собой композиция поэмы?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Замысел «изъездить вместе с героем всю Русь и вывести множество самых разнообразных характеров» предопределил композицию поэмы. Она построена как история похождений «приобретателя» Чичикова, покупающего мёртвые фактически, но живые юридически, т. е. не вычеркнутые из ревизских списков, душ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Центральное место в первом томе занимают пять помещиков  «портретных» глав (со второй по шестую).  Эти главы, построенные по одинаковому плану, показывают, как на почве крепостничества складывались разные типы крепостников и как крепостное право в 20—30-х годах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ека, в   связи с ростом капиталистических сил, приводило помещичий класс к экономическому и моральному упадку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9220-C02E-4530-B856-DD34B8C67A0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5525-42CB-48F8-BAA1-DF1051ECC7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6699"/>
                </a:solidFill>
                <a:latin typeface="Arial"/>
              </a:rPr>
              <a:t>Гоголь даёт главы в определённом порядке</a:t>
            </a:r>
            <a:r>
              <a:rPr b="0" lang="ru-RU" sz="2100" spc="-1" strike="noStrike">
                <a:solidFill>
                  <a:srgbClr val="003399"/>
                </a:solidFill>
                <a:latin typeface="Arial"/>
              </a:rPr>
              <a:t>. </a:t>
            </a:r>
            <a:br>
              <a:rPr sz="2100"/>
            </a:br>
            <a:endParaRPr b="0" lang="en-US" sz="2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схозяйственного помещика Манилова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меняет мелочная скопидомка Коробоч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залаберного прожигателя жизни Ноздрёв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жимистый Собакевич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вершает эту галерею помещиков Плюшкин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ряга, доведший своё имение и крестьян д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ного разор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786E-818E-4B58-9084-30ABC04B04E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4727-D3CB-4F4C-84E8-66A5E757C4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эма превращается в гениальное обличение крепостничества как такого социально-экономического строя, который закономерно порождает культурную и экономическую отсталость страны, морально разлагает тот класс, который являлся в то время вершителем судеб государст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идейный замысел поэмы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66E1-5E7B-44C6-9025-7C43BB3773A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50D5-B407-4AEA-81BB-C63A13D826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Какими были отзывы критиков на выход поэм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круг первого тома сразу же разгорелись жаркие споры. Вопрос о книге Гоголя, по словам Белинского, был «столько же литературным, сколько и общественным». «Между восторгом и ожесточенной ненавистью к «Мертвым душам» середины решительно нет...», — писал Прокопович Гоголю в октябре 1842 года. Одни обвиняли автора в клевете на Россию, другие, напротив, увидели в поэме апофеоз Рус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4122-60C9-476A-81F2-57550D89395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0405-EBBC-4C30-AC7A-574E48BD6C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15004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выход «Мертвых душ» не замедлили откликнуться и журналы. Наиболее подробные и интересные разборы дали Шевырев в «Москвитянине» и Плетнев в «Современнике» — как раз те критики, которые ближе других стояли к Гоголю и более чем кто-либо были посвящены в его замыслы. Так, Плетнев писал, что «на книгу Гоголя нельзя иначе смотреть, как только на вступление к великой идее о жизни человека, увлекаемого страстями жалкими, но неотступно действующими в мелком кругу общества». Замечание Шевырева о «неполноте комического взгляда, берущего только вполобхвата предмет», особенно понравилось Гого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D609-E9ED-4497-9530-76F2BA11589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D6FB-5673-46DB-A208-A45018F384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ом же 1842 году в Москве вышла брошюра Константина Сергеевича Аксакова "Несколько слов о поэме Гоголя: «Похождения Чичикова, или Мертвые души»", в которой он сравнивал Гоголя с Гомером, находя у них общий взгляд на мир — «всеобъемлющее эпическое созерцание». По мысли критика, поэма Гоголя возрождала в русской литературе традиции гоме­ровского эпоса. «Уж не тайна ли русской жизни лежит, заклю­ченная в ней, не выговорится ли она здесь художественно?» — вопрошал Аксаков, разумея всю поэму в це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B7A9-7C46-4BB2-AE04-78856765B21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8573-F22D-4B47-A1FF-1CB8D83696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сякое глубокое создание, «Мертвые души» не раскрываются вполне с первого чтения даже для людей мыслящих, — писал Белинский, — читая их во второй раз, точно читаешь новое, никогда не виданное произведение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ко именно Белинскому принадлежит определение поэмы, как «творения чисто русского, национального, выхваченного из тайника народной жизни &lt;...&gt; дышащего страстною, нервистою, кровною любовью к плодовитому зерну русской жизни», и Гоголя как «русского национального поэта во всем пространстве этого слова». Одним из первых критик подчеркнул и важнейшую особенность творчества Гоголя — его исключительную оригинальность и самобыт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B23E-7DC6-413C-A609-D7E9128E171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4638-5614-4DBA-9654-C755E82D39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АЛИЗ 1 ГЛАВ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надо, что вчитаться, - боже мой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дела, что помедлить над строкою -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ролистнуть нетерпеливою рукою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задержаться, прочитать и перечес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Ю. Левита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7BC1-45FD-4334-A0E6-4C4E83E1267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A7E0-BAF3-45C7-A50D-3BDEFC3765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воих произведениях Н.В. Гоголь предстает перед нами не только как замечательный писате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тарайтесь лучше видеть во мне христианина и человека, чем литератора», —призывал 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783B-0A74-41BD-A0CE-0C0FC008858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33BF-092E-4E95-A637-76445CB147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пробуем и мы разобраться, как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ение первых строк поэм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. В. Гоголя «Мертвые душ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уроке перед нами стоит непростая задача – проанализировать не только смысловой аспект, но художественные особенности языка представленного отрыв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3B46-88DA-4A86-A159-BB4971A9E98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E3B4-7C87-4A4F-A62B-7082DD8E98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тение 1 главы поэм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ше знакомство с Чичиковым происходит в губернском городе NN. Тихо и незаметно его бричка на мягких рессорах подкатила к воротам гостиниц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йдите, как встретил город приезд Чичикова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0AB1-9F43-4FEE-816C-B0068E09B90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396F-0480-4225-9D7B-1B1E12CD79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ая часть речи указывает на отношение жителей города NN к приезду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аблюдайте над художественными особенностями портрета этого господ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ой деталью подчеркивает Гоголь безразличие к приезду некоего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обратив ни малейшего внимания на Чичикова, на чем сосредоточились мужик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лучайно ли столь частое употребление слов « доедет, не доедет"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9376-B848-4DEA-834B-F0509260919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0331-4DBF-4D67-AEEB-199D054EAB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 на лица персонажей, встречающих Чичико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, сколько раз встречается слово покой? Что это? У Гоголя – мастера русского языка, не может быть неоправданных повторов, значит, и эти не случайны? О каком покое говори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FEFE-785F-4A52-B526-06B0CEF95F9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7909-049C-4374-B946-5F92EA6235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4. Итог урока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немся к эпиграфу нашего урок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ожете ли вы теперь объяснить смысл этих слов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.В. Гоголь действительно мастер художественного слова, который так умело и точно подбирает каждое слово. Иногда мелкая деталь красноречивее пространного описания или развернутой характеристики. Именно такая манера и заставляет вдумчиво читать и размышлять над страницами Н. В. Гог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313B-C233-4C73-A93D-0551D25DB6E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7789-604E-49C0-A9B8-3A02CAA481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, на ваш взгляд, смысл заглавия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 II главу и подготовить сообщение о Манилове (первые впечатления, внешность, манера поведения и речь, отношение к хозяйству, к окружающим, любимые занятия, жизненные цели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1D2D-3C7A-4605-887D-D484CA2C48E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61E6-8424-4C6C-8536-CEE92EE689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дания к лек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йдите  ответы на предложенные вопросы, выводы запишите  в тетрад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05A7-9E5E-480C-BEDB-DB70161B67C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C15F-7742-4205-8C5F-80759C26CB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ую цель ставил перед собой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ще с лицейской поры думал Н.В. Гоголь о службе на благо России. Он искренне и беззаветно любил ее и писал, что молится о спасении Русской зем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ойный сын своего Отечества и истинный христианин, Гоголь не только верил, что Россия — страна истинно христианск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ружно докажем всему свету, что в русской земле все, что ни есть, от мала до велика, стремится служить Тому же, Кому все должно служить на земле, несется туда же, кверху, к Верховной вечной красоте», но и вдохновенно призывал к служению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Нет выше звания, как монашеское, — писал он. — Монастырь Ваш — Россия. Облеките же себя умственно рясой чернеца и всего себя умертвите для себя, а не для нее, ступайте подвизаться в ней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20B1-5D5E-4505-9D60-4C003F0C65E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042D-02CE-4F86-879A-0B23AA7CB1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 чем видел свой долг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сатель видел смысл собственного служения России в великой ответственности за каждое свое слово, ибо именно оно «есть высший подарок Бога человеку», то орудие, с помощью которого художник «призван все в мире исправлять к добру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все произведения, созданные им в первый период творчества, кажутся Гоголю лишь «давнею тетрадью ученика», и он восклицает: «Пора, пора, наконец, заняться делом» (письмо В.А.Жуковскому, 28 июня 1836 года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это дело —работа над «Мертвыми душами», поэмой, на которую автор возлагал большие надежды. «Какой огромный, какой оригинальный сюжет! — писал он. — Вся Русь явится в нем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D074-D1E3-4734-9028-F0868F43603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2807-A7E6-4012-915F-5EDB6F4FEC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А.С.Пушкин отдал сюжет своего произведения Н.В.Гоголю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письма Н.В.Гоголя  А.С.Пушкин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делайте милость, дайте какой-нибудь смешной или не смешной, но русский анекдот. Рука дрожит написать тем временем комедию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BF66-3264-4290-B7A9-847F504DFF1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68EE-050D-4E05-875A-017541BFC6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-8640"/>
            <a:ext cx="80802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520" y="914400"/>
            <a:ext cx="6324480" cy="55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«Авторской исповеди» Гоголя (написана в 1847 году, напечатана в 1855 г.) читаем: «Он (Пушкин) уже давно склонял меня приняться за большое сочинение и наконец, один раз, после того, как я ему прочел одно небольшое изображение небольшой сцены, но которое, однако же, поразило его больше всего мной прежде читанного, он мне сказал: «Как с этой способностью угадывать человека и несколькими чертами выставлять его вдруг всего, как живого, с этой способностью не приняться за большое сочинение! Это просто грех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лед за этим начал он представлять мне слабое мое сложение, мои недуги, которые могут прекратить мою жизнь рано; привел мне в пример Сервантеса, который, хотя и написал несколько очень замечательных и хороших повестей, но, если бы не принялся за Донкишота, никогда бы не занял того места, которое занимает теперь между писателями, и, в заключенье всего отдал мне свой собственный сюжет, из которого он хотел сделать сам что-то в роде поэмы и которого, по словам его, он бы не отдал никому»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4" descr="Пушкин"/>
          <p:cNvPicPr/>
          <p:nvPr/>
        </p:nvPicPr>
        <p:blipFill>
          <a:blip r:embed="rId1"/>
          <a:stretch/>
        </p:blipFill>
        <p:spPr>
          <a:xfrm>
            <a:off x="0" y="990720"/>
            <a:ext cx="2473200" cy="30574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65" name="WordArt 8"/>
          <p:cNvSpPr txBox="1"/>
          <p:nvPr/>
        </p:nvSpPr>
        <p:spPr>
          <a:xfrm>
            <a:off x="762120" y="0"/>
            <a:ext cx="50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мысел произведе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E090-692B-4D7F-A151-DB845374B49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0ECD-BF1B-4BCB-8836-17BE1A36EC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голь последовал совету Пушкина, быстро принялся за работу и в письме от 7 октября 1835 года извещал его: «Начал писать «Мёртвых душ». Сюжет раскинулся на предлинный роман и, кажется, будто сильно смешон... Мне хочется в этом романе показать хотя бы с одного боку всю Рус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Ромашки"/>
          <p:cNvPicPr/>
          <p:nvPr/>
        </p:nvPicPr>
        <p:blipFill>
          <a:blip r:embed="rId1"/>
          <a:stretch/>
        </p:blipFill>
        <p:spPr>
          <a:xfrm>
            <a:off x="152280" y="2743200"/>
            <a:ext cx="899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F682-7230-4898-ACAF-783F25E07EB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515C-B1D1-49F4-91CF-C44BE1729B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замысел произведения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о позднее, в письме к Жуковскому 1848 года, Гоголь пояснял замысел своего творения: «Уже давно занимала меня мысль большого сочиненья, в котором бы предстало все, что ни есть и хорошего и дурного в русском человеке, и обнаружилось бы пред нами видней свойство нашей русской природы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</dc:creator>
  <dc:description/>
  <dc:language>en-US</dc:language>
  <cp:lastModifiedBy>Admin</cp:lastModifiedBy>
  <dcterms:modified xsi:type="dcterms:W3CDTF">2010-02-18T20:29:09Z</dcterms:modified>
  <cp:revision>11</cp:revision>
  <dc:subject/>
  <dc:title>Н.В.Гоголь «Мертвые души» - история созд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