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29B4-F1B3-46CC-89CA-107861734F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DF18-ADAF-4EFF-A738-03E41517AB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E0E5-B3C5-498D-80AA-0E93ADA829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5001-F0E0-40C2-B9F4-A1255228A9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1F35-EB75-4C9D-A8D8-DAEB5B7E547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0D18-6079-46FC-86F0-8E42B6EFD9B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03DA-985F-4060-9194-2FB12A6BD6D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4B21-646A-4F20-B765-4198B23189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406E-9B51-416C-A2B5-DC71225810B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4B90-6041-4C78-A2C2-F6666C56FE1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A6FB-4E28-4B9B-AE16-C7A37BA761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8DB7-F148-4B58-94AE-93FF63F4ECF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C399-8221-4435-8F3F-0A676981019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A7B7-2CD9-492F-8251-130221EFC99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1BF4-6EDC-4456-AB53-83B7397EB8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88CB-EA9B-4519-B90B-E8B1FE1E381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7043-2691-4611-9EE6-BA113C47670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568D-084E-4728-A6EA-A09BFEBF284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BD8F-CD5F-4FD5-B859-6171CA0519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455D-A9ED-43A6-8982-F31D3EFA32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D06C-C064-4CF2-9E55-997C89DBCC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5169-21C0-4410-9E5C-3D999A7DD1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E87A-4CB9-4508-B2D2-F3C412987DB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49EF-BB9F-49B4-A45F-982550CC109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1984-4E1D-4F11-A2D0-15DA8BAEA3D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FCB7-A65F-4117-B922-782A801912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0F4-BA7F-44D5-A82D-E6354FBB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323-1DEA-4443-8D7F-3FBCE376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1F8C4-40A4-474F-B9BC-8D47C6B1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7E6A1-2F15-4ADC-9269-2AA1BC39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879D7-680E-42BB-803B-EBD4BA41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1B111-71BD-47D6-8E94-8526B39F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2348E-3B63-4715-B983-A3761FF9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81899-3C2A-49D6-A19B-5DBA0D70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7587E-25DE-41FE-848E-263C01EC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4BD16-B363-4610-887E-38473E37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0A105-905A-4FCA-BFBC-0A478A4F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308BF-03C7-4E64-B43E-058E6778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54B-3C41-402B-86D3-31EDF751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241A7-3092-4ECF-8219-B4430E26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0DDD4-B170-4E6B-8B07-0A5E429C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64B94-71AD-4CC0-87B6-09BEBE42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36703-A01B-431C-AF4F-11A7176E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76950-4586-42F1-9853-DD055D4B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C3E56-798D-483B-B48E-17D51EE8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7E2C0-72B7-4B5C-ABA1-CC6AE9E0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28481-947A-4F30-8BA1-DE07D2AB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DFC1E-B9DD-47B0-B6C2-5BF45950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EFEDF-1DB3-4026-9B85-4B63DF17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533-B706-4C19-9229-0F1FA6FB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969F7-BAF4-4F2F-B418-9EC55A96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131F7-F551-4C9A-BFF3-9F7785B4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1CC9C-3BA1-4C2E-9D77-0E322BA3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4460E-10DD-4B1E-A0F4-D6C79194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E49DC-A38D-4B23-AB29-87407003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AA1AB-A894-4D7E-A8F7-BBFF23A7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EBDBA-7495-40AA-AAB0-1F0F56D1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EAC25-5B8E-4C3A-B2DF-4B05EABF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606C7-4B08-4034-98D4-E79E3231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11CD2-0CC7-4F92-BD11-565F6E3F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9724-A5C5-4742-A467-7F16A7BD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B5A51-B6F0-4B6C-9250-521FA7E0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663EC-6861-46B2-AE0A-9371C51A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41506-9583-4A67-BFC9-C62D157D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9DA45-DBBD-408C-8E0C-236739A0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EE986-773D-4A1C-ADC0-C145715D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EDED4-5565-460A-AA08-E584947F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3F90C-9C9F-4925-A689-24AE42B3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1AEDC-5FEF-4C18-87C3-E071512A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71D80-5007-46D4-A35C-4B681943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395C2-F0F8-421D-BD72-5EA5DB1D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A33B-0158-4862-AC2F-FF380ED2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6ED24-5ECC-4DFE-BF2C-81226E51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CC775-1674-4A17-9DF1-3C37E338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B406B-1563-4002-BABF-E51F9D83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76E1D-FC95-4619-9C35-5E7C004A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7213C-BC61-432D-B4E1-71FC3F8D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D8BE-85E0-40D2-B6B2-2AF15EC3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29E7-16D8-44E4-8A83-53739039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9F6A-B76F-42E8-906A-A820B73B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E93C-3C7E-4AB7-B017-901377E2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BDD9-082E-457A-99AF-AD5F5B8D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BAF-37A5-4FBB-A0A4-5369157B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89C9-0E83-43B8-9930-C7FEBEA1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7A6F-755E-400E-9B27-C2D11675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4C2B-FC92-49AE-8B26-DB824BC4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2D2D-41C8-4D83-B950-F3307600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71C6-33A6-42F5-A9A0-AE27E4B4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BD695-94E5-4934-B951-B22B9B53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EF84A-CFEA-45D0-9FFA-F9CAF496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3094E-08C7-4E99-B7AB-B08CF892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62760-25F8-4940-80BC-70A33A8D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99123-25F8-4E4D-959C-E736201E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D77-98D8-4A83-AEA7-286B3584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888A-6D85-40CF-8852-43B90EE5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5057-7FAB-4258-9245-87D38534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03C96-3065-482A-BCCA-93E5D4B8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3BAB-AD4B-40DC-A1A4-9207FE39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66F48-43DD-4569-99DC-2913C40B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C205E-2388-4BC7-889A-FF400316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14C7-0690-4B06-BB5A-D76578AD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62765-C0D8-4E0B-93DD-C9F5543E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441FB-92BC-4FCF-8B19-F24E2E29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86B7D-37A9-4C75-A83A-AD3118BE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924-6469-453D-8D99-88D490B3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B6239-B3F5-425E-B285-EC59D973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ED533-07A0-45FB-A232-55D818EF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45860-FF8D-4A6D-A054-A1BD6D34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901E9-85A0-4B28-853E-8D10CA21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43546-D986-467A-BC21-B8C27C8C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D1320-1E74-4920-A5C8-0EDE62C0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52BC9-60EB-4F29-8112-9C2DE259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32725-E2E8-439A-9838-3005A1D9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8689B-0A98-4915-9F2B-B9C14F58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68707-67BA-4099-9ECB-9C586562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2260-5908-4E9B-AFCC-614FDC6C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FD587-C680-4D1E-8DA3-ED8500FB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2EE87-1A16-4A0D-A68B-886D843B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005BE-7F53-4F4C-A832-765339BF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79B32-6C75-4915-BEC9-DA109A05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53CF5-849D-43B5-B177-70F5913A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3E3A2-57F9-4151-97F8-543661F4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4B842-4EAC-4878-A96D-82E849F9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14181-372C-4C89-92F9-3E2A4431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162D6-B98A-49C5-B4AF-D66F17CC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E2EF0-6CC9-492A-92D7-003D7193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D24-0F8D-4AFC-B787-D37BE8F5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B2C30-38BE-439D-A3E4-B875AE31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42A60-6851-4484-A9B3-B0B6A385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05987-050E-4F60-A28D-15BD4A31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CAE42-5293-48D9-9FF4-7130613C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D2AE1-A9F2-48B9-9E01-2336A4DD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60EAE-4001-4B20-8C3A-2D15C15F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78B38-FB87-4172-9214-7615EA6D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88A80-A654-4BD5-ABB9-66233149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41423-97AA-4C36-A4E6-91F1E272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EC6AD-7205-4632-8BE0-18B23678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672-BE66-4526-B483-2E015BB9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FE703-0AEE-44B6-8C10-FDFF2740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95E4C-FCE6-4ED3-9D07-27CF7E20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EE891-D675-4E38-98DC-38A777D8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E46A7-9705-4EB6-89E0-5C0F59F5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F7BB0-6F8C-49CD-A581-AA6FCE87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ACA90-EBF9-4A26-B134-ED47EA47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00232-C88C-4E3D-A57D-1EABDA1D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D6E10-1299-43F7-99E2-BF8C9917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F9AE0-941E-4043-BACA-38A11783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D5F5D-8534-4EC0-BE04-36A39138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5B3-8793-4754-8D42-0430485F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0D009-209E-4CDC-93B4-8A7700D5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8927E-E874-4FE5-B6AE-CF9A5598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35D2C-BA18-47BF-AEBA-490CAFC8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AF3B5-B116-47B6-B3CB-170A900F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32AA3-33B8-4DFF-8B0C-528F587A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5F0C9-F72E-4895-A164-6FB1815C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F3988-BC33-4C1C-9799-85D5C242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241A3-8D79-4371-8657-54E1BD50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E048A-08DE-422F-BE6D-EBD1625D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573CC-82EB-436C-9CE4-D80DE463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D69-50F6-4097-8311-DF14E014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4712A-D80C-47B6-9C66-E232597E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2B71C-C780-47A2-BC6C-C1BD2977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0D5DE-9463-41A7-AB35-E67B435B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150B0-7468-496B-97B8-E3F3C968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ED0B0-A9AD-475C-86EB-EE3AF7B7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D773A-ECDD-4EE9-B8B0-3B5B35C4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CCE12-41C0-496A-8280-F05A09B6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B6754-9688-4943-9245-CFC2C7A3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BE60B-BFCC-45C4-8D5C-3EB56C29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6436D-319A-43D5-8CFD-A62DCA99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40EA-CDDA-46B6-A3A7-D8809B1E5C3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9949-7759-49C3-B7DF-8E7B58C21B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51F4-4958-4952-A07D-C98619ED0B0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7C6B-4073-416D-8EBA-06BC50D0B6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0E1B-7C03-4ABD-BF9D-549F15F763B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0698-F9A8-4042-B685-2D504FFA9C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3FF8-199A-4BD4-95F1-126268990C9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1194-B334-4B05-813B-42791DC0F9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59E8-2FED-4443-A11D-874E4C9C89F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D979-F08D-4B3C-B324-6830D52D97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D1F8-60CA-402E-8569-3C83F3B2212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9753-DE7A-485F-A4D0-076D3F5B86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A6DB-E890-4289-959E-171C21B3994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AFDE-2E0A-4182-9D47-E83A3AA8D7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D8FE-8BE2-423B-A4F2-A51AB1468A6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21A4-D288-40EC-BA4B-7A5A1CC783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ECAA-B973-4707-9C3A-ACA505AD1B5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324C-7DE2-48D7-99BD-F6F508FB45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EA1D-BAAF-46CC-B03F-F950B18756E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DFCF-51E7-4A3C-9A45-A1D27FFDF5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24CE-27CB-4C21-933F-1CCEB6D4246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B2AC-9E4E-4C12-9C89-67450A24CF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BA16-1113-438E-B5A5-8AD35518F70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4EB9-8704-45E1-8650-680834489A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70B5-6DD9-4B7B-A83B-A4ECD0791CF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CC42-1A76-487B-B9B4-BFE0D77444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.В.Гоголь «Мертвые души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стория создания, особенности жанра, композиции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мысл заглав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4" descr="2"/>
          <p:cNvPicPr/>
          <p:nvPr/>
        </p:nvPicPr>
        <p:blipFill>
          <a:blip r:embed="rId1"/>
          <a:stretch/>
        </p:blipFill>
        <p:spPr>
          <a:xfrm>
            <a:off x="0" y="2057400"/>
            <a:ext cx="346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6D21-509D-489E-B266-ABEEE669B18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D01E-BCD7-4898-9C84-93E0C88FDD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Н.В.Гоголь сжег второй том «Мертвых душ»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работы Гоголь замыслил дать уже не один, а три тома, в которых можно было бы показать Русь уже не «с одного боку», а всесторонне. Второй и третий тома «Мёртвых душ» должны были, по мысли автора, наряду с отрицательными вывести и положительных героев и показать нравственное возрождение «подлеца-приобретателя» Чичик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ая широта сюжета и насыщенность произведения лирическими местами, позволяющими писателю многообразно выявлять своё отношение к изображаемому, внушили Гоголю мысль назвать «Мёртвые души» не романом, а поэм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Гоголь сжёг второй том «Мёртвых душ», а к третьему он и не приступал. Причина неудачи была в том, что Гоголь искал положительных героев в мире «мёртвых душ» — представителей господствовавших в то время общественных слоев, а не в народном, демократическом лагер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C11F-3AFF-4433-B2DE-02300D86A3B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B9CD-898F-436F-943B-B58876CEC1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Times New Roman"/>
              </a:rPr>
              <a:t>Почему Гоголь не смог найти положительного героя среди господствующих в то время слоев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инский  ещё в  1842    году предсказал     неизбежность неудачи Гоголя в осуществлении подобного замысла. «Много, слишком много обещано, так много, что негде и взять того, чем выполнить обещание, потому что того и нет ещё на свете»,— писал 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едшие до нас главы второго тома «Мёртвых душ» подтверждают справедливость мыслей Белинского. В этих главах есть блестяще написанные образы, родственные помещикам первого тома (Пётр Петрович Петух, Хлобуев и др.), но положительные герои (добродетельный генерал-губернатор, идеальный помещик Костанжогло и откупщик Муразов, «самым безукоризненным путём» наживший свыше сорока миллионов) явно не типичны, жизненно не убедитель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F6FC-8314-4C32-BDA6-CB0484A2ED0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DA02-36E5-4BF5-8363-0EDBC2884F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99"/>
                </a:solidFill>
                <a:latin typeface="Arial"/>
              </a:rPr>
              <a:t>Что представляет собой композиция поэмы?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Замысел «изъездить вместе с героем всю Русь и вывести множество самых разнообразных характеров» предопределил композицию поэмы. Она построена как история похождений «приобретателя» Чичикова, покупающего мёртвые фактически, но живые юридически, т. е. не вычеркнутые из ревизских списков, душ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Центральное место в первом томе занимают пять помещиков  «портретных» глав (со второй по шестую).  Эти главы, построенные по одинаковому плану, показывают, как на почве крепостничества складывались разные типы крепостников и как крепостное право в 20—30-х годах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ека, в   связи с ростом капиталистических сил, приводило помещичий класс к экономическому и моральному упадку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A5D3-2B82-45DE-9FC1-63E671C24D7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F015-DD28-4D71-B95A-54F6D478CA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6699"/>
                </a:solidFill>
                <a:latin typeface="Arial"/>
              </a:rPr>
              <a:t>Гоголь даёт главы в определённом порядке</a:t>
            </a:r>
            <a:r>
              <a:rPr b="0" lang="ru-RU" sz="2100" spc="-1" strike="noStrike">
                <a:solidFill>
                  <a:srgbClr val="003399"/>
                </a:solidFill>
                <a:latin typeface="Arial"/>
              </a:rPr>
              <a:t>. </a:t>
            </a:r>
            <a:br>
              <a:rPr sz="2100"/>
            </a:br>
            <a:endParaRPr b="0" lang="en-US" sz="2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схозяйственного помещика Манилова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меняет мелочная скопидомка Коробоч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залаберного прожигателя жизни Ноздрёв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жимистый Собакевич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вершает эту галерею помещиков Плюшкин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ряга, доведший своё имение и крестьян д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ного разор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2E88-6FD1-4DEC-B480-A25C00E240A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811F-9D4D-4366-BECC-6111894A4F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эма превращается в гениальное обличение крепостничества как такого социально-экономического строя, который закономерно порождает культурную и экономическую отсталость страны, морально разлагает тот класс, который являлся в то время вершителем судеб государст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идейный замысел поэмы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4237-B410-46A6-AB1B-A16902EE682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6CF2-787F-4216-BF09-9670E9E838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Какими были отзывы критиков на выход поэм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круг первого тома сразу же разгорелись жаркие споры. Вопрос о книге Гоголя, по словам Белинского, был «столько же литературным, сколько и общественным». «Между восторгом и ожесточенной ненавистью к «Мертвым душам» середины решительно нет...», — писал Прокопович Гоголю в октябре 1842 года. Одни обвиняли автора в клевете на Россию, другие, напротив, увидели в поэме апофеоз Рус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5FF1-9EA7-4543-99F2-9BC338B3140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5351-1868-4EE3-A7E3-7EE9EB1B03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15004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выход «Мертвых душ» не замедлили откликнуться и журналы. Наиболее подробные и интересные разборы дали Шевырев в «Москвитянине» и Плетнев в «Современнике» — как раз те критики, которые ближе других стояли к Гоголю и более чем кто-либо были посвящены в его замыслы. Так, Плетнев писал, что «на книгу Гоголя нельзя иначе смотреть, как только на вступление к великой идее о жизни человека, увлекаемого страстями жалкими, но неотступно действующими в мелком кругу общества». Замечание Шевырева о «неполноте комического взгляда, берущего только вполобхвата предмет», особенно понравилось Гого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535D-24E7-4F45-B2E2-C690F9F3ED4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7AA4-45D4-4852-92FB-DB1D7A0D44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ом же 1842 году в Москве вышла брошюра Константина Сергеевича Аксакова "Несколько слов о поэме Гоголя: «Похождения Чичикова, или Мертвые души»", в которой он сравнивал Гоголя с Гомером, находя у них общий взгляд на мир — «всеобъемлющее эпическое созерцание». По мысли критика, поэма Гоголя возрождала в русской литературе традиции гоме­ровского эпоса. «Уж не тайна ли русской жизни лежит, заклю­ченная в ней, не выговорится ли она здесь художественно?» — вопрошал Аксаков, разумея всю поэму в це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713F-3DE4-4285-A2EF-7854E4E7594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FA65-23CF-4FC0-9D69-7CFB664F04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сякое глубокое создание, «Мертвые души» не раскрываются вполне с первого чтения даже для людей мыслящих, — писал Белинский, — читая их во второй раз, точно читаешь новое, никогда не виданное произведение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ко именно Белинскому принадлежит определение поэмы, как «творения чисто русского, национального, выхваченного из тайника народной жизни &lt;...&gt; дышащего страстною, нервистою, кровною любовью к плодовитому зерну русской жизни», и Гоголя как «русского национального поэта во всем пространстве этого слова». Одним из первых критик подчеркнул и важнейшую особенность творчества Гоголя — его исключительную оригинальность и самобыт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08D9-8B85-49A1-8FF1-61598A122FC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3AAB-A020-4D99-9B17-5E22D70400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АЛИЗ 1 ГЛАВ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надо, что вчитаться, - боже мой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дела, что помедлить над строкою -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ролистнуть нетерпеливою рукою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задержаться, прочитать и перечес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Ю. Левита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C1E8-EAE4-43BE-A255-C25AB78AF34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FD46-DF17-4DDE-A869-4ED69A9AC6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воих произведениях Н.В. Гоголь предстает перед нами не только как замечательный писате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тарайтесь лучше видеть во мне христианина и человека, чем литератора», —призывал 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868F-AEA1-431A-8E71-0170D9DC194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2CF4-5746-46AA-AD90-2BBB812A02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пробуем и мы разобраться, как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ение первых строк поэм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. В. Гоголя «Мертвые душ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уроке перед нами стоит непростая задача – проанализировать не только смысловой аспект, но художественные особенности языка представленного отрыв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39BE-A071-49DF-BEE7-45518097BB2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8931-9D0B-4CC5-B680-FFE6F715FF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тение 1 главы поэм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ше знакомство с Чичиковым происходит в губернском городе NN. Тихо и незаметно его бричка на мягких рессорах подкатила к воротам гостиниц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йдите, как встретил город приезд Чичикова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4D0F-3399-4BCE-A681-A6EA150AFC4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F335-432A-43C1-A45E-8DD95BEADB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ая часть речи указывает на отношение жителей города NN к приезду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аблюдайте над художественными особенностями портрета этого господ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ой деталью подчеркивает Гоголь безразличие к приезду некоего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обратив ни малейшего внимания на Чичикова, на чем сосредоточились мужик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лучайно ли столь частое употребление слов « доедет, не доедет"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7FA0-962C-4295-98D7-129CAA9A5C5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BB11-1ED7-4E84-82B0-C9E9E01D7C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 на лица персонажей, встречающих Чичико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, сколько раз встречается слово покой? Что это? У Гоголя – мастера русского языка, не может быть неоправданных повторов, значит, и эти не случайны? О каком покое говори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83AC-7F9B-47FD-9266-26DDD8145F1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B3D3-CABA-4FE5-BFA3-FD5375F47F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4. Итог урока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немся к эпиграфу нашего урок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ожете ли вы теперь объяснить смысл этих слов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.В. Гоголь действительно мастер художественного слова, который так умело и точно подбирает каждое слово. Иногда мелкая деталь красноречивее пространного описания или развернутой характеристики. Именно такая манера и заставляет вдумчиво читать и размышлять над страницами Н. В. Гог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BEEC-C4A0-4D2C-A0CE-758BD18587A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2B07-64A4-4373-8638-C38C351B31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, на ваш взгляд, смысл заглавия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 II главу и подготовить сообщение о Манилове (первые впечатления, внешность, манера поведения и речь, отношение к хозяйству, к окружающим, любимые занятия, жизненные цели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AAC1-1F9D-4C39-BDB1-FA7890F806F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FBB7-B5D8-47F3-BAA4-D2CB720222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дания к лек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йдите  ответы на предложенные вопросы, выводы запишите  в тетрад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EF84-9D02-4E36-873D-FF008017AED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3CBA-F7C7-4535-BCF8-249BF09A22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ую цель ставил перед собой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ще с лицейской поры думал Н.В. Гоголь о службе на благо России. Он искренне и беззаветно любил ее и писал, что молится о спасении Русской зем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ойный сын своего Отечества и истинный христианин, Гоголь не только верил, что Россия — страна истинно христианск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ружно докажем всему свету, что в русской земле все, что ни есть, от мала до велика, стремится служить Тому же, Кому все должно служить на земле, несется туда же, кверху, к Верховной вечной красоте», но и вдохновенно призывал к служению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Нет выше звания, как монашеское, — писал он. — Монастырь Ваш — Россия. Облеките же себя умственно рясой чернеца и всего себя умертвите для себя, а не для нее, ступайте подвизаться в ней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E7CD-C7D2-4D6A-8056-22341CD68EA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3421-2997-4A49-88E8-4054950D04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 чем видел свой долг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сатель видел смысл собственного служения России в великой ответственности за каждое свое слово, ибо именно оно «есть высший подарок Бога человеку», то орудие, с помощью которого художник «призван все в мире исправлять к добру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все произведения, созданные им в первый период творчества, кажутся Гоголю лишь «давнею тетрадью ученика», и он восклицает: «Пора, пора, наконец, заняться делом» (письмо В.А.Жуковскому, 28 июня 1836 года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это дело —работа над «Мертвыми душами», поэмой, на которую автор возлагал большие надежды. «Какой огромный, какой оригинальный сюжет! — писал он. — Вся Русь явится в нем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B889-4DB9-45DF-9861-6FEB8413E1C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2DA5-23BC-4147-9499-E4C151863B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А.С.Пушкин отдал сюжет своего произведения Н.В.Гоголю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письма Н.В.Гоголя  А.С.Пушкин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делайте милость, дайте какой-нибудь смешной или не смешной, но русский анекдот. Рука дрожит написать тем временем комедию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2526-3B92-407C-8F55-108FF8DED3E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EAF4-3578-4691-BF6C-1D5AA9A934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-8640"/>
            <a:ext cx="80802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520" y="914400"/>
            <a:ext cx="6324480" cy="55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«Авторской исповеди» Гоголя (написана в 1847 году, напечатана в 1855 г.) читаем: «Он (Пушкин) уже давно склонял меня приняться за большое сочинение и наконец, один раз, после того, как я ему прочел одно небольшое изображение небольшой сцены, но которое, однако же, поразило его больше всего мной прежде читанного, он мне сказал: «Как с этой способностью угадывать человека и несколькими чертами выставлять его вдруг всего, как живого, с этой способностью не приняться за большое сочинение! Это просто грех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лед за этим начал он представлять мне слабое мое сложение, мои недуги, которые могут прекратить мою жизнь рано; привел мне в пример Сервантеса, который, хотя и написал несколько очень замечательных и хороших повестей, но, если бы не принялся за Донкишота, никогда бы не занял того места, которое занимает теперь между писателями, и, в заключенье всего отдал мне свой собственный сюжет, из которого он хотел сделать сам что-то в роде поэмы и которого, по словам его, он бы не отдал никому»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4" descr="Пушкин"/>
          <p:cNvPicPr/>
          <p:nvPr/>
        </p:nvPicPr>
        <p:blipFill>
          <a:blip r:embed="rId1"/>
          <a:stretch/>
        </p:blipFill>
        <p:spPr>
          <a:xfrm>
            <a:off x="0" y="990720"/>
            <a:ext cx="2473200" cy="30574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65" name="WordArt 8"/>
          <p:cNvSpPr txBox="1"/>
          <p:nvPr/>
        </p:nvSpPr>
        <p:spPr>
          <a:xfrm>
            <a:off x="762120" y="0"/>
            <a:ext cx="50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мысел произведе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40CA-331E-4F21-89FA-8719DA580C7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CD86-23BA-4F49-9169-385E2BA6BC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голь последовал совету Пушкина, быстро принялся за работу и в письме от 7 октября 1835 года извещал его: «Начал писать «Мёртвых душ». Сюжет раскинулся на предлинный роман и, кажется, будто сильно смешон... Мне хочется в этом романе показать хотя бы с одного боку всю Рус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Ромашки"/>
          <p:cNvPicPr/>
          <p:nvPr/>
        </p:nvPicPr>
        <p:blipFill>
          <a:blip r:embed="rId1"/>
          <a:stretch/>
        </p:blipFill>
        <p:spPr>
          <a:xfrm>
            <a:off x="152280" y="2743200"/>
            <a:ext cx="899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FBBA-B220-4302-8D6A-456AA192EAC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4494-960D-43AC-AB38-7721D56016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замысел произведения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о позднее, в письме к Жуковскому 1848 года, Гоголь пояснял замысел своего творения: «Уже давно занимала меня мысль большого сочиненья, в котором бы предстало все, что ни есть и хорошего и дурного в русском человеке, и обнаружилось бы пред нами видней свойство нашей русской природы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</dc:creator>
  <dc:description/>
  <dc:language>en-US</dc:language>
  <cp:lastModifiedBy>Admin</cp:lastModifiedBy>
  <dcterms:modified xsi:type="dcterms:W3CDTF">2010-02-18T20:29:09Z</dcterms:modified>
  <cp:revision>11</cp:revision>
  <dc:subject/>
  <dc:title>Н.В.Гоголь «Мертвые души» - история созд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