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C13-92D2-4889-8718-F24B3910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8B1-A2ED-4C1C-877D-E53E0832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BBD2-8850-4FE8-B5E7-A2D0F46A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CC5-51D6-4EA4-AA03-07D68AA7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EEBE-4F85-456C-8227-39C6D536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01F-247B-4107-B616-1DB5B891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E810-4E4F-4334-A45A-4D6A535E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8CB-7C3D-4EC4-A3FF-82ABA627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768A-3AD7-48D6-884C-945B08BA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3C7-A0E8-4E84-A468-6FBE2F83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C4E0-EB80-4967-B1A0-5415EAE7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89E7-9809-4AAA-BD94-D2E4686A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CBA9-4B57-47BD-8646-CAA531CF111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"Подвиг отрока-киевлянина и хитрость воеводы Претича"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рои летописного сказ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slide0005_image003"/>
          <p:cNvPicPr/>
          <p:nvPr/>
        </p:nvPicPr>
        <p:blipFill>
          <a:blip r:embed="rId1"/>
          <a:stretch/>
        </p:blipFill>
        <p:spPr>
          <a:xfrm>
            <a:off x="2411280" y="260280"/>
            <a:ext cx="455472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4"/>
          <p:cNvSpPr/>
          <p:nvPr/>
        </p:nvSpPr>
        <p:spPr>
          <a:xfrm>
            <a:off x="900000" y="1197000"/>
            <a:ext cx="74170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"Мы должны быть благодарны сыновьям нашей великой матери – Древней Руси"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Д. Лихаче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slide0003_image005"/>
          <p:cNvPicPr/>
          <p:nvPr/>
        </p:nvPicPr>
        <p:blipFill>
          <a:blip r:embed="rId1"/>
          <a:stretch/>
        </p:blipFill>
        <p:spPr>
          <a:xfrm>
            <a:off x="2035080" y="271440"/>
            <a:ext cx="507204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slide0006_image007"/>
          <p:cNvPicPr/>
          <p:nvPr/>
        </p:nvPicPr>
        <p:blipFill>
          <a:blip r:embed="rId1"/>
          <a:stretch/>
        </p:blipFill>
        <p:spPr>
          <a:xfrm>
            <a:off x="896760" y="874800"/>
            <a:ext cx="735048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е 2"/>
          <p:cNvSpPr/>
          <p:nvPr/>
        </p:nvSpPr>
        <p:spPr>
          <a:xfrm>
            <a:off x="395280" y="836640"/>
            <a:ext cx="8280360" cy="48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Летопись </a:t>
            </a:r>
            <a:r>
              <a:rPr b="0" lang="ru-RU" sz="4800" spc="-1" strike="noStrike">
                <a:solidFill>
                  <a:srgbClr val="ffff00"/>
                </a:solidFill>
                <a:latin typeface="Wingdings 3"/>
                <a:ea typeface="Wingdings 3"/>
              </a:rPr>
              <a:t></a:t>
            </a: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 лето, писат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Летопись – это сочинение, где повествование излагается по годичному принципу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5:05:06Z</dcterms:created>
  <dc:creator>Victor</dc:creator>
  <dc:description/>
  <dc:language>en-US</dc:language>
  <cp:lastModifiedBy>Admin</cp:lastModifiedBy>
  <dcterms:modified xsi:type="dcterms:W3CDTF">2010-02-18T21:13:53Z</dcterms:modified>
  <cp:revision>4</cp:revision>
  <dc:subject/>
  <dc:title>"Подвиг отрока-киевлянина и хитрость воеводы Претича"</dc:title>
</cp:coreProperties>
</file>