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3E71-F3FA-414C-8F5C-22878E275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EEBE-3C0A-460F-9AD8-67961830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1811-CAAE-40AD-BF33-F34B9903B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325-7AD8-4EE1-82DA-CB16BA2B7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94C5-8F2C-40E5-BADB-EB84BB9A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0145-5D34-4DC6-B1B1-3F52591E6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5A78-3D62-4FE1-B291-0ABD3E4F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1873-2B80-4A32-9B97-990203D0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D86F-03FB-451F-84E6-5EEB164BE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9D5CF-4F5F-4A8D-A554-4580968F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CBDE-C233-4CFC-A312-0ADB2D76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A30-1D97-4D24-AC9D-7210D5DB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4DE9-EC1D-40B0-8CA6-19940C78E0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"Подвиг отрока-киевлянина и хитрость воеводы Претича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ои летописного сказа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3" descr="slide0005_image003"/>
          <p:cNvPicPr/>
          <p:nvPr/>
        </p:nvPicPr>
        <p:blipFill>
          <a:blip r:embed="rId1"/>
          <a:stretch/>
        </p:blipFill>
        <p:spPr>
          <a:xfrm>
            <a:off x="2411280" y="260280"/>
            <a:ext cx="455472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оле 4"/>
          <p:cNvSpPr/>
          <p:nvPr/>
        </p:nvSpPr>
        <p:spPr>
          <a:xfrm>
            <a:off x="900000" y="1197000"/>
            <a:ext cx="741708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"Мы должны быть благодарны сыновьям нашей великой матери – Древней Руси"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Д. Лихаче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3" descr="slide0003_image005"/>
          <p:cNvPicPr/>
          <p:nvPr/>
        </p:nvPicPr>
        <p:blipFill>
          <a:blip r:embed="rId1"/>
          <a:stretch/>
        </p:blipFill>
        <p:spPr>
          <a:xfrm>
            <a:off x="2035080" y="271440"/>
            <a:ext cx="507204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3" descr="slide0006_image007"/>
          <p:cNvPicPr/>
          <p:nvPr/>
        </p:nvPicPr>
        <p:blipFill>
          <a:blip r:embed="rId1"/>
          <a:stretch/>
        </p:blipFill>
        <p:spPr>
          <a:xfrm>
            <a:off x="896760" y="874800"/>
            <a:ext cx="735048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оле 2"/>
          <p:cNvSpPr/>
          <p:nvPr/>
        </p:nvSpPr>
        <p:spPr>
          <a:xfrm>
            <a:off x="395280" y="836640"/>
            <a:ext cx="8280360" cy="48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</a:t>
            </a:r>
            <a:r>
              <a:rPr b="0" lang="ru-RU" sz="4800" spc="-1" strike="noStrike">
                <a:solidFill>
                  <a:srgbClr val="ffff00"/>
                </a:solidFill>
                <a:latin typeface="Wingdings 3"/>
                <a:ea typeface="Wingdings 3"/>
              </a:rPr>
              <a:t></a:t>
            </a: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 лето, писать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Tahoma"/>
              </a:rPr>
              <a:t>Летопись – это сочинение, где повествование излагается по годичному принципу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0T15:05:06Z</dcterms:created>
  <dc:creator>Victor</dc:creator>
  <dc:description/>
  <dc:language>en-US</dc:language>
  <cp:lastModifiedBy>Admin</cp:lastModifiedBy>
  <dcterms:modified xsi:type="dcterms:W3CDTF">2010-02-18T21:13:53Z</dcterms:modified>
  <cp:revision>4</cp:revision>
  <dc:subject/>
  <dc:title>"Подвиг отрока-киевлянина и хитрость воеводы Претича"</dc:title>
</cp:coreProperties>
</file>