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8A0-5D38-4057-BCE6-544321FB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5CA-51B6-448C-8965-B113A54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125-3299-4687-9E9A-05925460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F0B-7EB1-4949-97B3-C698521D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E26-D1CE-47DA-BE97-9FE63896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5A4-FCB5-4EBC-9E50-1BFC3AF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F20-EA61-492D-B7ED-D4634122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E33-C820-4E73-BF87-FB97930D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B8C-62E4-479E-B65A-D66571C1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BB5-E0F3-468E-AF48-2C87869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F0F-96DC-4054-A4A1-AF15E935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A35-0DFA-4221-BD0C-EE333BDA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40D5-E51C-4A93-B6C0-EA6C82F1D4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"Подвиг отрока-киевлянина и хитрость воеводы Претича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и летописного с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slide0005_image003"/>
          <p:cNvPicPr/>
          <p:nvPr/>
        </p:nvPicPr>
        <p:blipFill>
          <a:blip r:embed="rId1"/>
          <a:stretch/>
        </p:blipFill>
        <p:spPr>
          <a:xfrm>
            <a:off x="2411280" y="260280"/>
            <a:ext cx="4554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4"/>
          <p:cNvSpPr/>
          <p:nvPr/>
        </p:nvSpPr>
        <p:spPr>
          <a:xfrm>
            <a:off x="900000" y="1197000"/>
            <a:ext cx="74170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"Мы должны быть благодарны сыновьям нашей великой матери – Древней Руси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. Лиха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slide0003_image005"/>
          <p:cNvPicPr/>
          <p:nvPr/>
        </p:nvPicPr>
        <p:blipFill>
          <a:blip r:embed="rId1"/>
          <a:stretch/>
        </p:blipFill>
        <p:spPr>
          <a:xfrm>
            <a:off x="2035080" y="271440"/>
            <a:ext cx="5072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lide0006_image007"/>
          <p:cNvPicPr/>
          <p:nvPr/>
        </p:nvPicPr>
        <p:blipFill>
          <a:blip r:embed="rId1"/>
          <a:stretch/>
        </p:blipFill>
        <p:spPr>
          <a:xfrm>
            <a:off x="896760" y="874800"/>
            <a:ext cx="7350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е 2"/>
          <p:cNvSpPr/>
          <p:nvPr/>
        </p:nvSpPr>
        <p:spPr>
          <a:xfrm>
            <a:off x="395280" y="836640"/>
            <a:ext cx="828036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</a:t>
            </a:r>
            <a:r>
              <a:rPr b="0" lang="ru-RU" sz="4800" spc="-1" strike="noStrike">
                <a:solidFill>
                  <a:srgbClr val="ffff00"/>
                </a:solidFill>
                <a:latin typeface="Wingdings 3"/>
                <a:ea typeface="Wingdings 3"/>
              </a:rPr>
              <a:t>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лето, писа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– это сочинение, где повествование излагается по годичному принцип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05:06Z</dcterms:created>
  <dc:creator>Victor</dc:creator>
  <dc:description/>
  <dc:language>en-US</dc:language>
  <cp:lastModifiedBy>Admin</cp:lastModifiedBy>
  <dcterms:modified xsi:type="dcterms:W3CDTF">2010-02-18T21:13:53Z</dcterms:modified>
  <cp:revision>4</cp:revision>
  <dc:subject/>
  <dc:title>"Подвиг отрока-киевлянина и хитрость воеводы Претича"</dc:title>
</cp:coreProperties>
</file>