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1EA-0EF1-4790-A76C-D6325AC1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922-7A82-405E-AA3C-4E83B3DF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362-396A-40A8-A791-087988A6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6B8-6AD5-4DDE-B43A-AAEBAFF2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44CE-3E75-4EF0-8D3E-2A6896C8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CC6-0D4D-417B-B861-048A2C52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C6B-C856-4205-A9F8-561694CA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9CC-6213-4127-8694-5FA8D79F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DFC-F225-4961-8726-159B8997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8F9-8850-4933-9648-85FB4809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B11-808B-4192-A1F9-EE72A64E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D40-3532-4163-A55C-240716F1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909C-2CE3-4397-9F62-7C9900A7C7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"Подвиг отрока-киевлянина и хитрость воеводы Претича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рои летописного сказ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slide0005_image003"/>
          <p:cNvPicPr/>
          <p:nvPr/>
        </p:nvPicPr>
        <p:blipFill>
          <a:blip r:embed="rId1"/>
          <a:stretch/>
        </p:blipFill>
        <p:spPr>
          <a:xfrm>
            <a:off x="2411280" y="260280"/>
            <a:ext cx="45547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4"/>
          <p:cNvSpPr/>
          <p:nvPr/>
        </p:nvSpPr>
        <p:spPr>
          <a:xfrm>
            <a:off x="900000" y="1197000"/>
            <a:ext cx="74170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"Мы должны быть благодарны сыновьям нашей великой матери – Древней Руси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. Лихач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slide0003_image005"/>
          <p:cNvPicPr/>
          <p:nvPr/>
        </p:nvPicPr>
        <p:blipFill>
          <a:blip r:embed="rId1"/>
          <a:stretch/>
        </p:blipFill>
        <p:spPr>
          <a:xfrm>
            <a:off x="2035080" y="271440"/>
            <a:ext cx="50720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slide0006_image007"/>
          <p:cNvPicPr/>
          <p:nvPr/>
        </p:nvPicPr>
        <p:blipFill>
          <a:blip r:embed="rId1"/>
          <a:stretch/>
        </p:blipFill>
        <p:spPr>
          <a:xfrm>
            <a:off x="896760" y="874800"/>
            <a:ext cx="7350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е 2"/>
          <p:cNvSpPr/>
          <p:nvPr/>
        </p:nvSpPr>
        <p:spPr>
          <a:xfrm>
            <a:off x="395280" y="836640"/>
            <a:ext cx="8280360" cy="48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</a:t>
            </a:r>
            <a:r>
              <a:rPr b="0" lang="ru-RU" sz="4800" spc="-1" strike="noStrike">
                <a:solidFill>
                  <a:srgbClr val="ffff00"/>
                </a:solidFill>
                <a:latin typeface="Wingdings 3"/>
                <a:ea typeface="Wingdings 3"/>
              </a:rPr>
              <a:t>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 лето, писат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– это сочинение, где повествование излагается по годичному принципу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05:06Z</dcterms:created>
  <dc:creator>Victor</dc:creator>
  <dc:description/>
  <dc:language>en-US</dc:language>
  <cp:lastModifiedBy>Admin</cp:lastModifiedBy>
  <dcterms:modified xsi:type="dcterms:W3CDTF">2010-02-18T21:13:53Z</dcterms:modified>
  <cp:revision>4</cp:revision>
  <dc:subject/>
  <dc:title>"Подвиг отрока-киевлянина и хитрость воеводы Претича"</dc:title>
</cp:coreProperties>
</file>