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EB36-7105-4E3B-914B-56F51EAF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9B6-419E-4992-8723-17E6FE5A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B64-A9A3-46B5-B741-74DAB2FC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C5E-C363-4BC6-9066-0A91A3ED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2D6-6100-4FE2-885C-1BF6C36A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CC3-47BE-4175-AFB6-7341C5B3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4A3-0233-4D6F-9C43-A8C9E658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EDDC-0C86-4F26-88F4-473F3B17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C95-1BC7-4939-93A1-9907D08A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6E7-9222-4487-A817-AE737EEF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A3DA-F2B5-4479-B8F9-F9993D18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007D-AD0B-479F-B86A-A92FB600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598D-BA20-43BE-9963-4EDFCB3881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"Подвиг отрока-киевлянина и хитрость воеводы Претича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рои летописного сказ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slide0005_image003"/>
          <p:cNvPicPr/>
          <p:nvPr/>
        </p:nvPicPr>
        <p:blipFill>
          <a:blip r:embed="rId1"/>
          <a:stretch/>
        </p:blipFill>
        <p:spPr>
          <a:xfrm>
            <a:off x="2411280" y="260280"/>
            <a:ext cx="455472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4"/>
          <p:cNvSpPr/>
          <p:nvPr/>
        </p:nvSpPr>
        <p:spPr>
          <a:xfrm>
            <a:off x="900000" y="1197000"/>
            <a:ext cx="74170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"Мы должны быть благодарны сыновьям нашей великой матери – Древней Руси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Д. Лихаче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slide0003_image005"/>
          <p:cNvPicPr/>
          <p:nvPr/>
        </p:nvPicPr>
        <p:blipFill>
          <a:blip r:embed="rId1"/>
          <a:stretch/>
        </p:blipFill>
        <p:spPr>
          <a:xfrm>
            <a:off x="2035080" y="271440"/>
            <a:ext cx="507204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slide0006_image007"/>
          <p:cNvPicPr/>
          <p:nvPr/>
        </p:nvPicPr>
        <p:blipFill>
          <a:blip r:embed="rId1"/>
          <a:stretch/>
        </p:blipFill>
        <p:spPr>
          <a:xfrm>
            <a:off x="896760" y="874800"/>
            <a:ext cx="73504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е 2"/>
          <p:cNvSpPr/>
          <p:nvPr/>
        </p:nvSpPr>
        <p:spPr>
          <a:xfrm>
            <a:off x="395280" y="836640"/>
            <a:ext cx="8280360" cy="48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Летопись </a:t>
            </a:r>
            <a:r>
              <a:rPr b="0" lang="ru-RU" sz="4800" spc="-1" strike="noStrike">
                <a:solidFill>
                  <a:srgbClr val="ffff00"/>
                </a:solidFill>
                <a:latin typeface="Wingdings 3"/>
                <a:ea typeface="Wingdings 3"/>
              </a:rPr>
              <a:t></a:t>
            </a: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 лето, писат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Летопись – это сочинение, где повествование излагается по годичному принципу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05:06Z</dcterms:created>
  <dc:creator>Victor</dc:creator>
  <dc:description/>
  <dc:language>en-US</dc:language>
  <cp:lastModifiedBy>Admin</cp:lastModifiedBy>
  <dcterms:modified xsi:type="dcterms:W3CDTF">2010-02-18T21:13:53Z</dcterms:modified>
  <cp:revision>4</cp:revision>
  <dc:subject/>
  <dc:title>"Подвиг отрока-киевлянина и хитрость воеводы Претича"</dc:title>
</cp:coreProperties>
</file>