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0831-11CF-420E-B28B-442CD4EA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9610-9189-43C2-8C25-D6EE29FA9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45A6-07CA-486B-9CC8-FE1DC57E1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8547A-4A0F-481B-A5B2-B1BCC8FF1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A01CE-67B2-4846-A53B-B379D0B78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08884-EA02-4BBA-9A4B-8A7DF370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01F39-EF8A-4662-BB10-E04120423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CCEA9-0F10-4B48-8BAB-F15A2ED17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8A49A-B2BC-4873-BC64-9E0916F4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959F3-25E0-4071-B3A3-160AD5B81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563A-E19F-4F71-A6E3-3CDDB6753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350E-AD06-41E7-ABA2-884E32886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2C182-5A0E-4EA0-AC29-0E4F1475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46002-0A3B-4BC2-87C2-9C685AA8E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089C1-CD66-46BB-814A-957AB5999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B2E0-B415-4AB4-BBDC-B9E15DD8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133E7-96AA-4534-8D72-01663C263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D33ECE-7B48-4465-A365-93BD4DF4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B91CD1-0E9C-4448-9E48-05602BE48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AB9AEB-1E56-4FE9-BF45-ED09ABB23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B24134-18F8-4483-B938-469BA2E3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8F903C-2911-4436-A6AB-1EDC0E1B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9FE3-7D6C-4304-A4EF-ABC6653C2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2425EB-A63C-4535-8F7F-AE2BF50DC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05E34A-A84B-4D7F-B2C6-D0FD3E718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2DC8B-2417-4B7B-B01E-7BA881F7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373ADB-C5A7-4EDA-ACE3-60824D12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DF011-E9DD-41EE-AD3D-0BB83EAA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52070-CDB8-4CFC-A6D0-A4F39EAB4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BD4AA-1C0B-4E55-BD60-449328B8C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C45DF2-EB71-49E5-AA6E-4FFBAE81C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2B81A-159B-4996-BE05-00414EDCA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054F8-D533-4CE3-A966-CE2118B63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A1FB-3793-44F5-BADA-2D47485F5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3C97AD-6A06-4161-A417-1807C38AD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47A21-B2D0-4985-873A-40044B9B6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D8E94E-B193-433F-BB40-E6C7D4654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153B74-7A49-41C2-B0B5-65528E18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22489D-8B5E-40A7-8641-0BA28936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C5217-50E3-47AD-BFB1-2634CB89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069819-1352-46E9-9D5E-CEFB7D1C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A25C4B-5AD4-4713-81F7-DCA60EF99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AB10B-D39F-4C96-A0AA-0D9C09C34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331D-A341-472C-A7B6-97D2DD48F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6CDC6-E843-4A2B-B940-65B576CF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DFB-DD45-4C76-9E13-BDD9E95D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9D30-C411-400E-9A1C-1B09FD38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E548-BE72-4FE4-8787-F43E231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9F0A2-5E6D-452D-8085-3DF1FB7EE7D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65DC3-4665-4DB7-B910-225FE8DD062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Text Box 11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14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4B4C5-05E1-4B3D-95D7-B622764C22D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5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6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8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9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85D35-838C-4BDE-9E8B-FDF24B3609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6357600" y="4785840"/>
            <a:ext cx="27860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1680" y="21384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Значение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00040" y="1143000"/>
            <a:ext cx="822960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nstantia"/>
              </a:rPr>
              <a:t>Процесс фотосинтеза является основой питания всех живых существ, а также снабжает человечество топливом, волокнами и бесчисленными полезными химическими соединениями. Из диоксида углерода и воды, связанных из воздуха в ходе фотосинтеза, образуется около 90-95% сухого веса урожая. Человек использует около 7% продуктов фотосинтеза в пищу, в качестве корма для животных и в виде топлива и строительных материалов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4" name="Picture 2" descr="C:\Users\Саня\Desktop\polog.jpg"/>
          <p:cNvPicPr/>
          <p:nvPr/>
        </p:nvPicPr>
        <p:blipFill>
          <a:blip r:embed="rId1"/>
          <a:stretch/>
        </p:blipFill>
        <p:spPr>
          <a:xfrm>
            <a:off x="285840" y="4500720"/>
            <a:ext cx="2317680" cy="1738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Users\Саня\Desktop\show_thumbinail.jpeg"/>
          <p:cNvPicPr/>
          <p:nvPr/>
        </p:nvPicPr>
        <p:blipFill>
          <a:blip r:embed="rId2"/>
          <a:stretch/>
        </p:blipFill>
        <p:spPr>
          <a:xfrm>
            <a:off x="2786040" y="4500720"/>
            <a:ext cx="2190600" cy="2071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C:\Users\Саня\Desktop\get_img.jpeg"/>
          <p:cNvPicPr/>
          <p:nvPr/>
        </p:nvPicPr>
        <p:blipFill>
          <a:blip r:embed="rId3"/>
          <a:stretch/>
        </p:blipFill>
        <p:spPr>
          <a:xfrm>
            <a:off x="5214960" y="4500720"/>
            <a:ext cx="1925640" cy="1452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5" descr="C:\Users\Саня\Desktop\100505-1.jpg"/>
          <p:cNvPicPr/>
          <p:nvPr/>
        </p:nvPicPr>
        <p:blipFill>
          <a:blip r:embed="rId4"/>
          <a:stretch/>
        </p:blipFill>
        <p:spPr>
          <a:xfrm>
            <a:off x="7358040" y="4429080"/>
            <a:ext cx="1600200" cy="15922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296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Фотосинтез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2876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99520" indent="-299520" algn="just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500" spc="-1" strike="noStrike">
                <a:solidFill>
                  <a:srgbClr val="000000"/>
                </a:solidFill>
                <a:latin typeface="Constantia"/>
              </a:rPr>
              <a:t>Фотосинтез – </a:t>
            </a:r>
            <a:r>
              <a:rPr b="0" lang="ru-RU" sz="2500" spc="-1" strike="noStrike">
                <a:solidFill>
                  <a:srgbClr val="000000"/>
                </a:solidFill>
                <a:latin typeface="Constantia"/>
              </a:rPr>
              <a:t>процесс превращения углекислого газа и воды в углеводы и кислород под действием энергии солнечного света. Образующиеся углеводы используются в качестве пищи, а кислород поступает в атмосферу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99520" indent="-2995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6" descr="фотосинтез"/>
          <p:cNvPicPr/>
          <p:nvPr/>
        </p:nvPicPr>
        <p:blipFill>
          <a:blip r:embed="rId1"/>
          <a:stretch/>
        </p:blipFill>
        <p:spPr>
          <a:xfrm>
            <a:off x="500040" y="1500120"/>
            <a:ext cx="7921800" cy="2817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00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История открытия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2876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Первым обнаружил, что растения выделяют кислород, английский химик Джозеф Пристли около 1770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17 г. два французских химика, Пельтье и Каванту, выделили из  листьев зеленое вещество и назвали его хлорофиллом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845 г. немецкий физик Роберт Майер утверждеал о том, что зеленые растения преобразуют энергию, солнечного света в химическую энергию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Тимирязев показал, что фотосинтез проходит с наибольшей интенсивностью в тех областях солнечного спектра, где находятся максимумы поглощения хлорофилл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20 в. было установлено, что процесс фотосинтеза начинается на свету в фоторецепторах хлорофиллов, однако многие из последующих стадий могут протекать в темноте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В 1941 американский биохимик Мелвин Калвин показал, что первичный процесс фотосинтеза заключается в фотолизе молекул воды, в результате чего образуются кислород и водород, идущий на восстановление диоксида углерода до органических веществ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spcBef>
                <a:spcPts val="499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0040" y="142920"/>
            <a:ext cx="8229600" cy="738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Где происходит фотосинтез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28760" y="4428720"/>
            <a:ext cx="8229600" cy="24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80000"/>
              </a:lnSpc>
              <a:spcBef>
                <a:spcPts val="751"/>
              </a:spcBef>
              <a:buClr>
                <a:srgbClr val="0bd0d9"/>
              </a:buClr>
              <a:buSzPct val="95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nstantia"/>
              </a:rPr>
              <a:t>Фотосинтез происходит в клетках, содержащих зелёный пигмент – хлорофилл. Это вещество способно поглощать и трансформировать солнечную энергию. У растений хлорофилл содержится в специальных органеллах – хлоропластах.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4" descr="лист"/>
          <p:cNvPicPr/>
          <p:nvPr/>
        </p:nvPicPr>
        <p:blipFill>
          <a:blip r:embed="rId1"/>
          <a:stretch/>
        </p:blipFill>
        <p:spPr>
          <a:xfrm>
            <a:off x="142920" y="928800"/>
            <a:ext cx="2500200" cy="3449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" descr="внутстр листа"/>
          <p:cNvPicPr/>
          <p:nvPr/>
        </p:nvPicPr>
        <p:blipFill>
          <a:blip r:embed="rId2"/>
          <a:stretch/>
        </p:blipFill>
        <p:spPr>
          <a:xfrm>
            <a:off x="2857680" y="1500120"/>
            <a:ext cx="2879640" cy="270504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раст клетка"/>
          <p:cNvPicPr/>
          <p:nvPr/>
        </p:nvPicPr>
        <p:blipFill>
          <a:blip r:embed="rId3"/>
          <a:stretch/>
        </p:blipFill>
        <p:spPr>
          <a:xfrm>
            <a:off x="5857920" y="928800"/>
            <a:ext cx="2881440" cy="2754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77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" dur="770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7" dur="77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14256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Хлоропласты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0" y="1000080"/>
            <a:ext cx="91440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96280" indent="-296280" algn="just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Зелёные пластиды, которые встречаются в клетках растений и водорослей. С их помощью происходит фотосинтез. Хлоропласты содержат хлорофилл. Являются двумембранными органеллами. Под двойной мембраной имеются тилакоиды (мембранные образования, в которых находится электронтранспортная цепь хлоропластов). Тилакоиды высших растений группируются в граны, которые представляют собой стопки сплюснутых и тесно прижатых друг к другу тилакоидов, имеющих форму дисков. Пространство между оболочкой хлоропласта и тилакоидами называется стромой. В строме содержатся хлоропластные молекулы РНК, ДНК, рибосомы, крахмальные зёр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2" descr="C:\Users\Саня\Desktop\800px-Überseemuseum_Bremen_2009_238.JPG"/>
          <p:cNvPicPr/>
          <p:nvPr/>
        </p:nvPicPr>
        <p:blipFill>
          <a:blip r:embed="rId1"/>
          <a:stretch/>
        </p:blipFill>
        <p:spPr>
          <a:xfrm>
            <a:off x="2857680" y="4572000"/>
            <a:ext cx="3160440" cy="210492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Уравнение фотосинтез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6C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 = </a:t>
            </a:r>
            <a:r>
              <a:rPr b="0" lang="ru-RU" sz="80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12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6</a:t>
            </a:r>
            <a:r>
              <a:rPr b="0" lang="en-US" sz="8000" spc="-1" strike="noStrike">
                <a:solidFill>
                  <a:srgbClr val="000000"/>
                </a:solidFill>
                <a:latin typeface="Constantia"/>
              </a:rPr>
              <a:t> + 6O</a:t>
            </a:r>
            <a:r>
              <a:rPr b="0" lang="en-US" sz="40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28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093d4"/>
                </a:solidFill>
                <a:latin typeface="Calibri"/>
              </a:rPr>
              <a:t>2 фазы фотосинтеза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TextBox 3"/>
          <p:cNvSpPr/>
          <p:nvPr/>
        </p:nvSpPr>
        <p:spPr>
          <a:xfrm>
            <a:off x="428760" y="1643040"/>
            <a:ext cx="7643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ветовая фаза (светозависимая) . Световые реакции территориально привязана к пространству, ограниченному тилакоидам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Темновая фаза (не зависящая от света). Проходит в строме хлоропла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" descr="C:\Users\Саня\Desktop\Leaf_1_web.jpg"/>
          <p:cNvPicPr/>
          <p:nvPr/>
        </p:nvPicPr>
        <p:blipFill>
          <a:blip r:embed="rId1"/>
          <a:stretch/>
        </p:blipFill>
        <p:spPr>
          <a:xfrm>
            <a:off x="6524640" y="5143680"/>
            <a:ext cx="2198520" cy="1649160"/>
          </a:xfrm>
          <a:prstGeom prst="rect">
            <a:avLst/>
          </a:prstGeom>
          <a:ln w="0">
            <a:noFill/>
          </a:ln>
        </p:spPr>
      </p:pic>
    </p:spTree>
  </p:cSld>
  <p:transition>
    <p:pull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57120" y="7128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14200" y="1357200"/>
          <a:ext cx="8572680" cy="5245200"/>
        </p:xfrm>
        <a:graphic>
          <a:graphicData uri="http://schemas.openxmlformats.org/drawingml/2006/table">
            <a:tbl>
              <a:tblPr/>
              <a:tblGrid>
                <a:gridCol w="6410520"/>
                <a:gridCol w="2162160"/>
              </a:tblGrid>
              <a:tr h="86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а) хлорофилл –––(свет)–––&gt; хлорофилл* +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)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белки-переносчики ––&gt; на наружную поверхность мембраны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) НАДФ+ + 2H+ + 4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––&gt;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НАДФ·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72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. Фотолиз вод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–––(свет)–––&gt; H+ + OH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+ –––&gt; в протонный резервуар тилакои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H– –––&gt; OH– – </a:t>
                      </a: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 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––&gt; OH –––&gt; H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и 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+ хлорофилл* –––&gt; хлорофилл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– в атмосфер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II. H</a:t>
                      </a:r>
                      <a:r>
                        <a:rPr b="1" lang="ru-RU" sz="20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+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протонного резервуара – источник энергии, необходимой АТФ фазе для синтеза АТФ из АДФ +Ф</a:t>
                      </a:r>
                      <a:r>
                        <a:rPr b="1" lang="ru-RU" sz="20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бразование АТ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7" name="TextBox 4"/>
          <p:cNvSpPr/>
          <p:nvPr/>
        </p:nvSpPr>
        <p:spPr>
          <a:xfrm>
            <a:off x="3092040" y="857160"/>
            <a:ext cx="23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Свет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8" name=""/>
          <p:cNvGraphicFramePr/>
          <p:nvPr/>
        </p:nvGraphicFramePr>
        <p:xfrm>
          <a:off x="428760" y="1785960"/>
          <a:ext cx="8572320" cy="2571840"/>
        </p:xfrm>
        <a:graphic>
          <a:graphicData uri="http://schemas.openxmlformats.org/drawingml/2006/table">
            <a:tbl>
              <a:tblPr/>
              <a:tblGrid>
                <a:gridCol w="6410160"/>
                <a:gridCol w="2162160"/>
              </a:tblGrid>
              <a:tr h="100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цесс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зультаты процессов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7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язывание CO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с пятиуглеродным сахаром рибулёзодифосфатом при использовании АТФ и НАДФ·H</a:t>
                      </a: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бразование глюкоз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771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93d4"/>
                </a:solidFill>
                <a:latin typeface="Calibri"/>
              </a:rPr>
              <a:t>Процесс фотосинтез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Прямоугольник 8"/>
          <p:cNvSpPr/>
          <p:nvPr/>
        </p:nvSpPr>
        <p:spPr>
          <a:xfrm>
            <a:off x="2936520" y="1214280"/>
            <a:ext cx="243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rbel"/>
                <a:ea typeface="Aharoni"/>
              </a:rPr>
              <a:t>Темновая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2" descr="C:\Users\Саня\Desktop\af1e3214922f.jpg"/>
          <p:cNvPicPr/>
          <p:nvPr/>
        </p:nvPicPr>
        <p:blipFill>
          <a:blip r:embed="rId1"/>
          <a:stretch/>
        </p:blipFill>
        <p:spPr>
          <a:xfrm>
            <a:off x="2857680" y="4429080"/>
            <a:ext cx="2869920" cy="2200320"/>
          </a:xfrm>
          <a:prstGeom prst="rect">
            <a:avLst/>
          </a:prstGeom>
          <a:ln w="0">
            <a:noFill/>
          </a:ln>
        </p:spPr>
      </p:pic>
    </p:spTree>
  </p:cSld>
  <p:transition>
    <p:pull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40:33Z</dcterms:created>
  <dc:creator>Алмаз</dc:creator>
  <dc:description/>
  <dc:language>en-US</dc:language>
  <cp:lastModifiedBy>Александр</cp:lastModifiedBy>
  <dcterms:modified xsi:type="dcterms:W3CDTF">2012-03-19T15:43:27Z</dcterms:modified>
  <cp:revision>2</cp:revision>
  <dc:subject/>
  <dc:title>Фотосинтез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608000000000001023620</vt:lpwstr>
  </property>
</Properties>
</file>