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9E04-42CF-4ADE-B4D0-5DF7158D5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CDEA-8628-4B64-89D2-51921DF63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D822-D2F9-4559-8A3C-34423FDAA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B48A-A23F-427F-9F91-9F25A9789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8F239-9E6E-448C-B7E2-3F254B594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473C4-8501-4FFD-9A8B-F68B3FFD2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6B98C-9ECC-4972-934E-500183413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76246-6A1E-475C-9AB3-FBEC8708E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6634C-A27E-4656-BB9F-597AA5265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67100-2F7C-4EEE-9EFE-DE82DBC2E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5EF87-7ECD-434E-A7C7-88333DB5B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BF15-3BAC-4802-808F-3DEB5AFA2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68D06-7EE5-42D2-A450-39E0BD2EC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06C30-3926-4A56-8D36-2B7001F4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211B4-6A62-496A-999A-03FBC3D52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9DEEB-147A-48BC-8D88-05F7F457D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8B455-2B23-42D1-BBAA-AA11C55DF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C3775-010D-4DD1-9ACA-7B9C7552F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65C11-4A2E-4EE4-BD35-20C8B3CCA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6E54C-2AAA-466B-958D-CFEADB424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E853A-D46D-4C02-BCB7-FCE98B0D5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47839-E7E0-433A-9095-251F147C0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B24F-7F0C-4D63-AB61-B40983B66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65DC0-BF19-42F0-BEEA-C4153D8E5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95DDD-CDB0-4EF8-92C9-8A958455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85AC6-8B71-47C0-B9B6-AEB924221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59025-408A-423E-8D18-172B469BB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EC620-ABF7-4F19-8320-84DF2EB51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81809-636C-4DA6-8F40-ABB021D00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75799-5393-40BB-8F1C-07A7CEF2A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7350B-4C45-42A7-99DB-A82AC97FE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BE078-5172-4036-BBA2-740E00858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20AAD-799E-4978-8077-4926E27AC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59EE-071E-48AC-AB72-8F5E590C4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5EE63-30AE-46EB-B6F9-84252857F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7AFA1-9454-4641-AEAA-ECFFA629C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CF036-4057-49A0-A392-82BD71EEE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CDAE9-AC70-4969-8234-C2DED982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B0ADB-E181-40CA-BD5F-8A3AB7B3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6B524-70BB-4BE2-8950-F6820308D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C2459-C01A-477D-A7DA-3AC598756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433A2-A920-4AC1-B0D8-40DF1350D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925F0-B666-4D0D-900F-94CA59057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E636-25A2-433D-988D-854D66766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3DB3-B40B-431B-873E-4021208E8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D021-F222-4BBD-A256-8BEF76D81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A65E-F960-4042-B780-7A9148F14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D376-F652-4611-9D3F-58ED05D2A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42B40-443A-4201-8428-2DBFE4DFF8AC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Text Box 11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Text Box 14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Text Box 11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Text Box 14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6AD83-A8E4-42CA-A458-541CEC0A98C4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Text Box 11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Text Box 14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E37AC-AED8-4237-9A6B-DB5797154029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5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6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8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9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0DFBC-D63F-4F74-88AB-FC329EC631CD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786456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6357600" y="4785840"/>
            <a:ext cx="27860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22960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93d4"/>
                </a:solidFill>
                <a:latin typeface="Calibri"/>
              </a:rPr>
              <a:t>Значение фотосинтез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00040" y="1143000"/>
            <a:ext cx="822960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оцесс фотосинтеза является основой питания всех живых существ, а также снабжает человечество топливом, волокнами и бесчисленными полезными химическими соединениями. Из диоксида углерода и воды, связанных из воздуха в ходе фотосинтеза, образуется около 90-95% сухого веса урожая. Человек использует около 7% продуктов фотосинтеза в пищу, в качестве корма для животных и в виде топлива и строительных материалов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4" name="Picture 2" descr="C:\Users\Саня\Desktop\polog.jpg"/>
          <p:cNvPicPr/>
          <p:nvPr/>
        </p:nvPicPr>
        <p:blipFill>
          <a:blip r:embed="rId1"/>
          <a:stretch/>
        </p:blipFill>
        <p:spPr>
          <a:xfrm>
            <a:off x="285840" y="4500720"/>
            <a:ext cx="2317680" cy="17380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" descr="C:\Users\Саня\Desktop\show_thumbinail.jpeg"/>
          <p:cNvPicPr/>
          <p:nvPr/>
        </p:nvPicPr>
        <p:blipFill>
          <a:blip r:embed="rId2"/>
          <a:stretch/>
        </p:blipFill>
        <p:spPr>
          <a:xfrm>
            <a:off x="2786040" y="4500720"/>
            <a:ext cx="2190600" cy="20714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C:\Users\Саня\Desktop\get_img.jpeg"/>
          <p:cNvPicPr/>
          <p:nvPr/>
        </p:nvPicPr>
        <p:blipFill>
          <a:blip r:embed="rId3"/>
          <a:stretch/>
        </p:blipFill>
        <p:spPr>
          <a:xfrm>
            <a:off x="5214960" y="4500720"/>
            <a:ext cx="1925640" cy="14522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C:\Users\Саня\Desktop\100505-1.jpg"/>
          <p:cNvPicPr/>
          <p:nvPr/>
        </p:nvPicPr>
        <p:blipFill>
          <a:blip r:embed="rId4"/>
          <a:stretch/>
        </p:blipFill>
        <p:spPr>
          <a:xfrm>
            <a:off x="7358040" y="4429080"/>
            <a:ext cx="1600200" cy="1592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93d4"/>
                </a:solidFill>
                <a:latin typeface="Calibri"/>
              </a:rPr>
              <a:t>Фотосинтез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28760" y="44287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ru-RU" sz="2500" spc="-1" strike="noStrike">
                <a:solidFill>
                  <a:srgbClr val="000000"/>
                </a:solidFill>
                <a:latin typeface="Constantia"/>
              </a:rPr>
              <a:t>Фотосинтез – </a:t>
            </a: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процесс превращения углекислого газа и воды в углеводы и кислород под действием энергии солнечного света. Образующиеся углеводы используются в качестве пищи, а кислород поступает в атмосферу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99520" indent="-2995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Picture 6" descr="фотосинтез"/>
          <p:cNvPicPr/>
          <p:nvPr/>
        </p:nvPicPr>
        <p:blipFill>
          <a:blip r:embed="rId1"/>
          <a:stretch/>
        </p:blipFill>
        <p:spPr>
          <a:xfrm>
            <a:off x="500040" y="1500120"/>
            <a:ext cx="7921800" cy="2817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93d4"/>
                </a:solidFill>
                <a:latin typeface="Calibri"/>
              </a:rPr>
              <a:t>История открытия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2876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ервым обнаружил, что растения выделяют кислород, английский химик Джозеф Пристли около 1770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 1817 г. два французских химика, Пельтье и Каванту, выделили из  листьев зеленое вещество и назвали его хлорофиллом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 1845 г. немецкий физик Роберт Майер утверждеал о том, что зеленые растения преобразуют энергию, солнечного света в химическую энергию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Тимирязев показал, что фотосинтез проходит с наибольшей интенсивностью в тех областях солнечного спектра, где находятся максимумы поглощения хлорофилл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 20 в. было установлено, что процесс фотосинтеза начинается на свету в фоторецепторах хлорофиллов, однако многие из последующих стадий могут протекать в темноте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 1941 американский биохимик Мелвин Калвин показал, что первичный процесс фотосинтеза заключается в фотолизе молекул воды, в результате чего образуются кислород и водород, идущий на восстановление диоксида углерода до органических веществ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822960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93d4"/>
                </a:solidFill>
                <a:latin typeface="Calibri"/>
              </a:rPr>
              <a:t>Где происходит фотосинтез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28760" y="4428720"/>
            <a:ext cx="822960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90160" indent="-290160" algn="just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Фотосинтез происходит в клетках, содержащих зелёный пигмент – хлорофилл. Это вещество способно поглощать и трансформировать солнечную энергию. У растений хлорофилл содержится в специальных органеллах – хлоропластах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4" name="Picture 4" descr="лист"/>
          <p:cNvPicPr/>
          <p:nvPr/>
        </p:nvPicPr>
        <p:blipFill>
          <a:blip r:embed="rId1"/>
          <a:stretch/>
        </p:blipFill>
        <p:spPr>
          <a:xfrm>
            <a:off x="142920" y="928800"/>
            <a:ext cx="2500200" cy="34495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внутстр листа"/>
          <p:cNvPicPr/>
          <p:nvPr/>
        </p:nvPicPr>
        <p:blipFill>
          <a:blip r:embed="rId2"/>
          <a:stretch/>
        </p:blipFill>
        <p:spPr>
          <a:xfrm>
            <a:off x="2857680" y="1500120"/>
            <a:ext cx="2879640" cy="27050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раст клетка"/>
          <p:cNvPicPr/>
          <p:nvPr/>
        </p:nvPicPr>
        <p:blipFill>
          <a:blip r:embed="rId3"/>
          <a:stretch/>
        </p:blipFill>
        <p:spPr>
          <a:xfrm>
            <a:off x="5857920" y="928800"/>
            <a:ext cx="2881440" cy="2754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93d4"/>
                </a:solidFill>
                <a:latin typeface="Calibri"/>
              </a:rPr>
              <a:t>Хлоропласты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0" y="1000080"/>
            <a:ext cx="914400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Зелёные пластиды, которые встречаются в клетках растений и водорослей. С их помощью происходит фотосинтез. Хлоропласты содержат хлорофилл. Являются двумембранными органеллами. Под двойной мембраной имеются тилакоиды (мембранные образования, в которых находится электронтранспортная цепь хлоропластов). Тилакоиды высших растений группируются в граны, которые представляют собой стопки сплюснутых и тесно прижатых друг к другу тилакоидов, имеющих форму дисков. Пространство между оболочкой хлоропласта и тилакоидами называется стромой. В строме содержатся хлоропластные молекулы РНК, ДНК, рибосомы, крахмальные зёрна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Picture 2" descr="C:\Users\Саня\Desktop\800px-Überseemuseum_Bremen_2009_238.JPG"/>
          <p:cNvPicPr/>
          <p:nvPr/>
        </p:nvPicPr>
        <p:blipFill>
          <a:blip r:embed="rId1"/>
          <a:stretch/>
        </p:blipFill>
        <p:spPr>
          <a:xfrm>
            <a:off x="2857680" y="4572000"/>
            <a:ext cx="3160440" cy="21049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93d4"/>
                </a:solidFill>
                <a:latin typeface="Calibri"/>
              </a:rPr>
              <a:t>Уравнение фотосинтез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nstantia"/>
              </a:rPr>
              <a:t>6CO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8000" spc="-1" strike="noStrike">
                <a:solidFill>
                  <a:srgbClr val="000000"/>
                </a:solidFill>
                <a:latin typeface="Constantia"/>
              </a:rPr>
              <a:t> + 6H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8000" spc="-1" strike="noStrike">
                <a:solidFill>
                  <a:srgbClr val="000000"/>
                </a:solidFill>
                <a:latin typeface="Constantia"/>
              </a:rPr>
              <a:t>O = </a:t>
            </a:r>
            <a:r>
              <a:rPr b="0" lang="ru-RU" sz="8000" spc="-1" strike="noStrike">
                <a:solidFill>
                  <a:srgbClr val="000000"/>
                </a:solidFill>
                <a:latin typeface="Constantia"/>
              </a:rPr>
              <a:t>=</a:t>
            </a:r>
            <a:r>
              <a:rPr b="0" lang="en-US" sz="80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6</a:t>
            </a:r>
            <a:r>
              <a:rPr b="0" lang="en-US" sz="8000" spc="-1" strike="noStrike">
                <a:solidFill>
                  <a:srgbClr val="000000"/>
                </a:solidFill>
                <a:latin typeface="Constantia"/>
              </a:rPr>
              <a:t>H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12</a:t>
            </a:r>
            <a:r>
              <a:rPr b="0" lang="en-US" sz="8000" spc="-1" strike="noStrike">
                <a:solidFill>
                  <a:srgbClr val="000000"/>
                </a:solidFill>
                <a:latin typeface="Constantia"/>
              </a:rPr>
              <a:t>O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6</a:t>
            </a:r>
            <a:r>
              <a:rPr b="0" lang="en-US" sz="8000" spc="-1" strike="noStrike">
                <a:solidFill>
                  <a:srgbClr val="000000"/>
                </a:solidFill>
                <a:latin typeface="Constantia"/>
              </a:rPr>
              <a:t> + 6O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93d4"/>
                </a:solidFill>
                <a:latin typeface="Calibri"/>
              </a:rPr>
              <a:t>2 фазы фотосинтеза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TextBox 3"/>
          <p:cNvSpPr/>
          <p:nvPr/>
        </p:nvSpPr>
        <p:spPr>
          <a:xfrm>
            <a:off x="428760" y="1643040"/>
            <a:ext cx="76435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Световая фаза (светозависимая) . Световые реакции территориально привязана к пространству, ограниченному тилакоид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Темновая фаза (не зависящая от света). Проходит в строме хлоропла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2" descr="C:\Users\Саня\Desktop\Leaf_1_web.jpg"/>
          <p:cNvPicPr/>
          <p:nvPr/>
        </p:nvPicPr>
        <p:blipFill>
          <a:blip r:embed="rId1"/>
          <a:stretch/>
        </p:blipFill>
        <p:spPr>
          <a:xfrm>
            <a:off x="6524640" y="5143680"/>
            <a:ext cx="2198520" cy="16491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57120" y="7128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93d4"/>
                </a:solidFill>
                <a:latin typeface="Calibri"/>
              </a:rPr>
              <a:t>Процесс фотосинтез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214200" y="1357200"/>
          <a:ext cx="8572680" cy="5245200"/>
        </p:xfrm>
        <a:graphic>
          <a:graphicData uri="http://schemas.openxmlformats.org/drawingml/2006/table">
            <a:tbl>
              <a:tblPr/>
              <a:tblGrid>
                <a:gridCol w="6410520"/>
                <a:gridCol w="2162160"/>
              </a:tblGrid>
              <a:tr h="86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цесс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процесс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. а) хлорофилл –––(свет)–––&gt; хлорофилл* +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белки-переносчики ––&gt; на наружную поверхность мембраны тилакои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 НАДФ+ + 2H+ + 4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e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––&gt; НАДФ·H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ование НАДФ·H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. Фотолиз в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 –––(свет)–––&gt; H+ + OH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+ –––&gt; в протонный резервуар тилакои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H– –––&gt; OH– –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––&gt; OH –––&gt; H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 и O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хлорофилл* –––&gt; хлорофил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в атмосферу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II. H</a:t>
                      </a:r>
                      <a:r>
                        <a:rPr b="1" lang="ru-RU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протонного резервуара – источник энергии, необходимой АТФ фазе для синтеза АТФ из АДФ +Ф</a:t>
                      </a:r>
                      <a:r>
                        <a:rPr b="1" lang="ru-RU" sz="2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разование АТ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TextBox 4"/>
          <p:cNvSpPr/>
          <p:nvPr/>
        </p:nvSpPr>
        <p:spPr>
          <a:xfrm>
            <a:off x="3092040" y="857160"/>
            <a:ext cx="235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  <a:ea typeface="Aharoni"/>
              </a:rPr>
              <a:t>Световая ф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"/>
          <p:cNvGraphicFramePr/>
          <p:nvPr/>
        </p:nvGraphicFramePr>
        <p:xfrm>
          <a:off x="428760" y="1785960"/>
          <a:ext cx="8572320" cy="2571840"/>
        </p:xfrm>
        <a:graphic>
          <a:graphicData uri="http://schemas.openxmlformats.org/drawingml/2006/table">
            <a:tbl>
              <a:tblPr/>
              <a:tblGrid>
                <a:gridCol w="6410160"/>
                <a:gridCol w="2162160"/>
              </a:tblGrid>
              <a:tr h="100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цесс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процесс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язывание CO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с пятиуглеродным сахаром рибулёзодифосфатом при использовании АТФ и НАДФ·H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ование глюкоз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93d4"/>
                </a:solidFill>
                <a:latin typeface="Calibri"/>
              </a:rPr>
              <a:t>Процесс фотосинтез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Прямоугольник 8"/>
          <p:cNvSpPr/>
          <p:nvPr/>
        </p:nvSpPr>
        <p:spPr>
          <a:xfrm>
            <a:off x="2936520" y="1214280"/>
            <a:ext cx="243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  <a:ea typeface="Aharoni"/>
              </a:rPr>
              <a:t>Темновая ф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C:\Users\Саня\Desktop\af1e3214922f.jpg"/>
          <p:cNvPicPr/>
          <p:nvPr/>
        </p:nvPicPr>
        <p:blipFill>
          <a:blip r:embed="rId1"/>
          <a:stretch/>
        </p:blipFill>
        <p:spPr>
          <a:xfrm>
            <a:off x="2857680" y="4429080"/>
            <a:ext cx="2869920" cy="220032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16:40:33Z</dcterms:created>
  <dc:creator>Алмаз</dc:creator>
  <dc:description/>
  <dc:language>en-US</dc:language>
  <cp:lastModifiedBy>Александр</cp:lastModifiedBy>
  <dcterms:modified xsi:type="dcterms:W3CDTF">2012-03-19T15:43:27Z</dcterms:modified>
  <cp:revision>2</cp:revision>
  <dc:subject/>
  <dc:title>Фотосинтез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608000000000001023620</vt:lpwstr>
  </property>
</Properties>
</file>