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AA36-3969-4F39-906B-913939AE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2DC-DCC0-4D24-A007-1A08EFD4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29B-A2FB-47EE-933A-A8C5F3F6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219-FA17-4220-B6FF-8D3E8C9A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4CB9-1601-4D01-832E-526A0FD0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3CC3-687D-49ED-A18E-EDD238F0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8662-6F37-4C92-9513-87ADB558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87F0-6A7E-4BAB-8546-FDC87D64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F28F-A20F-4358-BD59-83F4C725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3021-3A4E-42D9-B835-D84CC783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38A5-BFF6-447F-B471-73F13A64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095-A178-4667-8009-C7395544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B442-8222-4570-8F98-1D83C9EE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63FB-8795-41E7-839F-455ED449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662E-485F-43CE-840D-99EC2A5A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B3AB-2CEC-4E9D-A083-5B84E081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8FFB-2935-4C95-AED8-6205A064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3F7A3-2D1F-453C-BCFB-CEA32F26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9104A-63B4-41AB-8375-30441AC4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8E9A9-52A1-41CB-973E-2C000475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2A367-BF32-42FE-A87B-F9E59572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EC5B9-699D-43C3-9834-849F938D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3EE0-2685-4759-9164-12D11DE9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C6C96-F573-4BD1-8A36-FD84AAF6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9332D-B629-432D-B491-866B4A24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17631-6F37-48A0-ACBE-1A0E094A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C4708-63F9-442D-93B7-A5104671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41AA9-3869-4F7A-88B1-5113B44A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EEBFB-40D1-48D9-9FA5-0BE42D26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24733-E789-4E14-A087-D3C1EBD1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16419-B7EF-44E4-A3C8-8F5F8438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43089-DC50-442B-A812-54FFCE70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77E91-DAF2-4194-BDC9-E90EF9D1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421-047E-4907-A7DA-07103203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6B7E7-9BAC-44EF-B3C9-7629331F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7BD23-AEEC-4B18-A2E7-2DC825AA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A849F-AB8F-42C0-9F03-2EAA5EEF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A497C-67AA-45D4-ABEB-DB023685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CBF5F-3FDE-4086-B964-F37C4270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8C244-546B-4849-A9C7-BB49829B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19ECB-798B-419F-8F05-6519B823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D7B4E-624C-452D-B981-00213262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FC0EA-2E6E-47ED-A27D-ACC3E468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CA62-44F3-4B9F-9C32-6B8286E1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CD1F-7FCF-4306-9D26-A44EF5DC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5E42-EF7D-406B-B899-D42F48CA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E5C0-662E-4845-A9C8-EE0CA859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F9F-ADEE-42CD-848E-06C1073D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5D47-CD72-440F-9AF7-83229D71F0B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A3B7-E147-4C4A-A2CB-8885465B171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6CDF-EF8E-42CE-8A3D-BD4E9584007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7C6E-EAAB-4D18-B014-E7F25CBA304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357600" y="4785840"/>
            <a:ext cx="27860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Значение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14300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цесс фотосинтеза является основой питания всех живых существ, а также снабжает человечество топливом, волокнами и бесчисленными полезными химическими соединениями. Из диоксида углерода и воды, связанных из воздуха в ходе фотосинтеза, образуется около 90-95% сухого веса урожая. Человек использует около 7% продуктов фотосинтеза в пищу, в качестве корма для животных и в виде топлива и строительных материа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C:\Users\Саня\Desktop\polog.jpg"/>
          <p:cNvPicPr/>
          <p:nvPr/>
        </p:nvPicPr>
        <p:blipFill>
          <a:blip r:embed="rId1"/>
          <a:stretch/>
        </p:blipFill>
        <p:spPr>
          <a:xfrm>
            <a:off x="285840" y="4500720"/>
            <a:ext cx="2317680" cy="1738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Users\Саня\Desktop\show_thumbinail.jpeg"/>
          <p:cNvPicPr/>
          <p:nvPr/>
        </p:nvPicPr>
        <p:blipFill>
          <a:blip r:embed="rId2"/>
          <a:stretch/>
        </p:blipFill>
        <p:spPr>
          <a:xfrm>
            <a:off x="2786040" y="4500720"/>
            <a:ext cx="2190600" cy="2071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Users\Саня\Desktop\get_img.jpeg"/>
          <p:cNvPicPr/>
          <p:nvPr/>
        </p:nvPicPr>
        <p:blipFill>
          <a:blip r:embed="rId3"/>
          <a:stretch/>
        </p:blipFill>
        <p:spPr>
          <a:xfrm>
            <a:off x="5214960" y="4500720"/>
            <a:ext cx="1925640" cy="1452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Users\Саня\Desktop\100505-1.jpg"/>
          <p:cNvPicPr/>
          <p:nvPr/>
        </p:nvPicPr>
        <p:blipFill>
          <a:blip r:embed="rId4"/>
          <a:stretch/>
        </p:blipFill>
        <p:spPr>
          <a:xfrm>
            <a:off x="7358040" y="4429080"/>
            <a:ext cx="1600200" cy="159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Фотосинте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760" y="44287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Фотосинтез –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оцесс превращения углекислого газа и воды в углеводы и кислород под действием энергии солнечного света. Образующиеся углеводы используются в качестве пищи, а кислород поступает в атмосферу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99520" indent="-299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6" descr="фотосинтез"/>
          <p:cNvPicPr/>
          <p:nvPr/>
        </p:nvPicPr>
        <p:blipFill>
          <a:blip r:embed="rId1"/>
          <a:stretch/>
        </p:blipFill>
        <p:spPr>
          <a:xfrm>
            <a:off x="500040" y="1500120"/>
            <a:ext cx="7921800" cy="281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История открыт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876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вым обнаружил, что растения выделяют кислород, английский химик Джозеф Пристли около 177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17 г. два французских химика, Пельтье и Каванту, выделили из  листьев зеленое вещество и назвали его хлорофилл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45 г. немецкий физик Роберт Майер утверждеал о том, что зеленые растения преобразуют энергию, солнечного света в химическую энерги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имирязев показал, что фотосинтез проходит с наибольшей интенсивностью в тех областях солнечного спектра, где находятся максимумы поглощения хлорофил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20 в. было установлено, что процесс фотосинтеза начинается на свету в фоторецепторах хлорофиллов, однако многие из последующих стадий могут протекать в темнот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941 американский биохимик Мелвин Калвин показал, что первичный процесс фотосинтеза заключается в фотолизе молекул воды, в результате чего образуются кислород и водород, идущий на восстановление диоксида углерода до органических вещест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Где происходит фотосинте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8760" y="44287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Фотосинтез происходит в клетках, содержащих зелёный пигмент – хлорофилл. Это вещество способно поглощать и трансформировать солнечную энергию. У растений хлорофилл содержится в специальных органеллах – хлоропластах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лист"/>
          <p:cNvPicPr/>
          <p:nvPr/>
        </p:nvPicPr>
        <p:blipFill>
          <a:blip r:embed="rId1"/>
          <a:stretch/>
        </p:blipFill>
        <p:spPr>
          <a:xfrm>
            <a:off x="142920" y="928800"/>
            <a:ext cx="2500200" cy="3449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внутстр листа"/>
          <p:cNvPicPr/>
          <p:nvPr/>
        </p:nvPicPr>
        <p:blipFill>
          <a:blip r:embed="rId2"/>
          <a:stretch/>
        </p:blipFill>
        <p:spPr>
          <a:xfrm>
            <a:off x="2857680" y="1500120"/>
            <a:ext cx="2879640" cy="270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раст клетка"/>
          <p:cNvPicPr/>
          <p:nvPr/>
        </p:nvPicPr>
        <p:blipFill>
          <a:blip r:embed="rId3"/>
          <a:stretch/>
        </p:blipFill>
        <p:spPr>
          <a:xfrm>
            <a:off x="5857920" y="928800"/>
            <a:ext cx="2881440" cy="275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Хлороплас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000080"/>
            <a:ext cx="91440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елёные пластиды, которые встречаются в клетках растений и водорослей. С их помощью происходит фотосинтез. Хлоропласты содержат хлорофилл. Являются двумембранными органеллами. Под двойной мембраной имеются тилакоиды (мембранные образования, в которых находится электронтранспортная цепь хлоропластов). Тилакоиды высших растений группируются в граны, которые представляют собой стопки сплюснутых и тесно прижатых друг к другу тилакоидов, имеющих форму дисков. Пространство между оболочкой хлоропласта и тилакоидами называется стромой. В строме содержатся хлоропластные молекулы РНК, ДНК, рибосомы, крахмальные зёр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C:\Users\Саня\Desktop\800px-Überseemuseum_Bremen_2009_238.JPG"/>
          <p:cNvPicPr/>
          <p:nvPr/>
        </p:nvPicPr>
        <p:blipFill>
          <a:blip r:embed="rId1"/>
          <a:stretch/>
        </p:blipFill>
        <p:spPr>
          <a:xfrm>
            <a:off x="2857680" y="4572000"/>
            <a:ext cx="3160440" cy="21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Уравнение фотосинте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6C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 = </a:t>
            </a:r>
            <a:r>
              <a:rPr b="0" lang="ru-RU" sz="80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2 фазы фотосинтез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28760" y="1643040"/>
            <a:ext cx="7643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ветовая фаза (светозависимая) . Световые реакции территориально привязана к пространству, ограниченному тилакоид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Темновая фаза (не зависящая от света). Проходит в строме хлоропл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Users\Саня\Desktop\Leaf_1_web.jpg"/>
          <p:cNvPicPr/>
          <p:nvPr/>
        </p:nvPicPr>
        <p:blipFill>
          <a:blip r:embed="rId1"/>
          <a:stretch/>
        </p:blipFill>
        <p:spPr>
          <a:xfrm>
            <a:off x="6524640" y="5143680"/>
            <a:ext cx="2198520" cy="1649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71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14200" y="1357200"/>
          <a:ext cx="8572680" cy="5245200"/>
        </p:xfrm>
        <a:graphic>
          <a:graphicData uri="http://schemas.openxmlformats.org/drawingml/2006/table">
            <a:tbl>
              <a:tblPr/>
              <a:tblGrid>
                <a:gridCol w="6410520"/>
                <a:gridCol w="2162160"/>
              </a:tblGrid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а) хлорофилл –––(свет)–––&gt; хлорофилл* +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белки-переносчики ––&gt; на наружную поверхность мембраны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НАДФ+ + 2H+ + 4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––&gt;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 Фотолиз в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–––(свет)–––&gt; H+ + OH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+ –––&gt; в протонный резервуар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– –––&gt; OH– –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––&gt; OH –––&gt; 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и 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хлорофилл* –––&gt; хлорофил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в атмосфер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. H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отонного резервуара – источник энергии, необходимой АТФ фазе для синтеза АТФ из АДФ +Ф</a:t>
                      </a:r>
                      <a:r>
                        <a:rPr b="1" lang="ru-RU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ование АТ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Box 4"/>
          <p:cNvSpPr/>
          <p:nvPr/>
        </p:nvSpPr>
        <p:spPr>
          <a:xfrm>
            <a:off x="3092040" y="85716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Свет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428760" y="1785960"/>
          <a:ext cx="8572320" cy="2571840"/>
        </p:xfrm>
        <a:graphic>
          <a:graphicData uri="http://schemas.openxmlformats.org/drawingml/2006/table">
            <a:tbl>
              <a:tblPr/>
              <a:tblGrid>
                <a:gridCol w="6410160"/>
                <a:gridCol w="216216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ывание CO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пятиуглеродным сахаром рибулёзодифосфатом при использовании АТФ и НАДФ·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глюк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2936520" y="12142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Темн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Users\Саня\Desktop\af1e3214922f.jpg"/>
          <p:cNvPicPr/>
          <p:nvPr/>
        </p:nvPicPr>
        <p:blipFill>
          <a:blip r:embed="rId1"/>
          <a:stretch/>
        </p:blipFill>
        <p:spPr>
          <a:xfrm>
            <a:off x="2857680" y="4429080"/>
            <a:ext cx="2869920" cy="2200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6:40:33Z</dcterms:created>
  <dc:creator>Алмаз</dc:creator>
  <dc:description/>
  <dc:language>en-US</dc:language>
  <cp:lastModifiedBy>Александр</cp:lastModifiedBy>
  <dcterms:modified xsi:type="dcterms:W3CDTF">2012-03-19T15:43:27Z</dcterms:modified>
  <cp:revision>2</cp:revision>
  <dc:subject/>
  <dc:title>Фотосинте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8000000000001023620</vt:lpwstr>
  </property>
</Properties>
</file>