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7E6-023A-456F-B84E-9F8A3499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87BD-8CB4-4C08-8340-7D314DE1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A67-C44C-4451-8E82-B9A351D6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DF9-8C00-49DC-938C-5204ED9A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48E7-BAA9-4D70-9C73-271FEDB7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3F35-836F-419E-B323-1304553A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E07A-60A7-462C-99F5-CFB300E4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8F41-D327-4D26-BFFD-1CF14CC7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E31E-83A0-4798-A8A3-7AAC2BE2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CD81-D337-45AB-8CE2-3DE16C14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E7B4-34DE-4E81-B8F6-B8BE6FB1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385-E51C-43DC-A6FE-09E5C337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A220-F39B-49CA-B6E9-45BA6738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0E6B-D91F-4D25-B99A-0178CE17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C6D5-4135-4CAB-A31B-1286E06B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C6AE-B92C-4BD1-8998-E525061C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A4B4-AFD6-4741-8551-7F8B9540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035F6-137D-4437-9191-A7ED6D7E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3B55F-3AE4-4069-AD94-DEE37AAD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E4F4F-8835-4005-8CF0-5EC48D8C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03877-7B55-4920-A37B-22BE24F1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A5C8C-6B1C-48D1-B0A8-86A2F299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979-AB62-4FD5-A8F3-D9FE93B8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2611F-A428-4994-AB1E-F30B2478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FBF3A-FB5B-4B4B-B1F8-3AA55D9F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D7059-D46F-4964-A371-2274534F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1331C-9A2E-4FCA-9CEB-FEE4AD16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247A7-D5C7-461D-BFD6-71BDDC31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9887F-275B-40B3-A64E-BDE541AE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319F1-CA9D-4186-AE92-2350153E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A4DDB-DBBF-443C-9C71-AD6EEEE1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F1EAE-CE59-4A82-AD24-0A104390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F90B5-6136-4D54-9F03-A7F183D4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E44C-5132-45F1-B599-15C025AC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4D441-6BAF-44A9-B21A-5D71B049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F3450-A8A2-49F4-B69A-952C7081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4E81A-CF53-4E60-9A63-E5D63231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7DB01-6027-4AFD-997F-58B468CE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92CB1-0734-41DB-BA54-53C53265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3F42E-F364-4668-A8A0-E1EFA263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C783E-CB72-4DE0-95E8-83CAEDEB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27FB4-E3B5-41F0-95DE-0E835F2E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6BE0A-07C3-409A-83EE-8B207C62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BF1-3811-465E-BC1F-CF99E4FE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1866-5E47-48C4-87BC-B3B81B13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CE9-414F-41C0-A063-6C7C8A2F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40B4-C158-4C67-B6A5-AF632B91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F08-AC8B-41C2-BC26-62E1D7E1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FFAA-D86C-459A-BA29-72000C9E16A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C36F-8FD0-4504-8D27-3855B9C7928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F309-7259-415C-92CE-F897A2EED73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D33C-4EF8-48A5-8B5D-89FA34751AB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357600" y="4785840"/>
            <a:ext cx="27860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Значение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1430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цесс фотосинтеза является основой питания всех живых существ, а также снабжает человечество топливом, волокнами и бесчисленными полезными химическими соединениями. Из диоксида углерода и воды, связанных из воздуха в ходе фотосинтеза, образуется около 90-95% сухого веса урожая. Человек использует около 7% продуктов фотосинтеза в пищу, в качестве корма для животных и в виде топлива и строительных материа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C:\Users\Саня\Desktop\polog.jpg"/>
          <p:cNvPicPr/>
          <p:nvPr/>
        </p:nvPicPr>
        <p:blipFill>
          <a:blip r:embed="rId1"/>
          <a:stretch/>
        </p:blipFill>
        <p:spPr>
          <a:xfrm>
            <a:off x="285840" y="4500720"/>
            <a:ext cx="2317680" cy="1738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Users\Саня\Desktop\show_thumbinail.jpeg"/>
          <p:cNvPicPr/>
          <p:nvPr/>
        </p:nvPicPr>
        <p:blipFill>
          <a:blip r:embed="rId2"/>
          <a:stretch/>
        </p:blipFill>
        <p:spPr>
          <a:xfrm>
            <a:off x="2786040" y="4500720"/>
            <a:ext cx="2190600" cy="2071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Users\Саня\Desktop\get_img.jpeg"/>
          <p:cNvPicPr/>
          <p:nvPr/>
        </p:nvPicPr>
        <p:blipFill>
          <a:blip r:embed="rId3"/>
          <a:stretch/>
        </p:blipFill>
        <p:spPr>
          <a:xfrm>
            <a:off x="5214960" y="4500720"/>
            <a:ext cx="1925640" cy="1452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Саня\Desktop\100505-1.jpg"/>
          <p:cNvPicPr/>
          <p:nvPr/>
        </p:nvPicPr>
        <p:blipFill>
          <a:blip r:embed="rId4"/>
          <a:stretch/>
        </p:blipFill>
        <p:spPr>
          <a:xfrm>
            <a:off x="7358040" y="4429080"/>
            <a:ext cx="1600200" cy="159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Фотосинте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44287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Фотосинтез –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оцесс превращения углекислого газа и воды в углеводы и кислород под действием энергии солнечного света. Образующиеся углеводы используются в качестве пищи, а кислород поступает в атмосферу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99520" indent="-299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6" descr="фотосинтез"/>
          <p:cNvPicPr/>
          <p:nvPr/>
        </p:nvPicPr>
        <p:blipFill>
          <a:blip r:embed="rId1"/>
          <a:stretch/>
        </p:blipFill>
        <p:spPr>
          <a:xfrm>
            <a:off x="500040" y="1500120"/>
            <a:ext cx="7921800" cy="281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История открыт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вым обнаружил, что растения выделяют кислород, английский химик Джозеф Пристли около 177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17 г. два французских химика, Пельтье и Каванту, выделили из  листьев зеленое вещество и назвали его хлорофилл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45 г. немецкий физик Роберт Майер утверждеал о том, что зеленые растения преобразуют энергию, солнечного света в химическую энерг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имирязев показал, что фотосинтез проходит с наибольшей интенсивностью в тех областях солнечного спектра, где находятся максимумы поглощения хлорофил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20 в. было установлено, что процесс фотосинтеза начинается на свету в фоторецепторах хлорофиллов, однако многие из последующих стадий могут протекать в темнот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941 американский биохимик Мелвин Калвин показал, что первичный процесс фотосинтеза заключается в фотолизе молекул воды, в результате чего образуются кислород и водород, идущий на восстановление диоксида углерода до органических вещест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Где происходит фотосинте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8760" y="44287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Фотосинтез происходит в клетках, содержащих зелёный пигмент – хлорофилл. Это вещество способно поглощать и трансформировать солнечную энергию. У растений хлорофилл содержится в специальных органеллах – хлоропластах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лист"/>
          <p:cNvPicPr/>
          <p:nvPr/>
        </p:nvPicPr>
        <p:blipFill>
          <a:blip r:embed="rId1"/>
          <a:stretch/>
        </p:blipFill>
        <p:spPr>
          <a:xfrm>
            <a:off x="142920" y="928800"/>
            <a:ext cx="2500200" cy="3449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внутстр листа"/>
          <p:cNvPicPr/>
          <p:nvPr/>
        </p:nvPicPr>
        <p:blipFill>
          <a:blip r:embed="rId2"/>
          <a:stretch/>
        </p:blipFill>
        <p:spPr>
          <a:xfrm>
            <a:off x="2857680" y="1500120"/>
            <a:ext cx="2879640" cy="270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раст клетка"/>
          <p:cNvPicPr/>
          <p:nvPr/>
        </p:nvPicPr>
        <p:blipFill>
          <a:blip r:embed="rId3"/>
          <a:stretch/>
        </p:blipFill>
        <p:spPr>
          <a:xfrm>
            <a:off x="5857920" y="928800"/>
            <a:ext cx="288144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Хлороплас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000080"/>
            <a:ext cx="91440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елёные пластиды, которые встречаются в клетках растений и водорослей. С их помощью происходит фотосинтез. Хлоропласты содержат хлорофилл. Являются двумембранными органеллами. Под двойной мембраной имеются тилакоиды (мембранные образования, в которых находится электронтранспортная цепь хлоропластов). Тилакоиды высших растений группируются в граны, которые представляют собой стопки сплюснутых и тесно прижатых друг к другу тилакоидов, имеющих форму дисков. Пространство между оболочкой хлоропласта и тилакоидами называется стромой. В строме содержатся хлоропластные молекулы РНК, ДНК, рибосомы, крахмальные зёр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C:\Users\Саня\Desktop\800px-Überseemuseum_Bremen_2009_238.JPG"/>
          <p:cNvPicPr/>
          <p:nvPr/>
        </p:nvPicPr>
        <p:blipFill>
          <a:blip r:embed="rId1"/>
          <a:stretch/>
        </p:blipFill>
        <p:spPr>
          <a:xfrm>
            <a:off x="2857680" y="4572000"/>
            <a:ext cx="3160440" cy="21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Уравнение фотосинте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6C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 = </a:t>
            </a:r>
            <a:r>
              <a:rPr b="0" lang="ru-RU" sz="80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2 фазы фотосинтез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28760" y="1643040"/>
            <a:ext cx="7643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ветовая фаза (светозависимая) . Световые реакции территориально привязана к пространству, ограниченному тилакоид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емновая фаза (не зависящая от света). Проходит в строме хлоропл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Users\Саня\Desktop\Leaf_1_web.jpg"/>
          <p:cNvPicPr/>
          <p:nvPr/>
        </p:nvPicPr>
        <p:blipFill>
          <a:blip r:embed="rId1"/>
          <a:stretch/>
        </p:blipFill>
        <p:spPr>
          <a:xfrm>
            <a:off x="6524640" y="5143680"/>
            <a:ext cx="2198520" cy="1649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71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14200" y="1357200"/>
          <a:ext cx="8572680" cy="5245200"/>
        </p:xfrm>
        <a:graphic>
          <a:graphicData uri="http://schemas.openxmlformats.org/drawingml/2006/table">
            <a:tbl>
              <a:tblPr/>
              <a:tblGrid>
                <a:gridCol w="6410520"/>
                <a:gridCol w="2162160"/>
              </a:tblGrid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а) хлорофилл –––(свет)–––&gt; хлорофилл* +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белки-переносчики ––&gt; на наружную поверхность мембраны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НАДФ+ + 2H+ + 4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––&gt;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Фотолиз в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–––(свет)–––&gt; H+ + OH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+ –––&gt; в протонный резервуар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– –––&gt; OH– –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––&gt; OH –––&gt; 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и 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хлорофилл* –––&gt; хлорофил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в атмосфер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 H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отонного резервуара – источник энергии, необходимой АТФ фазе для синтеза АТФ из АДФ +Ф</a:t>
                      </a:r>
                      <a:r>
                        <a:rPr b="1" lang="ru-RU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ование АТ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Box 4"/>
          <p:cNvSpPr/>
          <p:nvPr/>
        </p:nvSpPr>
        <p:spPr>
          <a:xfrm>
            <a:off x="3092040" y="85716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Свет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28760" y="1785960"/>
          <a:ext cx="8572320" cy="2571840"/>
        </p:xfrm>
        <a:graphic>
          <a:graphicData uri="http://schemas.openxmlformats.org/drawingml/2006/table">
            <a:tbl>
              <a:tblPr/>
              <a:tblGrid>
                <a:gridCol w="6410160"/>
                <a:gridCol w="216216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ывание CO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пятиуглеродным сахаром рибулёзодифосфатом при использовании АТФ и НАДФ·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глюк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2936520" y="12142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Темн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Users\Саня\Desktop\af1e3214922f.jpg"/>
          <p:cNvPicPr/>
          <p:nvPr/>
        </p:nvPicPr>
        <p:blipFill>
          <a:blip r:embed="rId1"/>
          <a:stretch/>
        </p:blipFill>
        <p:spPr>
          <a:xfrm>
            <a:off x="2857680" y="4429080"/>
            <a:ext cx="2869920" cy="2200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40:33Z</dcterms:created>
  <dc:creator>Алмаз</dc:creator>
  <dc:description/>
  <dc:language>en-US</dc:language>
  <cp:lastModifiedBy>Александр</cp:lastModifiedBy>
  <dcterms:modified xsi:type="dcterms:W3CDTF">2012-03-19T15:43:27Z</dcterms:modified>
  <cp:revision>2</cp:revision>
  <dc:subject/>
  <dc:title>Фотосинте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8000000000001023620</vt:lpwstr>
  </property>
</Properties>
</file>