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9EB5-69FD-4F6B-945D-750C694A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A36-3846-406E-A219-CF9F1FFD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010-A8AD-42A9-B33F-A583F64A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AC83-3AD2-4E71-A8B5-4D898DA1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C064-B4E3-4271-B501-AAB95796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04A2-090A-4694-B40B-22BD9176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919C-946C-4EAC-8F65-8AC816F5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8C6C-5681-4255-A36F-05AF28EB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546B-C659-4B17-9EF7-E4A01E73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4915-27AF-4A27-94D5-62540213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7016-E311-4425-832B-D36D6B7D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2C19-1551-4534-8C69-1CF8E969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C2C0-1385-47C9-A113-FC408011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1FA1-9838-4C4F-AD1B-8AA59A7B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0DC7-BA94-4368-AAC9-81496892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A8D5-4CFE-41E7-A397-0FCC95A5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882B-704F-4898-B1EF-09DFE608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55A1C-EE13-4D51-A96C-FA5B1C42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DBC4A-B217-4A83-845E-67CD54A2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D16CA-36B7-4C91-99CB-1057B0D4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73E84-29F6-4DF4-AB34-BDF7AABE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82823-FA1A-4606-83B9-1F5107ED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74E-6030-4089-A05B-6416428A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60639-8C86-4887-8CEC-6D3AE796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CB44B-0D36-4801-961D-414CAB71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E203C-1897-4AD5-A990-59D893C3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CBB59-014D-4613-BE29-476883E9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CFC82-7018-4C92-9A96-BB02D685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A6182-F596-436F-AA72-3C08DDAD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4DA17-EEC0-4DD5-A30D-5551FAD0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85FEB-50D2-4A67-961F-FB526EA4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4CE90-A460-4783-923D-9E388901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198FF-5F0A-4961-B4D2-1F1A7FC3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209-1EA7-4734-B7E5-F221BA13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54D24-B974-483E-9956-717F998D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07F81-4996-4A8A-A97D-513ED29F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3DF2F-C3A9-4DCF-B2BF-1B70A516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15478-0AB7-4679-B133-D17DA932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4ECE7-7562-4AF8-833C-8B0673FB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31B81-8A4B-4A8D-BFF4-F2AE9A16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A56E9-996F-4132-8D38-454E9769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7DF7E-1E52-4598-A99B-E5667B35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2E3CE-771E-4B78-8676-D6B150C3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C22-0472-4494-9652-15E98DA9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8ABB-E097-4D41-9DE2-A1505F57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6F3-77DD-4C05-9F3D-EDBE9737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4694-ADA4-4A17-BD36-F68B9DDC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5134-CF6D-4A56-B308-4DF8B280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F696-E3DE-486C-B54F-3712870D64D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1516-61FE-466F-9398-3CE3584C164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79A2-76E8-4D43-9209-099F6D077BD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49A2-A42B-4A57-A0AC-68BD0F655AE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357600" y="4785840"/>
            <a:ext cx="27860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Значение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14300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цесс фотосинтеза является основой питания всех живых существ, а также снабжает человечество топливом, волокнами и бесчисленными полезными химическими соединениями. Из диоксида углерода и воды, связанных из воздуха в ходе фотосинтеза, образуется около 90-95% сухого веса урожая. Человек использует около 7% продуктов фотосинтеза в пищу, в качестве корма для животных и в виде топлива и строительных материа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C:\Users\Саня\Desktop\polog.jpg"/>
          <p:cNvPicPr/>
          <p:nvPr/>
        </p:nvPicPr>
        <p:blipFill>
          <a:blip r:embed="rId1"/>
          <a:stretch/>
        </p:blipFill>
        <p:spPr>
          <a:xfrm>
            <a:off x="285840" y="4500720"/>
            <a:ext cx="2317680" cy="1738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Users\Саня\Desktop\show_thumbinail.jpeg"/>
          <p:cNvPicPr/>
          <p:nvPr/>
        </p:nvPicPr>
        <p:blipFill>
          <a:blip r:embed="rId2"/>
          <a:stretch/>
        </p:blipFill>
        <p:spPr>
          <a:xfrm>
            <a:off x="2786040" y="4500720"/>
            <a:ext cx="2190600" cy="2071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Users\Саня\Desktop\get_img.jpeg"/>
          <p:cNvPicPr/>
          <p:nvPr/>
        </p:nvPicPr>
        <p:blipFill>
          <a:blip r:embed="rId3"/>
          <a:stretch/>
        </p:blipFill>
        <p:spPr>
          <a:xfrm>
            <a:off x="5214960" y="4500720"/>
            <a:ext cx="1925640" cy="1452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Users\Саня\Desktop\100505-1.jpg"/>
          <p:cNvPicPr/>
          <p:nvPr/>
        </p:nvPicPr>
        <p:blipFill>
          <a:blip r:embed="rId4"/>
          <a:stretch/>
        </p:blipFill>
        <p:spPr>
          <a:xfrm>
            <a:off x="7358040" y="4429080"/>
            <a:ext cx="1600200" cy="159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Фотосинте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760" y="44287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Фотосинтез –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оцесс превращения углекислого газа и воды в углеводы и кислород под действием энергии солнечного света. Образующиеся углеводы используются в качестве пищи, а кислород поступает в атмосферу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99520" indent="-299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6" descr="фотосинтез"/>
          <p:cNvPicPr/>
          <p:nvPr/>
        </p:nvPicPr>
        <p:blipFill>
          <a:blip r:embed="rId1"/>
          <a:stretch/>
        </p:blipFill>
        <p:spPr>
          <a:xfrm>
            <a:off x="500040" y="1500120"/>
            <a:ext cx="7921800" cy="281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История открыт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876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вым обнаружил, что растения выделяют кислород, английский химик Джозеф Пристли около 177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17 г. два французских химика, Пельтье и Каванту, выделили из  листьев зеленое вещество и назвали его хлорофилл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45 г. немецкий физик Роберт Майер утверждеал о том, что зеленые растения преобразуют энергию, солнечного света в химическую энерги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имирязев показал, что фотосинтез проходит с наибольшей интенсивностью в тех областях солнечного спектра, где находятся максимумы поглощения хлорофил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20 в. было установлено, что процесс фотосинтеза начинается на свету в фоторецепторах хлорофиллов, однако многие из последующих стадий могут протекать в темнот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941 американский биохимик Мелвин Калвин показал, что первичный процесс фотосинтеза заключается в фотолизе молекул воды, в результате чего образуются кислород и водород, идущий на восстановление диоксида углерода до органических вещест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Где происходит фотосинте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8760" y="44287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Фотосинтез происходит в клетках, содержащих зелёный пигмент – хлорофилл. Это вещество способно поглощать и трансформировать солнечную энергию. У растений хлорофилл содержится в специальных органеллах – хлоропластах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лист"/>
          <p:cNvPicPr/>
          <p:nvPr/>
        </p:nvPicPr>
        <p:blipFill>
          <a:blip r:embed="rId1"/>
          <a:stretch/>
        </p:blipFill>
        <p:spPr>
          <a:xfrm>
            <a:off x="142920" y="928800"/>
            <a:ext cx="2500200" cy="3449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внутстр листа"/>
          <p:cNvPicPr/>
          <p:nvPr/>
        </p:nvPicPr>
        <p:blipFill>
          <a:blip r:embed="rId2"/>
          <a:stretch/>
        </p:blipFill>
        <p:spPr>
          <a:xfrm>
            <a:off x="2857680" y="1500120"/>
            <a:ext cx="2879640" cy="270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раст клетка"/>
          <p:cNvPicPr/>
          <p:nvPr/>
        </p:nvPicPr>
        <p:blipFill>
          <a:blip r:embed="rId3"/>
          <a:stretch/>
        </p:blipFill>
        <p:spPr>
          <a:xfrm>
            <a:off x="5857920" y="928800"/>
            <a:ext cx="2881440" cy="275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Хлороплас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000080"/>
            <a:ext cx="91440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елёные пластиды, которые встречаются в клетках растений и водорослей. С их помощью происходит фотосинтез. Хлоропласты содержат хлорофилл. Являются двумембранными органеллами. Под двойной мембраной имеются тилакоиды (мембранные образования, в которых находится электронтранспортная цепь хлоропластов). Тилакоиды высших растений группируются в граны, которые представляют собой стопки сплюснутых и тесно прижатых друг к другу тилакоидов, имеющих форму дисков. Пространство между оболочкой хлоропласта и тилакоидами называется стромой. В строме содержатся хлоропластные молекулы РНК, ДНК, рибосомы, крахмальные зёр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C:\Users\Саня\Desktop\800px-Überseemuseum_Bremen_2009_238.JPG"/>
          <p:cNvPicPr/>
          <p:nvPr/>
        </p:nvPicPr>
        <p:blipFill>
          <a:blip r:embed="rId1"/>
          <a:stretch/>
        </p:blipFill>
        <p:spPr>
          <a:xfrm>
            <a:off x="2857680" y="4572000"/>
            <a:ext cx="3160440" cy="21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Уравнение фотосинте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6C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 = </a:t>
            </a:r>
            <a:r>
              <a:rPr b="0" lang="ru-RU" sz="80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2 фазы фотосинтез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28760" y="1643040"/>
            <a:ext cx="7643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ветовая фаза (светозависимая) . Световые реакции территориально привязана к пространству, ограниченному тилакоид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Темновая фаза (не зависящая от света). Проходит в строме хлоропл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Users\Саня\Desktop\Leaf_1_web.jpg"/>
          <p:cNvPicPr/>
          <p:nvPr/>
        </p:nvPicPr>
        <p:blipFill>
          <a:blip r:embed="rId1"/>
          <a:stretch/>
        </p:blipFill>
        <p:spPr>
          <a:xfrm>
            <a:off x="6524640" y="5143680"/>
            <a:ext cx="2198520" cy="1649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71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14200" y="1357200"/>
          <a:ext cx="8572680" cy="5245200"/>
        </p:xfrm>
        <a:graphic>
          <a:graphicData uri="http://schemas.openxmlformats.org/drawingml/2006/table">
            <a:tbl>
              <a:tblPr/>
              <a:tblGrid>
                <a:gridCol w="6410520"/>
                <a:gridCol w="2162160"/>
              </a:tblGrid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а) хлорофилл –––(свет)–––&gt; хлорофилл* +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белки-переносчики ––&gt; на наружную поверхность мембраны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НАДФ+ + 2H+ + 4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––&gt;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 Фотолиз в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–––(свет)–––&gt; H+ + OH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+ –––&gt; в протонный резервуар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– –––&gt; OH– –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––&gt; OH –––&gt; 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и 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хлорофилл* –––&gt; хлорофил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в атмосфер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. H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отонного резервуара – источник энергии, необходимой АТФ фазе для синтеза АТФ из АДФ +Ф</a:t>
                      </a:r>
                      <a:r>
                        <a:rPr b="1" lang="ru-RU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ование АТ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Box 4"/>
          <p:cNvSpPr/>
          <p:nvPr/>
        </p:nvSpPr>
        <p:spPr>
          <a:xfrm>
            <a:off x="3092040" y="85716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Свет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428760" y="1785960"/>
          <a:ext cx="8572320" cy="2571840"/>
        </p:xfrm>
        <a:graphic>
          <a:graphicData uri="http://schemas.openxmlformats.org/drawingml/2006/table">
            <a:tbl>
              <a:tblPr/>
              <a:tblGrid>
                <a:gridCol w="6410160"/>
                <a:gridCol w="216216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ывание CO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пятиуглеродным сахаром рибулёзодифосфатом при использовании АТФ и НАДФ·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глюк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2936520" y="12142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Темн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Users\Саня\Desktop\af1e3214922f.jpg"/>
          <p:cNvPicPr/>
          <p:nvPr/>
        </p:nvPicPr>
        <p:blipFill>
          <a:blip r:embed="rId1"/>
          <a:stretch/>
        </p:blipFill>
        <p:spPr>
          <a:xfrm>
            <a:off x="2857680" y="4429080"/>
            <a:ext cx="2869920" cy="2200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6:40:33Z</dcterms:created>
  <dc:creator>Алмаз</dc:creator>
  <dc:description/>
  <dc:language>en-US</dc:language>
  <cp:lastModifiedBy>Александр</cp:lastModifiedBy>
  <dcterms:modified xsi:type="dcterms:W3CDTF">2012-03-19T15:43:27Z</dcterms:modified>
  <cp:revision>2</cp:revision>
  <dc:subject/>
  <dc:title>Фотосинте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8000000000001023620</vt:lpwstr>
  </property>
</Properties>
</file>