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3051-BD45-4585-BE9F-F0BFDACC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C7B0-7931-4789-A7AD-5036E217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6BB6-EF75-4077-8DF7-C4C763AC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62E-C174-40FB-A4AF-80A27DDD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0F71-F79E-40A6-868F-F7FB7E4B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4800-FCDD-4992-93DE-CA0A4A9C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9820-0C9C-4C8A-9580-02E4376C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975-95AD-42D2-B04B-94688119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F00E-4FD7-421D-895C-455D11C4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68F0-B418-493C-9052-B15F34AA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3379-9E8A-4C25-9C5F-A768C3C5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FE4-8D08-4A94-B657-8294F7EB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10DD-5008-438D-9FA8-884AE0A6E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ория э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уда берутся новые формы живых сист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эмбри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32360" y="692280"/>
            <a:ext cx="3809880" cy="3676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3586320"/>
            <a:ext cx="3024000" cy="282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1752480" cy="1924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195640" y="148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л Бэр: закон зародышевого сх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551664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сцидия: взрослый организм и лич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5813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родыши разн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переходные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935080" cy="1636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32000" y="4365720"/>
            <a:ext cx="2841480" cy="192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140360" y="1197000"/>
            <a:ext cx="2819160" cy="2327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003640" y="4076640"/>
            <a:ext cx="36198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17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Критерии в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333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 – это группа особей, которых отличает общность в морфологии, физиологии, генетике, поведении. Особи внутри одного вида могут свободно скрещиваться и давать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лодовитое потомств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занимают на планете определенную область, называемую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реал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637000"/>
            <a:ext cx="7704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орф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не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т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изи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Эколог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еограф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1970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Изменение научных представлений о происхождении и развитии жизни на Зем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637000"/>
            <a:ext cx="2808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живое единовременно создано некой Высшей Силой и не подвергается изме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Креа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3573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2565360"/>
            <a:ext cx="2808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знь зародилась давным-давно и, в результате естественных процессов, разделилась на огромное количество 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Эволюцион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2539800" cy="3098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35280" y="1197000"/>
            <a:ext cx="4824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работал систематику живых организмов. Систематическое расположение видов дало возможность понять, что есть виды-родственники и виды, характеризующиеся далеким род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я родства между видами – указание на их развитие 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4292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л Линней (1707 - 17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216240" cy="41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651640" y="5373720"/>
            <a:ext cx="31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ан-Батист Ламарк (1774-18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197000"/>
            <a:ext cx="44640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первой эволюционной концепции. Он утверждал, что органы и системы органов животных и растений развиваются, либо деградируют в результате их упражнения или неупраж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м местом его теории было то, что благоприобретенные признаки на самом деле не могут передаваться по наследству: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68360" y="4221000"/>
            <a:ext cx="210348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витие эволюционных предст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140360" y="692280"/>
            <a:ext cx="4846320" cy="426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1125360"/>
            <a:ext cx="37432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ом первой стройной эволюционной концепции был Чарльз Дарвин, написавший по этому поводу книг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 происхождении видов путем естественного отбора или о сохранении благоприятственных пород в борьбе за жиз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58920" y="3573360"/>
            <a:ext cx="1914480" cy="3125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140360" y="5229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рльз Дарвин (1809 - 188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260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Основная логика эволюционного 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125360"/>
            <a:ext cx="22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след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844640"/>
            <a:ext cx="1798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3678120"/>
            <a:ext cx="20876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 организмов к неограниченному размно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229360"/>
            <a:ext cx="1942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граниченность услови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87640" y="1268280"/>
            <a:ext cx="26640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рганизмы отличаются друг от друга и могут передавать свои характерные особенности потомк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4262400"/>
            <a:ext cx="2664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за существ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0360" y="1341360"/>
            <a:ext cx="2872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68360" y="1915920"/>
            <a:ext cx="719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422100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411280" y="4652640"/>
            <a:ext cx="720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43640" y="1557360"/>
            <a:ext cx="2376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живаю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пособ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716360" y="2060280"/>
            <a:ext cx="17272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1916280"/>
            <a:ext cx="792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56360" y="3500280"/>
            <a:ext cx="280836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96360" y="256536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2924280"/>
            <a:ext cx="280800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Естественный от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26028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В итог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1693800"/>
            <a:ext cx="4392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ые системы приспосабливаются к условиям окружающе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ланете Земля существует огромное количество видов живых орг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гут сосуществовать высоко организованные виды и виды с более примитивным уровнем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132000" y="2060640"/>
            <a:ext cx="1008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132000" y="3212640"/>
            <a:ext cx="935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2000" y="3284640"/>
            <a:ext cx="107964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404640"/>
            <a:ext cx="7127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палеонтолог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089" t="1628" r="1268" b="1665"/>
          <a:stretch/>
        </p:blipFill>
        <p:spPr>
          <a:xfrm>
            <a:off x="5076720" y="836640"/>
            <a:ext cx="3382920" cy="424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2766960"/>
            <a:ext cx="3600360" cy="3546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076720" y="537372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еоптери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060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ха в янта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24000" y="404640"/>
            <a:ext cx="84960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Доказательства эволю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Морфологические (сравнительно-анатомическ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2392200" cy="288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8360" y="4508640"/>
            <a:ext cx="23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омологичные и аналогичные орг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559320" cy="1960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35640" y="357336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тав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56360" y="4508640"/>
            <a:ext cx="2457360" cy="1866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573408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ди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4:41:18Z</dcterms:created>
  <dc:creator>Ura</dc:creator>
  <dc:description/>
  <dc:language>en-US</dc:language>
  <cp:lastModifiedBy>ms45</cp:lastModifiedBy>
  <dcterms:modified xsi:type="dcterms:W3CDTF">2006-05-18T09:31:13Z</dcterms:modified>
  <cp:revision>9</cp:revision>
  <dc:subject/>
  <dc:title>Теория эволюции</dc:title>
</cp:coreProperties>
</file>