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1A5-DB63-46C2-AB1E-389EB7FA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D67-F084-4058-8342-3F9BB535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D18-6CCE-47AA-A541-8A6E012C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4D4-9C54-4ECE-A314-37230B10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A23-3EA4-4686-B030-BB339068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4C1-3C00-4DC2-A854-197A075B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E5C-09BF-4696-98BA-BB8139A5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305-9055-4B89-877E-C5742396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A90-CE37-4CF7-A79E-C45F0817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B7E-D516-4296-BA74-8B50C381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426-8B11-4B71-B309-27AD5D70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B84-7937-4C34-9379-5820E1D4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0A93-C71D-4FF5-A6CE-F0B86437F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 э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уда берутся новые формы живых сист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692280"/>
            <a:ext cx="3809880" cy="367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3586320"/>
            <a:ext cx="3024000" cy="282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1752480" cy="1924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95640" y="148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Бэр: закон зародышевого сх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5516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цидия: взрослый организм и лич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581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одыши разн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ереходны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935080" cy="163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2841480" cy="192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2819160" cy="2327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03640" y="4076640"/>
            <a:ext cx="3619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7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Критерии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 – это группа особей, которых отличает общность в морфологии, физиологии, генетике, поведении. Особи внутри одного вида могут свободно скрещиваться и давать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лодовитое потом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занимают на планете определенную область, называему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еа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637000"/>
            <a:ext cx="7704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р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т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к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19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зменение научных представлений о происхождении и развитии жизни на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37000"/>
            <a:ext cx="280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живое единовременно создано некой Высшей Силой и не подвергается изме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реа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357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2565360"/>
            <a:ext cx="2808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знь зародилась давным-давно и, в результате естественных процессов, разделилась на огромное количество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Эволю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539800" cy="3098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35280" y="1197000"/>
            <a:ext cx="4824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ал систематику живых организмов. Систематическое расположение видов дало возможность понять, что есть виды-родственники и виды, характеризующиеся далеким род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я родства между видами – указание на их развитие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Линней (1707 - 17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216240" cy="41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1640" y="5373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ан-Батист Ламарк (1774-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197000"/>
            <a:ext cx="4464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ервой эволюционной концепции. Он утверждал, что органы и системы органов животных и растений развиваются, либо деградируют в результате их упражнения или неупраж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м местом его теории было то, что благоприобретенные признаки на самом деле не могут передаваться по наследству: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68360" y="4221000"/>
            <a:ext cx="2103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4846320" cy="426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1125360"/>
            <a:ext cx="3743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м первой стройной эволюционной концепции был Чарльз Дарвин, написавший по этому поводу книг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происхождении видов путем естественного отбора или о сохранении благоприятственных пород в борьбе за жиз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58920" y="3573360"/>
            <a:ext cx="1914480" cy="312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40360" y="522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рльз Дарвин (1809 - 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260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Основная логика эволюционного 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12536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лед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844640"/>
            <a:ext cx="1798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3678120"/>
            <a:ext cx="2087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организмов к неограниченному размно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229360"/>
            <a:ext cx="1942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граниченность услови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87640" y="1268280"/>
            <a:ext cx="26640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рганизмы отличаются друг от друга и могут передавать свои характерные особенности потом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4262400"/>
            <a:ext cx="266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за сущ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1341360"/>
            <a:ext cx="287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68360" y="191592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422100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411280" y="465264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3640" y="1557360"/>
            <a:ext cx="2376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живаю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пособ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716360" y="2060280"/>
            <a:ext cx="1727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191628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500280"/>
            <a:ext cx="280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256536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2924280"/>
            <a:ext cx="2808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6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 итог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1693800"/>
            <a:ext cx="4392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ые системы приспосабливаются к условиям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ланете Земля существует огромное количество видов 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т сосуществовать высоко организованные виды и виды с более примитивным уровнем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132000" y="2060640"/>
            <a:ext cx="100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132000" y="3212640"/>
            <a:ext cx="935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3284640"/>
            <a:ext cx="1079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089" t="1628" r="1268" b="1665"/>
          <a:stretch/>
        </p:blipFill>
        <p:spPr>
          <a:xfrm>
            <a:off x="5076720" y="836640"/>
            <a:ext cx="3382920" cy="424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2766960"/>
            <a:ext cx="3600360" cy="354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76720" y="5373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еоптер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06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ха в янт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404640"/>
            <a:ext cx="8496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Морфологические (сравнительно-анатом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392200" cy="28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4508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мологичные и аналогичны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559320" cy="19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35640" y="3573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ав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457360" cy="1866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д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4:41:18Z</dcterms:created>
  <dc:creator>Ura</dc:creator>
  <dc:description/>
  <dc:language>en-US</dc:language>
  <cp:lastModifiedBy>ms45</cp:lastModifiedBy>
  <dcterms:modified xsi:type="dcterms:W3CDTF">2006-05-18T09:31:13Z</dcterms:modified>
  <cp:revision>9</cp:revision>
  <dc:subject/>
  <dc:title>Теория эволюции</dc:title>
</cp:coreProperties>
</file>