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567-1ACF-419F-94E2-848DD916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B492-55B6-4E9A-8B98-FA4BE05D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0C7-C114-4CF5-8464-DF908B81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48E-B91A-4911-9421-6900F5FD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62D-76C1-4130-9D57-0E30F9D2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811-EBF2-4C14-84F6-E740D1C8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743-8E9A-4898-939B-243C7BDC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657-B81F-47BD-B480-FA4B116E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83D-7FC9-4051-BFB5-6BD9B4E2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63B-D716-48C1-9745-BE09CF2D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C77-51D0-4A64-98BF-74C478A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ECB-D3AD-4AD0-9741-185095D9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C8DC-7204-42DE-AB1A-8F77F9C0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берутся новые формы живых сист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ms45</cp:lastModifiedBy>
  <dcterms:modified xsi:type="dcterms:W3CDTF">2006-05-18T09:31:13Z</dcterms:modified>
  <cp:revision>9</cp:revision>
  <dc:subject/>
  <dc:title>Теория эволюции</dc:title>
</cp:coreProperties>
</file>