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7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51D3-6BB8-4CF8-BA34-F1257FA3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795F-4B46-43C2-84C5-E00C2B8E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799C-7658-4202-B091-91BB383B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E28-72C0-4B3E-A904-F671B93F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B3FC-E5D5-4F8C-AE6C-95F61288E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5142-77AC-44C8-AAFF-517F5E17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C728-9D6C-4927-8412-9A19D0BE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3D66-FD39-4560-87C0-B5FD8D41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70A4-82F8-4549-AFEE-08607E1F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48A3-600B-4108-A2F4-FC59D5E5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E012-E721-4F6E-A811-A60D4731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C1A3-42B1-48AB-AF6D-B688F931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3A36-8F54-4319-849C-2A1F67E2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9526-9718-4E48-81CE-31FEED56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B81C-0EB0-4482-AD5F-C8CF90DF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E424-5B56-43AA-B3A9-0E184C4A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EA41-B170-45C7-84D4-E2E102A9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12F7-DF3C-4F98-A863-5E332A31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6906-B2A5-47F4-B3D3-5E7BB588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5CEA-776C-41C2-8EBC-C3A06842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A9FA-91D5-457B-9312-D3D76C6C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AB07-7DBA-4B2E-99B1-A2EE3478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454A-0D32-46C4-9BF3-604F0F7A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47D2-BE50-40DF-A04E-E4140188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2350-A693-4CDE-8205-56F0E6B7FC7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8B17-766C-41B6-A2F6-03FA56727F7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Теория панспермии-</a:t>
            </a:r>
            <a:br>
              <a:rPr sz="4400"/>
            </a:b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жизнь на нашу планету занесена извне, из Вселенной.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2060640"/>
            <a:ext cx="59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ипотеза была выдвинута Ю.Либихом и Г.Рихтером в середине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иболее полно изложил Сванте Аррениус в 189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гласно гипотезе панспермии жизнь существует вечно и переносится с планеты на планету метеори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стейшие организмы или их споры («семена жизни»), попадая на новую планету и найдя здесь благоприятные условия, размножаются, давая начало эволюции от простейших форм к слож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зможно, что жизнь на Земле возникла из одной-единственной колонии микроорганизмов, заброшенных из космо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700360" cy="2025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                                           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260280"/>
            <a:ext cx="5256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ahoma"/>
              </a:rPr>
              <a:t>Для обоснования этой теории  используются многократные появления  НЛО, наскальные изображения предметов, похожих на ракеты и «космонавтов», а  также сообщения якобы о встречах с инопланетянами. При изучении </a:t>
            </a: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Tahoma"/>
              </a:rPr>
              <a:t>материалов метеоритов и комет в них   были обнаружены многие  «предшественники живого» - такие вещества, как цианогены, синильная </a:t>
            </a: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Tahoma"/>
              </a:rPr>
              <a:t> кислота и органические соединения,  которые,    возможно, сыграли роль «семян», падавших на голую Земл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00000" y="4149720"/>
            <a:ext cx="8244000" cy="1871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419480" cy="1647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763640" y="189000"/>
            <a:ext cx="1600200" cy="1504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79280" y="4514760"/>
            <a:ext cx="3505320" cy="2343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79280" y="1989000"/>
            <a:ext cx="3529080" cy="2347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4067280" y="3429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4067280" y="515772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326280" y="3357720"/>
            <a:ext cx="242892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На найденном в Антарктиде метеорите обнаружены объекты, которые можно идентифицировать как следы жизнедеятельности микроорганизмов из космоса.</a:t>
            </a:r>
            <a:br>
              <a:rPr sz="1800"/>
            </a:b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561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6751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Сторонниками этой гипотезы были лауреаты Нобелевской премии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Ф.Крик, Л.Оргел.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Ф.Крик основывался на двух косвенных доказательствах: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08000" y="198900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ниверсальности генетического код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обходимости для нормального метаболизма всех живых существ молибдена, который встречается сейчас на планете крайне редк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92360" y="4888080"/>
            <a:ext cx="7272360" cy="1817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77920" y="2205000"/>
            <a:ext cx="1125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560" y="2133360"/>
            <a:ext cx="75438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Но если жизнь возникла не на Земле, то как она возникла вне её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59280" y="4506840"/>
            <a:ext cx="2304720" cy="2305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516720" y="0"/>
            <a:ext cx="2425680" cy="24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2:25:37Z</dcterms:created>
  <dc:creator>user</dc:creator>
  <dc:description/>
  <dc:language>en-US</dc:language>
  <cp:lastModifiedBy>user</cp:lastModifiedBy>
  <dcterms:modified xsi:type="dcterms:W3CDTF">2006-11-07T14:44:00Z</dcterms:modified>
  <cp:revision>10</cp:revision>
  <dc:subject/>
  <dc:title>Теория панспермии  внеземное происхожд </dc:title>
</cp:coreProperties>
</file>