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7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D4CC-A2F2-4203-99AD-D6768B9F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CA8-8D17-4CF8-9A04-ECB54473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A233-C0F4-4A41-A6D3-6790AB54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F106-2DE4-4209-8852-5EC692A0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EDF5-A4E7-4ED9-AD43-D26A97D8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D42B-2A56-4EB3-A0E3-BAFA7538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1B60-C233-48DF-9F15-9040D620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FA01-3ADA-4A17-95B4-04AEC1F4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3D62-CB71-4AD7-92A6-FCEC5956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2850-B01F-4EFF-9960-E7F39F8F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9E2E-B373-4576-931C-F1B38A39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7C0-3224-4607-839D-6611613A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EF9B-2989-416B-887A-DA1DB328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372A-D76C-4CC4-AE27-ACF840F0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4469-EC89-45FE-AB5C-5618B813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1F60-E2C7-417C-9C2F-9185F2E8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32C4-CBE1-4ED0-99FB-D063F886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C921-5815-4DE2-B457-79AA56B1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D2A-19E1-4A18-8B43-F57DF10E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BFAF-5A96-4D13-ABEC-CB9AB323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AE0B-CABA-4BE4-B236-31331A4A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4E30-BE7D-4606-82E1-E8B0C27E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8995-42B8-44A0-A6DD-3C6625DA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9DB-C202-4FA9-944B-6EA38478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8D06-0502-4E3B-B0D4-D1C3BB32D5B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2903-26D7-46E1-A529-CB6A3DFDBAD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Теория панспермии-</a:t>
            </a:r>
            <a:br>
              <a:rPr sz="4400"/>
            </a:b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жизнь на нашу планету занесена извне, из Вселенной.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2060640"/>
            <a:ext cx="59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потеза была выдвинута Ю.Либихом и Г.Рихтером в середине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иболее полно изложил Сванте Аррениус в 189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гласно гипотезе панспермии жизнь существует вечно и переносится с планеты на планету метеори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стейшие организмы или их споры («семена жизни»), попадая на новую планету и найдя здесь благоприятные условия, размножаются, давая начало эволюции от простейших форм к слож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зможно, что жизнь на Земле возникла из одной-единственной колонии микроорганизмов, заброшенных из космо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700360" cy="2025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                                           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260280"/>
            <a:ext cx="5256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Для обоснования этой теории  используются многократные появления  НЛО, наскальные изображения предметов, похожих на ракеты и «космонавтов», а  также сообщения якобы о встречах с инопланетянами. При изучении 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материалов метеоритов и комет в них   были обнаружены многие  «предшественники живого» - такие вещества, как цианогены, синильная 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 кислота и органические соединения,  которые,    возможно, сыграли роль «семян», падавших на голую Земл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00000" y="4149720"/>
            <a:ext cx="8244000" cy="1871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419480" cy="1647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763640" y="189000"/>
            <a:ext cx="1600200" cy="1504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79280" y="4514760"/>
            <a:ext cx="3505320" cy="2343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79280" y="1989000"/>
            <a:ext cx="3529080" cy="2347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067280" y="3429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4067280" y="515772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326280" y="3357720"/>
            <a:ext cx="242892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На найденном в Антарктиде метеорите обнаружены объекты, которые можно идентифицировать как следы жизнедеятельности микроорганизмов из космоса.</a:t>
            </a: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561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6751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Сторонниками этой гипотезы были лауреаты Нобелевской премии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Ф.Крик, Л.Оргел.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Ф.Крик основывался на двух косвенных доказательствах: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8000" y="198900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ниверсальности генетического код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обходимости для нормального метаболизма всех живых существ молибдена, который встречается сейчас на планете крайне редк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92360" y="4888080"/>
            <a:ext cx="7272360" cy="1817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77920" y="2205000"/>
            <a:ext cx="1125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5438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Но если жизнь возникла не на Земле, то как она возникла вне её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59280" y="4506840"/>
            <a:ext cx="2304720" cy="2305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516720" y="0"/>
            <a:ext cx="2425680" cy="24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2:25:37Z</dcterms:created>
  <dc:creator>user</dc:creator>
  <dc:description/>
  <dc:language>en-US</dc:language>
  <cp:lastModifiedBy>user</cp:lastModifiedBy>
  <dcterms:modified xsi:type="dcterms:W3CDTF">2006-11-07T14:44:00Z</dcterms:modified>
  <cp:revision>10</cp:revision>
  <dc:subject/>
  <dc:title>Теория панспермии  внеземное происхожд </dc:title>
</cp:coreProperties>
</file>