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B859-9228-41C1-B9B2-54A74E06B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463D-2DCC-4FE3-AEE2-F1D68938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B22A-C41E-48FC-A0A2-435DA5421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799E-4CE4-4F92-8953-F4E0A53A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36AC-4260-4ABD-A6E0-1AC0E73C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1066-6874-47E0-9C7C-B772F6C0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9FA8-1402-48D1-897A-93DB983C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14F3-1520-4625-95B3-2A612F52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30C1-B442-46DE-8143-B539287F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ED0D-2797-4383-8323-0952F161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C04D-1D4C-4C2C-8DFB-C64284C4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ADEF-36B6-41D5-98F3-035A2ECC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34D5-2450-4B79-B7A5-36884C76721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1116"/>
                </a:solidFill>
                <a:latin typeface="Arial"/>
              </a:rPr>
              <a:t>Теория самопроизвольного зарождения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(Живое возникло из неживого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ьтернатива креациониз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родилась в Древнем Китае, Вавилоне и Егип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верженцами теории были: Эмпедокл, Демокрит и особенно Аристоте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Виталистам, и сторонникам самозарождения вообще, был нанесен сокрушительный удар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ыт Л.Пастера с колба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Все живое из живого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1116000" y="2382840"/>
            <a:ext cx="66960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одтверждение теории биогенеза породило другую проблему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2997000"/>
            <a:ext cx="8540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1116"/>
                </a:solidFill>
                <a:latin typeface="Arial"/>
              </a:rPr>
              <a:t>Коль скоро для возникновения живого организма необходим другой живой организм, то откуда же взялся самый первый живой организм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77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77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21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                       </a:t>
            </a:r>
            <a:r>
              <a:rPr b="0" lang="ru-RU" sz="4400" spc="-1" strike="noStrike">
                <a:solidFill>
                  <a:srgbClr val="f31116"/>
                </a:solidFill>
                <a:latin typeface="Arial"/>
              </a:rPr>
              <a:t>Аристотель </a:t>
            </a:r>
            <a:br>
              <a:rPr sz="4400"/>
            </a:b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                       (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V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в. до н. э.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3860640"/>
            <a:ext cx="8540640" cy="22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тверждал наличие «активного начал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Живое может возникать не только в результате спаривания животных, но и о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ложения почвы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609480" y="189000"/>
            <a:ext cx="2700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38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Идеи Аристотеля о самозарождении жизни сохраняли власть над умами многих видных ученых очень долго, вплоть до 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XIX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в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76720" y="228240"/>
            <a:ext cx="5535360" cy="62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Известный врач Парацельс пытался опытным путем доказать самозарождение лягушек, мышей, черепах, угрей из воды, воздуха, соломы, гниющего дерева и других неживых предметов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4221000"/>
            <a:ext cx="275760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Парацель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1493 – 1541)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1"/>
          <a:stretch/>
        </p:blipFill>
        <p:spPr>
          <a:xfrm>
            <a:off x="615960" y="404640"/>
            <a:ext cx="20019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56000" y="1557000"/>
            <a:ext cx="6183360" cy="43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1116"/>
                </a:solidFill>
                <a:latin typeface="Arial"/>
              </a:rPr>
              <a:t>Ян Баптист ван Гельмонт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(1577 – 1644)</a:t>
            </a:r>
            <a:br>
              <a:rPr sz="4000"/>
            </a:br>
            <a:br>
              <a:rPr sz="2800"/>
            </a:b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Описал эксперимент, в котором он за три недели якобы создал мышей. Для этого были нужны грязная рубашка, темный шкаф и горсть пшеницы. Активным началом в процессе зарождения мыши ван Гельмонт считал человеческий пот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1" name="Picture 6" descr="helmont"/>
          <p:cNvPicPr/>
          <p:nvPr/>
        </p:nvPicPr>
        <p:blipFill>
          <a:blip r:embed="rId1"/>
          <a:stretch/>
        </p:blipFill>
        <p:spPr>
          <a:xfrm>
            <a:off x="179280" y="981000"/>
            <a:ext cx="24987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564000" y="475920"/>
            <a:ext cx="527832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Жан Батист Ламар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1744 – 182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сал о самозарождении некоторых гриб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211464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Опровержение теории самопроизвольного зарождения жизни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4868640"/>
            <a:ext cx="2975040" cy="123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31116"/>
                </a:solidFill>
                <a:latin typeface="Arial"/>
              </a:rPr>
              <a:t>Франческо Ред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1626 – 169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76720" y="1676160"/>
            <a:ext cx="55656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воей работе «Эксперименты над зарождением насекомых» в 1668 г. он, обобщая свои наблюдения, высказал предположение, что «черви» появились в результате полового размножения мух на гниющем мясе, а у самого гнилого мяса нет другой функции, кроме как служить питанием для мух и быть местом откладки их яи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7" descr="redi"/>
          <p:cNvPicPr/>
          <p:nvPr/>
        </p:nvPicPr>
        <p:blipFill>
          <a:blip r:embed="rId1"/>
          <a:stretch/>
        </p:blipFill>
        <p:spPr>
          <a:xfrm>
            <a:off x="468360" y="1773360"/>
            <a:ext cx="2160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1116"/>
                </a:solidFill>
                <a:latin typeface="Arial"/>
              </a:rPr>
              <a:t>Ладзаро Спалланцани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(1729 – 1799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ступил против самозарождения бактер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65 г. провел следующий опыт: прокипятив мясной бульон в течение часа, он запаял вытянутое горлышко колбы. В запаянной колбе микроорганизмы не возникали. Из этого Спалланцани сделал вывод, что высокая температура уничтожила все формы живых существ и что без них ничто живое уже не могло возникну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22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Французская Академия наук назначила в 1859 г. специальную премию за попытку ответить на вопрос о самопроизвольном зарождении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27280" y="2924280"/>
            <a:ext cx="432108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у премию спустя три года, в 1862 г., получил французский ученый </a:t>
            </a: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Луи Пастер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1822 – 189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paster"/>
          <p:cNvPicPr/>
          <p:nvPr/>
        </p:nvPicPr>
        <p:blipFill>
          <a:blip r:embed="rId1"/>
          <a:stretch/>
        </p:blipFill>
        <p:spPr>
          <a:xfrm>
            <a:off x="539640" y="2492280"/>
            <a:ext cx="30974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37:53Z</dcterms:created>
  <dc:creator>Ученик</dc:creator>
  <dc:description/>
  <dc:language>en-US</dc:language>
  <cp:lastModifiedBy>Александр</cp:lastModifiedBy>
  <dcterms:modified xsi:type="dcterms:W3CDTF">2012-03-19T15:55:28Z</dcterms:modified>
  <cp:revision>9</cp:revision>
  <dc:subject/>
  <dc:title>Слайд 1</dc:title>
</cp:coreProperties>
</file>