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7.png" ContentType="image/png"/>
  <Override PartName="/ppt/media/image34.jpeg" ContentType="image/jpeg"/>
  <Override PartName="/ppt/media/image11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44.jpeg" ContentType="image/jpeg"/>
  <Override PartName="/ppt/media/image22.jpeg" ContentType="image/jpeg"/>
  <Override PartName="/ppt/media/image9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27.jpeg" ContentType="image/jpeg"/>
  <Override PartName="/ppt/media/image42.jpeg" ContentType="image/jpeg"/>
  <Override PartName="/ppt/media/image43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5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8484-FA55-4470-B4D8-DC9902DA6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549A-201A-45B0-8FE8-4BB0B446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6805-A0D0-4E17-8425-FB939D019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DB99-BE22-425C-B512-B27F3C396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0D3A-3765-42F5-BD90-FB5739D3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D17F-244D-4718-9958-BF574DA5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F64D-0E1A-4F0F-80B0-7DEA894A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8BA1-2C19-4F8D-B7AD-0EADB016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DC6E-FB69-46C4-914E-D3D34AB2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87EB-533F-4202-A822-BC7B494D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E343-6BDA-4028-ACFD-8AF39969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593F-49DD-42AE-8E4D-F78FE9BD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15B8-ADF0-44C1-9671-7586A9834D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98"/>
          <p:cNvSpPr/>
          <p:nvPr/>
        </p:nvSpPr>
        <p:spPr>
          <a:xfrm>
            <a:off x="1619280" y="2031840"/>
            <a:ext cx="684036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Земноводны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1525320" y="215280"/>
            <a:ext cx="60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УТРЕННЕЕ СТРОЕНИЕ ЛЯГУШ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8" descr="н"/>
          <p:cNvPicPr/>
          <p:nvPr/>
        </p:nvPicPr>
        <p:blipFill>
          <a:blip r:embed="rId1"/>
          <a:stretch/>
        </p:blipFill>
        <p:spPr>
          <a:xfrm>
            <a:off x="-19080" y="857160"/>
            <a:ext cx="91630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97200" y="144000"/>
            <a:ext cx="90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СТРОЕНИЯ ГОЛОВНОГО МОЗГА У ЗЕМНОВОД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976480" y="276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Безымянный"/>
          <p:cNvPicPr/>
          <p:nvPr/>
        </p:nvPicPr>
        <p:blipFill>
          <a:blip r:embed="rId1"/>
          <a:stretch/>
        </p:blipFill>
        <p:spPr>
          <a:xfrm>
            <a:off x="1403280" y="765000"/>
            <a:ext cx="5934240" cy="25434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8"/>
          <p:cNvSpPr/>
          <p:nvPr/>
        </p:nvSpPr>
        <p:spPr>
          <a:xfrm>
            <a:off x="1785960" y="3660840"/>
            <a:ext cx="521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РОВЕНОСНАЯ СИСТЕМА ЛЯГУШ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7" descr="н"/>
          <p:cNvPicPr/>
          <p:nvPr/>
        </p:nvPicPr>
        <p:blipFill>
          <a:blip r:embed="rId2"/>
          <a:stretch/>
        </p:blipFill>
        <p:spPr>
          <a:xfrm>
            <a:off x="3214800" y="4084560"/>
            <a:ext cx="287964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1054440" y="45000"/>
            <a:ext cx="297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хема строения сердца земноводны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Безымянный"/>
          <p:cNvPicPr/>
          <p:nvPr/>
        </p:nvPicPr>
        <p:blipFill>
          <a:blip r:embed="rId1"/>
          <a:stretch/>
        </p:blipFill>
        <p:spPr>
          <a:xfrm>
            <a:off x="684360" y="620640"/>
            <a:ext cx="4465440" cy="29289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 flipV="1" rot="10800000">
            <a:off x="5364000" y="1626840"/>
            <a:ext cx="3098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а круга кровообращения и трехкамерное сердце. Из-за разного участия кожного дыхания соотношение в нем артериальной и венозной крови может менять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607840" y="3618360"/>
            <a:ext cx="365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ХЕМА СТРОЕНИЯ ЛЕГКИХ У ЗЕМНОВОД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7" descr="Безымянный"/>
          <p:cNvPicPr/>
          <p:nvPr/>
        </p:nvPicPr>
        <p:blipFill>
          <a:blip r:embed="rId2"/>
          <a:stretch/>
        </p:blipFill>
        <p:spPr>
          <a:xfrm>
            <a:off x="250920" y="4076640"/>
            <a:ext cx="5651280" cy="20001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9"/>
          <p:cNvSpPr/>
          <p:nvPr/>
        </p:nvSpPr>
        <p:spPr>
          <a:xfrm>
            <a:off x="5905440" y="4345920"/>
            <a:ext cx="2843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жнение внутренней структуры легкого увеличивает поверхность контакта с воздухом, что хорошо, но оно способствует и застою воздуха в легком, что при пассивном выдохе, свойственном земноводным, плох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1780560" y="619920"/>
            <a:ext cx="41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ИСТЕМА ДЫХАНИЯ ЛЕГКИМИ И МЕХАНИЗМ ВДОХ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Безымянный"/>
          <p:cNvPicPr/>
          <p:nvPr/>
        </p:nvPicPr>
        <p:blipFill>
          <a:blip r:embed="rId1"/>
          <a:stretch/>
        </p:blipFill>
        <p:spPr>
          <a:xfrm>
            <a:off x="1332000" y="981000"/>
            <a:ext cx="5933880" cy="28386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1258920" y="3933000"/>
            <a:ext cx="6057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дох начинается с того, что лягушка, закрыв рот и открыв клапаны в ноздрях, опускает усилием мышц дно ротовой полости. Воздух засасывается в ротовую полость. Затем лягушка запирает клапаны в ноздрях и усилием мышц поднимает дно ротовой полости. Сдавливаемый воздух проходит в легкие и раздувает их. Выдох (не нарисован) происходит через открытые ноздри или рот пассивно, точно так, как выходит воздух из воздушного шарика, если его развязат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398880" y="332640"/>
            <a:ext cx="38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ЩЕВАРИТЕЛЬНАЯ СИСТЕ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288320" y="33264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ЯГУШ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89088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6" descr="Безымянный"/>
          <p:cNvPicPr/>
          <p:nvPr/>
        </p:nvPicPr>
        <p:blipFill>
          <a:blip r:embed="rId1"/>
          <a:stretch/>
        </p:blipFill>
        <p:spPr>
          <a:xfrm>
            <a:off x="1835280" y="1125360"/>
            <a:ext cx="540072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2424240" y="633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Безымянный"/>
          <p:cNvPicPr/>
          <p:nvPr/>
        </p:nvPicPr>
        <p:blipFill>
          <a:blip r:embed="rId1"/>
          <a:stretch/>
        </p:blipFill>
        <p:spPr>
          <a:xfrm>
            <a:off x="1332000" y="260280"/>
            <a:ext cx="5618160" cy="4032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826920" y="4436280"/>
            <a:ext cx="619308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келет лягуш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У современных бесхвостых скелет простой и легкий. У древних земноводных стегоцефалов костей было больше. Череп сверху и с боков был одет в сплошной панцирь из костных чешуй, а позвонки в туловищном отделе имели ребра. На рисунке красным отмечены принципиально новые части скелета, которыми земноводные отличаются от рыб (шейный позвонок, кости таза и кости конечностей). В передней части туловища под ребрами виден брюшной щи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оение скелета конечностей позвоноч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лан скелета пятипалых конечностей у наземных позвоночных один и тот же и одинаков в передних и задних конечностях, хотя отделы и отдельные кости могут называться по-разном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Безымянный"/>
          <p:cNvPicPr/>
          <p:nvPr/>
        </p:nvPicPr>
        <p:blipFill>
          <a:blip r:embed="rId1"/>
          <a:stretch/>
        </p:blipFill>
        <p:spPr>
          <a:xfrm>
            <a:off x="744480" y="382680"/>
            <a:ext cx="1505160" cy="1904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Безымянный"/>
          <p:cNvPicPr/>
          <p:nvPr/>
        </p:nvPicPr>
        <p:blipFill>
          <a:blip r:embed="rId2"/>
          <a:stretch/>
        </p:blipFill>
        <p:spPr>
          <a:xfrm>
            <a:off x="744480" y="4919760"/>
            <a:ext cx="2098800" cy="11746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744480" y="3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44480" y="2150280"/>
            <a:ext cx="83995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Ы ЧУВСТВ И ПИЩЕВОЕ ПОВЕД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ы чувств и движение липкого языка при ловле насеком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лаза — орган зре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оздри — орган обоня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Язык и полость рта — орган вкус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арабанная перепонка — орган слух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 равновесия — внутреннее ухо. Расположе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остях череп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сязание — всей кож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собенности зрения лягуш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гда лягушка всматривается в окружающую обстановку, ее мозг не принимает повторяющиеся сигналы о каждой точке предмета, но усиливает изменяющиеся сигналы. Поэтому ползущее насекомое лягушка видит все отчетливее, а неподвижный субстрат — все слабее. Такая работа глаза и мозга позволяет лягушке преодолевать покровительственную окраску насекомых. Зато от лягушки легко уберечься, если сидеть неподвижн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лягушка ловит пролетающую мух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3132000" y="5228640"/>
            <a:ext cx="5148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ставаясь неподвижной, лягушка следит за мухой подвижными глазами, а ее мозг рассчитывает точку встречи и команды мышцам ног. Ноги залпом подбрасывают и разворачивают тело таким образом, чтобы точка встречи оказалась перед кончиком головы. В этот момент мозг вносит поправки и дает команду мышцам языка выброситься изо рта. Перехват летящей мухи происходит так быстро, что мы не успеваем рассмотреть движения лягуш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7" descr="Безымянный"/>
          <p:cNvPicPr/>
          <p:nvPr/>
        </p:nvPicPr>
        <p:blipFill>
          <a:blip r:embed="rId1"/>
          <a:stretch/>
        </p:blipFill>
        <p:spPr>
          <a:xfrm>
            <a:off x="468360" y="819000"/>
            <a:ext cx="1905120" cy="1609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Безымянный"/>
          <p:cNvPicPr/>
          <p:nvPr/>
        </p:nvPicPr>
        <p:blipFill>
          <a:blip r:embed="rId2"/>
          <a:stretch/>
        </p:blipFill>
        <p:spPr>
          <a:xfrm>
            <a:off x="468360" y="2428920"/>
            <a:ext cx="1905120" cy="119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Безымянный"/>
          <p:cNvPicPr/>
          <p:nvPr/>
        </p:nvPicPr>
        <p:blipFill>
          <a:blip r:embed="rId3"/>
          <a:stretch/>
        </p:blipFill>
        <p:spPr>
          <a:xfrm>
            <a:off x="468360" y="4168800"/>
            <a:ext cx="1905120" cy="1181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Безымянный"/>
          <p:cNvPicPr/>
          <p:nvPr/>
        </p:nvPicPr>
        <p:blipFill>
          <a:blip r:embed="rId4"/>
          <a:stretch/>
        </p:blipFill>
        <p:spPr>
          <a:xfrm>
            <a:off x="250920" y="5445000"/>
            <a:ext cx="1904760" cy="11239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266760" y="270720"/>
            <a:ext cx="4583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жаба ловит ползущую по земле добыч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Жаба заметила добычу в боковом поле зрения одного глаз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4683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2484360" y="2969280"/>
            <a:ext cx="475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Жаба поворачивается к добыче центром поля зрения этого глаза. Так глаз видит наиболее четк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2471760" y="4769280"/>
            <a:ext cx="485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тем она поворачивается и центром поля зрения второго гла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2020680" y="6165000"/>
            <a:ext cx="630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уя бинокулярное зрение, жаба метко выстреливает в добычу липким язы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Безымянный"/>
          <p:cNvPicPr/>
          <p:nvPr/>
        </p:nvPicPr>
        <p:blipFill>
          <a:blip r:embed="rId1"/>
          <a:stretch/>
        </p:blipFill>
        <p:spPr>
          <a:xfrm>
            <a:off x="684360" y="836640"/>
            <a:ext cx="1685880" cy="1905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Безымянный"/>
          <p:cNvPicPr/>
          <p:nvPr/>
        </p:nvPicPr>
        <p:blipFill>
          <a:blip r:embed="rId2"/>
          <a:stretch/>
        </p:blipFill>
        <p:spPr>
          <a:xfrm>
            <a:off x="395280" y="3284640"/>
            <a:ext cx="1905120" cy="1447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Безымянный"/>
          <p:cNvPicPr/>
          <p:nvPr/>
        </p:nvPicPr>
        <p:blipFill>
          <a:blip r:embed="rId3"/>
          <a:stretch/>
        </p:blipFill>
        <p:spPr>
          <a:xfrm>
            <a:off x="611280" y="4941720"/>
            <a:ext cx="1904760" cy="1486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7"/>
          <p:cNvSpPr/>
          <p:nvPr/>
        </p:nvSpPr>
        <p:spPr>
          <a:xfrm>
            <a:off x="369360" y="378360"/>
            <a:ext cx="7646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РОВЫ И ОКРАС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краска большинства земноводных — покровительственная, в том числе и разбивающая контуры те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9360" y="2753280"/>
            <a:ext cx="758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екоторые ядовитые лягушки, например поперечно-полосатый древолаз, окрашены предупреждающ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1947240" y="3905640"/>
            <a:ext cx="678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ровительственная окраска остромордой речницы делает ее незаметной на буром фо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2516400" y="5274360"/>
            <a:ext cx="6554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екоторые земноводные приобретают яркую брачную раскраску на сезон размнож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Безымянный"/>
          <p:cNvPicPr/>
          <p:nvPr/>
        </p:nvPicPr>
        <p:blipFill>
          <a:blip r:embed="rId1"/>
          <a:stretch/>
        </p:blipFill>
        <p:spPr>
          <a:xfrm>
            <a:off x="318960" y="825480"/>
            <a:ext cx="1905120" cy="1828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Безымянный"/>
          <p:cNvPicPr/>
          <p:nvPr/>
        </p:nvPicPr>
        <p:blipFill>
          <a:blip r:embed="rId2"/>
          <a:stretch/>
        </p:blipFill>
        <p:spPr>
          <a:xfrm>
            <a:off x="318960" y="3386160"/>
            <a:ext cx="1905120" cy="14954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336960" y="321120"/>
            <a:ext cx="282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РИТОРИАЛЬНОЕ ПОВЕД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-10440" y="2699280"/>
            <a:ext cx="8127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быкновенная квакш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о время пения у некоторых самцов раздувается горловой мешок. Он действует как резонатор, усиливая зву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102240" y="4880880"/>
            <a:ext cx="473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ец древолаза изгоняет другого самца со своей территор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642960" y="142920"/>
          <a:ext cx="8136000" cy="1473120"/>
        </p:xfrm>
        <a:graphic>
          <a:graphicData uri="http://schemas.openxmlformats.org/drawingml/2006/table">
            <a:tbl>
              <a:tblPr/>
              <a:tblGrid>
                <a:gridCol w="81360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ЗЕМНОВОДНЫЕ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ИТЕЛИ ТРЕХ ОТРЯДОВ ЗЕМНОВОДНЫХ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Rectangle 105"/>
          <p:cNvSpPr/>
          <p:nvPr/>
        </p:nvSpPr>
        <p:spPr>
          <a:xfrm>
            <a:off x="76500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104"/>
          <p:cNvSpPr/>
          <p:nvPr/>
        </p:nvSpPr>
        <p:spPr>
          <a:xfrm>
            <a:off x="765000" y="15955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1557360"/>
          <a:ext cx="9144000" cy="19810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новодные — это в большинстве своем четвероногие холоднокровные позвоночные животные, имеющие стадию водной личинки, а во взрослом состоянии связанные как с водой, так и с наземной средой. Личинка дышит с помощью жабр и кожи, а взрослое животное — с помощью легких и голой, постоянно увлажняемой кож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Picture 118" descr="ку"/>
          <p:cNvPicPr/>
          <p:nvPr/>
        </p:nvPicPr>
        <p:blipFill>
          <a:blip r:embed="rId1"/>
          <a:stretch/>
        </p:blipFill>
        <p:spPr>
          <a:xfrm>
            <a:off x="2214720" y="5072040"/>
            <a:ext cx="2119320" cy="1409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7" descr="Безымянный"/>
          <p:cNvPicPr/>
          <p:nvPr/>
        </p:nvPicPr>
        <p:blipFill>
          <a:blip r:embed="rId2"/>
          <a:stretch/>
        </p:blipFill>
        <p:spPr>
          <a:xfrm>
            <a:off x="0" y="4786200"/>
            <a:ext cx="2157480" cy="20718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19"/>
          <p:cNvSpPr/>
          <p:nvPr/>
        </p:nvSpPr>
        <p:spPr>
          <a:xfrm>
            <a:off x="2291400" y="442944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ерая жаб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20"/>
          <p:cNvSpPr/>
          <p:nvPr/>
        </p:nvSpPr>
        <p:spPr>
          <a:xfrm>
            <a:off x="289800" y="4429440"/>
            <a:ext cx="16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еленая лягуш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143680" y="3214800"/>
          <a:ext cx="3143160" cy="334800"/>
        </p:xfrm>
        <a:graphic>
          <a:graphicData uri="http://schemas.openxmlformats.org/drawingml/2006/table">
            <a:tbl>
              <a:tblPr/>
              <a:tblGrid>
                <a:gridCol w="2417760"/>
                <a:gridCol w="390240"/>
                <a:gridCol w="335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яд ХВОСТАТ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Picture 135" descr="п"/>
          <p:cNvPicPr/>
          <p:nvPr/>
        </p:nvPicPr>
        <p:blipFill>
          <a:blip r:embed="rId3"/>
          <a:stretch/>
        </p:blipFill>
        <p:spPr>
          <a:xfrm>
            <a:off x="3929040" y="4214880"/>
            <a:ext cx="2765520" cy="857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4" descr="в"/>
          <p:cNvPicPr/>
          <p:nvPr/>
        </p:nvPicPr>
        <p:blipFill>
          <a:blip r:embed="rId4"/>
          <a:stretch/>
        </p:blipFill>
        <p:spPr>
          <a:xfrm>
            <a:off x="6858000" y="4357800"/>
            <a:ext cx="2143080" cy="25509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36"/>
          <p:cNvSpPr/>
          <p:nvPr/>
        </p:nvSpPr>
        <p:spPr>
          <a:xfrm>
            <a:off x="3930480" y="3858120"/>
            <a:ext cx="22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Гребенчатый тритон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37"/>
          <p:cNvSpPr/>
          <p:nvPr/>
        </p:nvSpPr>
        <p:spPr>
          <a:xfrm>
            <a:off x="5021640" y="4936320"/>
            <a:ext cx="111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38"/>
          <p:cNvSpPr/>
          <p:nvPr/>
        </p:nvSpPr>
        <p:spPr>
          <a:xfrm>
            <a:off x="6786720" y="3857760"/>
            <a:ext cx="216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ибирский углозу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36"/>
          <p:cNvSpPr/>
          <p:nvPr/>
        </p:nvSpPr>
        <p:spPr>
          <a:xfrm>
            <a:off x="299160" y="3929040"/>
            <a:ext cx="26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яд БЕСХВОСТЫ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6"/>
          <p:cNvSpPr/>
          <p:nvPr/>
        </p:nvSpPr>
        <p:spPr>
          <a:xfrm>
            <a:off x="15480" y="305280"/>
            <a:ext cx="8041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РАЧНЫЕ РИТУАЛ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У многих земноводных размножению предшествуют брачные ритуалы, а самцы приобретают брачный наря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35" descr="Безымянный"/>
          <p:cNvPicPr/>
          <p:nvPr/>
        </p:nvPicPr>
        <p:blipFill>
          <a:blip r:embed="rId1"/>
          <a:stretch/>
        </p:blipFill>
        <p:spPr>
          <a:xfrm>
            <a:off x="395280" y="1052640"/>
            <a:ext cx="1905120" cy="10191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7"/>
          <p:cNvSpPr/>
          <p:nvPr/>
        </p:nvSpPr>
        <p:spPr>
          <a:xfrm>
            <a:off x="2142360" y="1483560"/>
            <a:ext cx="439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ка малоазиатского тритона и самец в брачном наря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3" descr="Безымянный"/>
          <p:cNvPicPr/>
          <p:nvPr/>
        </p:nvPicPr>
        <p:blipFill>
          <a:blip r:embed="rId2"/>
          <a:stretch/>
        </p:blipFill>
        <p:spPr>
          <a:xfrm>
            <a:off x="395280" y="2565360"/>
            <a:ext cx="1905120" cy="1876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2" descr="Безымянный"/>
          <p:cNvPicPr/>
          <p:nvPr/>
        </p:nvPicPr>
        <p:blipFill>
          <a:blip r:embed="rId3"/>
          <a:stretch/>
        </p:blipFill>
        <p:spPr>
          <a:xfrm>
            <a:off x="395280" y="4724280"/>
            <a:ext cx="1905120" cy="1667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1" descr="Безымянный"/>
          <p:cNvPicPr/>
          <p:nvPr/>
        </p:nvPicPr>
        <p:blipFill>
          <a:blip r:embed="rId4"/>
          <a:stretch/>
        </p:blipFill>
        <p:spPr>
          <a:xfrm>
            <a:off x="6877080" y="2852640"/>
            <a:ext cx="1905120" cy="1343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0" descr="Безымянный"/>
          <p:cNvPicPr/>
          <p:nvPr/>
        </p:nvPicPr>
        <p:blipFill>
          <a:blip r:embed="rId5"/>
          <a:stretch/>
        </p:blipFill>
        <p:spPr>
          <a:xfrm>
            <a:off x="5724360" y="4653000"/>
            <a:ext cx="819360" cy="19051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44"/>
          <p:cNvSpPr/>
          <p:nvPr/>
        </p:nvSpPr>
        <p:spPr>
          <a:xfrm>
            <a:off x="1080000" y="2105640"/>
            <a:ext cx="5863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МНОЖЕНИЕ И ЗАБОТА О ПОТОМСТВ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у рыб спаривание — редкое явление, то у земноводных оно обязатель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5"/>
          <p:cNvSpPr/>
          <p:nvPr/>
        </p:nvSpPr>
        <p:spPr>
          <a:xfrm>
            <a:off x="2484360" y="3038760"/>
            <a:ext cx="2592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кра разных видов земноводны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ьшинство земноводных не заботятся о дальнейшей судьбе оплодотворенных икринок. Но у некоторых выработались разные приемы заботы о потомстве, вплоть до живорож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47"/>
          <p:cNvSpPr/>
          <p:nvPr/>
        </p:nvSpPr>
        <p:spPr>
          <a:xfrm>
            <a:off x="6948360" y="4149720"/>
            <a:ext cx="189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ец жабы-повитухи носит икру на бедр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871560" y="7456320"/>
          <a:ext cx="3897360" cy="547920"/>
        </p:xfrm>
        <a:graphic>
          <a:graphicData uri="http://schemas.openxmlformats.org/drawingml/2006/table">
            <a:tbl>
              <a:tblPr/>
              <a:tblGrid>
                <a:gridCol w="3681360"/>
                <a:gridCol w="216000"/>
              </a:tblGrid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Rectangle 68"/>
          <p:cNvSpPr/>
          <p:nvPr/>
        </p:nvSpPr>
        <p:spPr>
          <a:xfrm>
            <a:off x="871560" y="800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9"/>
          <p:cNvSpPr/>
          <p:nvPr/>
        </p:nvSpPr>
        <p:spPr>
          <a:xfrm>
            <a:off x="6588000" y="5490000"/>
            <a:ext cx="230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вакша филломедуза строит для икры гнездо из листье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195640" y="5445000"/>
          <a:ext cx="2736720" cy="874800"/>
        </p:xfrm>
        <a:graphic>
          <a:graphicData uri="http://schemas.openxmlformats.org/drawingml/2006/table">
            <a:tbl>
              <a:tblPr/>
              <a:tblGrid>
                <a:gridCol w="273672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ринамская пипа вынашивает икру в ячейках кож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Безымянный"/>
          <p:cNvPicPr/>
          <p:nvPr/>
        </p:nvPicPr>
        <p:blipFill>
          <a:blip r:embed="rId1"/>
          <a:stretch/>
        </p:blipFill>
        <p:spPr>
          <a:xfrm>
            <a:off x="755640" y="0"/>
            <a:ext cx="1266840" cy="1905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н"/>
          <p:cNvPicPr/>
          <p:nvPr/>
        </p:nvPicPr>
        <p:blipFill>
          <a:blip r:embed="rId2"/>
          <a:stretch/>
        </p:blipFill>
        <p:spPr>
          <a:xfrm>
            <a:off x="4643280" y="333360"/>
            <a:ext cx="1905120" cy="14860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6"/>
          <p:cNvSpPr/>
          <p:nvPr/>
        </p:nvSpPr>
        <p:spPr>
          <a:xfrm>
            <a:off x="9144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014920" y="1097640"/>
            <a:ext cx="2212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ец листолаза переноси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оловастиков в вод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6588000" y="952920"/>
            <a:ext cx="226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ка рыбозмея защищает икру в нор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1692360" y="2133000"/>
            <a:ext cx="5381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рож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ка африканской живородящей жабы вынашивает головастиков в яйцеводе, австралийская заботливая лягушка — в собственном желуд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11" descr="Безымянный"/>
          <p:cNvPicPr/>
          <p:nvPr/>
        </p:nvPicPr>
        <p:blipFill>
          <a:blip r:embed="rId3"/>
          <a:stretch/>
        </p:blipFill>
        <p:spPr>
          <a:xfrm>
            <a:off x="395280" y="3357720"/>
            <a:ext cx="1905120" cy="1009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н"/>
          <p:cNvPicPr/>
          <p:nvPr/>
        </p:nvPicPr>
        <p:blipFill>
          <a:blip r:embed="rId4"/>
          <a:stretch/>
        </p:blipFill>
        <p:spPr>
          <a:xfrm>
            <a:off x="4427640" y="4221000"/>
            <a:ext cx="1609560" cy="19051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2"/>
          <p:cNvSpPr/>
          <p:nvPr/>
        </p:nvSpPr>
        <p:spPr>
          <a:xfrm>
            <a:off x="2104920" y="425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2413440" y="3690000"/>
            <a:ext cx="160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Живородящая жаб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6519600" y="5561640"/>
            <a:ext cx="168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ботливая лягуш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1476360" y="475920"/>
            <a:ext cx="537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лягушки происходит с превращение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5423040" y="595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5" descr="Безымянный"/>
          <p:cNvPicPr/>
          <p:nvPr/>
        </p:nvPicPr>
        <p:blipFill>
          <a:blip r:embed="rId1"/>
          <a:stretch/>
        </p:blipFill>
        <p:spPr>
          <a:xfrm>
            <a:off x="684360" y="1268280"/>
            <a:ext cx="7920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5"/>
          <p:cNvSpPr/>
          <p:nvPr/>
        </p:nvSpPr>
        <p:spPr>
          <a:xfrm>
            <a:off x="428400" y="332640"/>
            <a:ext cx="29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ИСХОЖДЕНИЕ ЗЕМНОВОД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" descr="Безымянный"/>
          <p:cNvPicPr/>
          <p:nvPr/>
        </p:nvPicPr>
        <p:blipFill>
          <a:blip r:embed="rId1"/>
          <a:stretch/>
        </p:blipFill>
        <p:spPr>
          <a:xfrm>
            <a:off x="324000" y="981000"/>
            <a:ext cx="4103640" cy="3456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6"/>
          <p:cNvSpPr/>
          <p:nvPr/>
        </p:nvSpPr>
        <p:spPr>
          <a:xfrm>
            <a:off x="2062080" y="863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5359320" y="591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7" descr="Безымянный"/>
          <p:cNvPicPr/>
          <p:nvPr/>
        </p:nvPicPr>
        <p:blipFill>
          <a:blip r:embed="rId2"/>
          <a:stretch/>
        </p:blipFill>
        <p:spPr>
          <a:xfrm>
            <a:off x="4427640" y="2060640"/>
            <a:ext cx="4321080" cy="40449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9"/>
          <p:cNvSpPr/>
          <p:nvPr/>
        </p:nvSpPr>
        <p:spPr>
          <a:xfrm>
            <a:off x="5359320" y="1191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539640" y="4796640"/>
            <a:ext cx="374508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 давно вымерших рипидистиевых рыб скелет конечности соответствовал плану строения конечности наземных позвоночных. Поэтому их считают той группой, от которой произошли земноводны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и этапа происхождения земноводных: рипидистиевая рыба, самое древнее ископаемое земноводное (ихтиостегия) и современное хвостатое земноводно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1935000" y="446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4" descr="Безымянный"/>
          <p:cNvPicPr/>
          <p:nvPr/>
        </p:nvPicPr>
        <p:blipFill>
          <a:blip r:embed="rId1"/>
          <a:stretch/>
        </p:blipFill>
        <p:spPr>
          <a:xfrm>
            <a:off x="250920" y="333360"/>
            <a:ext cx="5041800" cy="49528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6"/>
          <p:cNvSpPr/>
          <p:nvPr/>
        </p:nvSpPr>
        <p:spPr>
          <a:xfrm>
            <a:off x="5580000" y="1222560"/>
            <a:ext cx="331308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исхождение и эволюция земноводных (по данным палеонтолог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ые ранние земноводные ихтиостегии жили 370–350 млн лет назад и вымерли. Другая древняя длиннохвостая группа — лепоспондилии пережила расцвет около 300 млн лет назад и вымерла, но дала начало современным Безногим и Хвостатым. Третья древняя группа с укороченным хвостом (лабиринтодонты) пережила расцвет около 300 млн лет назад и тоже вымерла, но дала начало современным Бесхвостым. Одна группа лабиринтодонтов — батрахозавры — тоже вымерла, но дала начало котилозаврам — первым пресмыкающим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971640" y="5561640"/>
            <a:ext cx="744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ИДОВОЕ РАЗНООБРАЗИЕ И КЛАССИФИКАЦИЯ СОВРЕМЕННЫХ ЗЕМНОВОДНЫ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е земноводные объединяются в 3 четко различающихся отряда: Безногие (200 видов), Хвостатые (500 видов) и Бесхвостые (4000 видов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00040" y="214200"/>
          <a:ext cx="3143160" cy="365400"/>
        </p:xfrm>
        <a:graphic>
          <a:graphicData uri="http://schemas.openxmlformats.org/drawingml/2006/table">
            <a:tbl>
              <a:tblPr/>
              <a:tblGrid>
                <a:gridCol w="2658960"/>
                <a:gridCol w="4842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яд БЕЗНОГ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Rectangle 16"/>
          <p:cNvSpPr/>
          <p:nvPr/>
        </p:nvSpPr>
        <p:spPr>
          <a:xfrm>
            <a:off x="2143080" y="1073160"/>
            <a:ext cx="432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Цейлонский рыбозм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5" descr="к"/>
          <p:cNvPicPr/>
          <p:nvPr/>
        </p:nvPicPr>
        <p:blipFill>
          <a:blip r:embed="rId1"/>
          <a:stretch/>
        </p:blipFill>
        <p:spPr>
          <a:xfrm>
            <a:off x="4968720" y="0"/>
            <a:ext cx="2656080" cy="207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571680" y="2143080"/>
          <a:ext cx="7786440" cy="365040"/>
        </p:xfrm>
        <a:graphic>
          <a:graphicData uri="http://schemas.openxmlformats.org/drawingml/2006/table">
            <a:tbl>
              <a:tblPr/>
              <a:tblGrid>
                <a:gridCol w="7786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ЕЕ СТРОЕНИЕ ЛЯГУШКИ, КОНЕЧНОСТИ И ИХ РАБО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Rectangle 28"/>
          <p:cNvSpPr/>
          <p:nvPr/>
        </p:nvSpPr>
        <p:spPr>
          <a:xfrm>
            <a:off x="1509840" y="538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7" descr="паа"/>
          <p:cNvPicPr/>
          <p:nvPr/>
        </p:nvPicPr>
        <p:blipFill>
          <a:blip r:embed="rId2"/>
          <a:stretch/>
        </p:blipFill>
        <p:spPr>
          <a:xfrm>
            <a:off x="184320" y="2500200"/>
            <a:ext cx="89596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0" y="1080"/>
            <a:ext cx="942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тделы передних и задних конечностей позвоночн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2955960" y="176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пва"/>
          <p:cNvPicPr/>
          <p:nvPr/>
        </p:nvPicPr>
        <p:blipFill>
          <a:blip r:embed="rId1"/>
          <a:stretch/>
        </p:blipFill>
        <p:spPr>
          <a:xfrm>
            <a:off x="1214280" y="642960"/>
            <a:ext cx="5943600" cy="44672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7"/>
          <p:cNvSpPr/>
          <p:nvPr/>
        </p:nvSpPr>
        <p:spPr>
          <a:xfrm>
            <a:off x="285840" y="5294520"/>
            <a:ext cx="885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всех позвоночных (за исключением рыб и безногих) одинаковый план строения конечностей, основанный на системе рычагов, которые прикрепляются к позвоночнику с помощью плечевого и тазового пояс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аааа"/>
          <p:cNvPicPr/>
          <p:nvPr/>
        </p:nvPicPr>
        <p:blipFill>
          <a:blip r:embed="rId1"/>
          <a:stretch/>
        </p:blipFill>
        <p:spPr>
          <a:xfrm>
            <a:off x="500040" y="2786040"/>
            <a:ext cx="8240760" cy="440856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4"/>
          <p:cNvSpPr/>
          <p:nvPr/>
        </p:nvSpPr>
        <p:spPr>
          <a:xfrm>
            <a:off x="638280" y="261468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63828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000080" y="438120"/>
            <a:ext cx="7916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 земноводных конечности упираются в землю по бокам тела; у пресмыкающихся — тоже, но тело более приподнято. Лишь у птиц и млекопитающих конечности подпирают тело сниз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871560" y="172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404640" y="399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5"/>
          <p:cNvSpPr/>
          <p:nvPr/>
        </p:nvSpPr>
        <p:spPr>
          <a:xfrm>
            <a:off x="722160" y="40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724320" y="59666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8" descr="ааа"/>
          <p:cNvPicPr/>
          <p:nvPr/>
        </p:nvPicPr>
        <p:blipFill>
          <a:blip r:embed="rId1"/>
          <a:stretch/>
        </p:blipFill>
        <p:spPr>
          <a:xfrm>
            <a:off x="0" y="285840"/>
            <a:ext cx="2286000" cy="61783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0"/>
          <p:cNvSpPr/>
          <p:nvPr/>
        </p:nvSpPr>
        <p:spPr>
          <a:xfrm>
            <a:off x="2786040" y="1446480"/>
            <a:ext cx="6357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-за такого прикрепления конечностей земноводные по суше не ходят, а ползают, поочередно сгибая и разгибая конечности и отталкиваясь ими от зем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4" descr="аавв"/>
          <p:cNvPicPr/>
          <p:nvPr/>
        </p:nvPicPr>
        <p:blipFill>
          <a:blip r:embed="rId1"/>
          <a:stretch/>
        </p:blipFill>
        <p:spPr>
          <a:xfrm>
            <a:off x="0" y="285840"/>
            <a:ext cx="2932200" cy="54291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8"/>
          <p:cNvSpPr/>
          <p:nvPr/>
        </p:nvSpPr>
        <p:spPr>
          <a:xfrm>
            <a:off x="3000240" y="285840"/>
            <a:ext cx="6143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ятнистая веслоногая лягушка лазает по стеблям. Веслоногие лягушки при прыжке могут планировать в воздухе на растопыренных между пальцами перепонках, пролетая до 10 –15 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вущие на деревьях лягушки хорошо лазают, обхватывая стебли длинными гибкими пальцами с липкими дисками на концах. Они перепрыгивают с ветки на ветку, прилипая к ним дисками и липким брюх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1" descr="ааааа"/>
          <p:cNvPicPr/>
          <p:nvPr/>
        </p:nvPicPr>
        <p:blipFill>
          <a:blip r:embed="rId1"/>
          <a:stretch/>
        </p:blipFill>
        <p:spPr>
          <a:xfrm>
            <a:off x="428760" y="142920"/>
            <a:ext cx="8072280" cy="34718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3"/>
          <p:cNvSpPr/>
          <p:nvPr/>
        </p:nvSpPr>
        <p:spPr>
          <a:xfrm>
            <a:off x="500040" y="3941280"/>
            <a:ext cx="8358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Лягушки, как и другие бесхвостые земноводные, могут прыга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ыгая, лягушка одновременно отталкивается от земли обеими длинными задними конечностями, последовательно разгибая их в каждом сустав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444600" y="215640"/>
            <a:ext cx="44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Шпорцевая лягушк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пп"/>
          <p:cNvPicPr/>
          <p:nvPr/>
        </p:nvPicPr>
        <p:blipFill>
          <a:blip r:embed="rId1"/>
          <a:stretch/>
        </p:blipFill>
        <p:spPr>
          <a:xfrm>
            <a:off x="1928880" y="857160"/>
            <a:ext cx="5022720" cy="32148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 flipV="1" rot="10800000">
            <a:off x="500040" y="4080600"/>
            <a:ext cx="8501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Бесхвостые плавают «брассом», одновременно отталкиваясь от воды задними конечностями с перепонками между пальц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550960" y="338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06:37:05Z</dcterms:created>
  <dc:creator>Наташа</dc:creator>
  <dc:description/>
  <dc:language>en-US</dc:language>
  <cp:lastModifiedBy>Александр</cp:lastModifiedBy>
  <dcterms:modified xsi:type="dcterms:W3CDTF">2012-03-19T16:10:49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a000000000001023620</vt:lpwstr>
  </property>
</Properties>
</file>