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7.png" ContentType="image/png"/>
  <Override PartName="/ppt/media/image34.jpeg" ContentType="image/jpeg"/>
  <Override PartName="/ppt/media/image11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42.jpeg" ContentType="image/jpeg"/>
  <Override PartName="/ppt/media/image43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2C6B-A2F4-4AF5-9FA9-C941D8EF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CCB-E164-432B-847F-7A2B513C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46F6-1CA6-4F7A-A895-105151FF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81C5-DD4E-4A46-A26E-4A0A28DD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AF4-E6A1-4212-B567-6F2EE99D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EB77-AE36-427A-9752-D59F4FE7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C667-9109-45E0-B694-412587C4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0865-6D9D-413B-AB7C-CA51797F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1312-6D4B-4376-86D6-5B713A30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5D6-7A50-487F-9493-C0C0EB19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8691-5383-4C4E-94BC-61466C12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0B74-99DF-47B1-A2AE-DC2E6E3D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E71A-4456-46AE-82E2-97358211C6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98"/>
          <p:cNvSpPr/>
          <p:nvPr/>
        </p:nvSpPr>
        <p:spPr>
          <a:xfrm>
            <a:off x="1619280" y="2031840"/>
            <a:ext cx="684036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Земноводны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1525320" y="215280"/>
            <a:ext cx="60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ЕННЕЕ СТРОЕНИЕ ЛЯГУШ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н"/>
          <p:cNvPicPr/>
          <p:nvPr/>
        </p:nvPicPr>
        <p:blipFill>
          <a:blip r:embed="rId1"/>
          <a:stretch/>
        </p:blipFill>
        <p:spPr>
          <a:xfrm>
            <a:off x="-19080" y="857160"/>
            <a:ext cx="9163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97200" y="144000"/>
            <a:ext cx="90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СТРОЕНИЯ ГОЛОВНОГО МОЗГА У ЗЕМНОВОД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6480" y="276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Безымянный"/>
          <p:cNvPicPr/>
          <p:nvPr/>
        </p:nvPicPr>
        <p:blipFill>
          <a:blip r:embed="rId1"/>
          <a:stretch/>
        </p:blipFill>
        <p:spPr>
          <a:xfrm>
            <a:off x="1403280" y="765000"/>
            <a:ext cx="5934240" cy="2543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8"/>
          <p:cNvSpPr/>
          <p:nvPr/>
        </p:nvSpPr>
        <p:spPr>
          <a:xfrm>
            <a:off x="1785960" y="3660840"/>
            <a:ext cx="52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РОВЕНОСНАЯ СИСТЕМА ЛЯГУШ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н"/>
          <p:cNvPicPr/>
          <p:nvPr/>
        </p:nvPicPr>
        <p:blipFill>
          <a:blip r:embed="rId2"/>
          <a:stretch/>
        </p:blipFill>
        <p:spPr>
          <a:xfrm>
            <a:off x="3214800" y="4084560"/>
            <a:ext cx="28796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1054440" y="45000"/>
            <a:ext cx="297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строения сердца земноводны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Безымянный"/>
          <p:cNvPicPr/>
          <p:nvPr/>
        </p:nvPicPr>
        <p:blipFill>
          <a:blip r:embed="rId1"/>
          <a:stretch/>
        </p:blipFill>
        <p:spPr>
          <a:xfrm>
            <a:off x="684360" y="620640"/>
            <a:ext cx="4465440" cy="2928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 flipV="1" rot="10800000">
            <a:off x="5364000" y="1626840"/>
            <a:ext cx="3098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а круга кровообращения и трехкамерное сердце. Из-за разного участия кожного дыхания соотношение в нем артериальной и венозной крови может менять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607840" y="3618360"/>
            <a:ext cx="365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СТРОЕНИЯ ЛЕГКИХ У ЗЕМНОВОД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Безымянный"/>
          <p:cNvPicPr/>
          <p:nvPr/>
        </p:nvPicPr>
        <p:blipFill>
          <a:blip r:embed="rId2"/>
          <a:stretch/>
        </p:blipFill>
        <p:spPr>
          <a:xfrm>
            <a:off x="250920" y="4076640"/>
            <a:ext cx="5651280" cy="2000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9"/>
          <p:cNvSpPr/>
          <p:nvPr/>
        </p:nvSpPr>
        <p:spPr>
          <a:xfrm>
            <a:off x="5905440" y="4345920"/>
            <a:ext cx="2843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жнение внутренней структуры легкого увеличивает поверхность контакта с воздухом, что хорошо, но оно способствует и застою воздуха в легком, что при пассивном выдохе, свойственном земноводным, плох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780560" y="619920"/>
            <a:ext cx="41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ИСТЕМА ДЫХАНИЯ ЛЕГКИМИ И МЕХАНИЗМ ВДО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Безымянный"/>
          <p:cNvPicPr/>
          <p:nvPr/>
        </p:nvPicPr>
        <p:blipFill>
          <a:blip r:embed="rId1"/>
          <a:stretch/>
        </p:blipFill>
        <p:spPr>
          <a:xfrm>
            <a:off x="1332000" y="981000"/>
            <a:ext cx="5933880" cy="28386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1258920" y="3933000"/>
            <a:ext cx="6057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дох начинается с того, что лягушка, закрыв рот и открыв клапаны в ноздрях, опускает усилием мышц дно ротовой полости. Воздух засасывается в ротовую полость. Затем лягушка запирает клапаны в ноздрях и усилием мышц поднимает дно ротовой полости. Сдавливаемый воздух проходит в легкие и раздувает их. Выдох (не нарисован) происходит через открытые ноздри или рот пассивно, точно так, как выходит воздух из воздушного шарика, если его развяза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98880" y="33264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288320" y="3326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ЯГУШ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89088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Безымянный"/>
          <p:cNvPicPr/>
          <p:nvPr/>
        </p:nvPicPr>
        <p:blipFill>
          <a:blip r:embed="rId1"/>
          <a:stretch/>
        </p:blipFill>
        <p:spPr>
          <a:xfrm>
            <a:off x="1835280" y="1125360"/>
            <a:ext cx="540072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424240" y="633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Безымянный"/>
          <p:cNvPicPr/>
          <p:nvPr/>
        </p:nvPicPr>
        <p:blipFill>
          <a:blip r:embed="rId1"/>
          <a:stretch/>
        </p:blipFill>
        <p:spPr>
          <a:xfrm>
            <a:off x="1332000" y="260280"/>
            <a:ext cx="561816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826920" y="4436280"/>
            <a:ext cx="61930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келет лягу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 современных бесхвостых скелет простой и легкий. У древних земноводных стегоцефалов костей было больше. Череп сверху и с боков был одет в сплошной панцирь из костных чешуй, а позвонки в туловищном отделе имели ребра. На рисунке красным отмечены принципиально новые части скелета, которыми земноводные отличаются от рыб (шейный позвонок, кости таза и кости конечностей). В передней части туловища под ребрами виден брюшной щ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оение скелета конечностей позвоноч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 скелета пятипалых конечностей у наземных позвоночных один и тот же и одинаков в передних и задних конечностях, хотя отделы и отдельные кости могут называться по-разн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Безымянный"/>
          <p:cNvPicPr/>
          <p:nvPr/>
        </p:nvPicPr>
        <p:blipFill>
          <a:blip r:embed="rId1"/>
          <a:stretch/>
        </p:blipFill>
        <p:spPr>
          <a:xfrm>
            <a:off x="744480" y="382680"/>
            <a:ext cx="1505160" cy="1904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Безымянный"/>
          <p:cNvPicPr/>
          <p:nvPr/>
        </p:nvPicPr>
        <p:blipFill>
          <a:blip r:embed="rId2"/>
          <a:stretch/>
        </p:blipFill>
        <p:spPr>
          <a:xfrm>
            <a:off x="744480" y="4919760"/>
            <a:ext cx="2098800" cy="11746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744480" y="3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44480" y="2150280"/>
            <a:ext cx="8399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Ы ЧУВСТВ И ПИЩЕВОЕ ПОВЕД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ы чувств и движение липкого языка при ловле насеком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за — орган зр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оздри — орган обоня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Язык и полость рта — орган вкус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арабанная перепонка — орган слух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 равновесия — внутреннее ухо. Расположе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стях череп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язание — всей кож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енности зрения лягуш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лягушка всматривается в окружающую обстановку, ее мозг не принимает повторяющиеся сигналы о каждой точке предмета, но усиливает изменяющиеся сигналы. Поэтому ползущее насекомое лягушка видит все отчетливее, а неподвижный субстрат — все слабее. Такая работа глаза и мозга позволяет лягушке преодолевать покровительственную окраску насекомых. Зато от лягушки легко уберечься, если сидеть неподвижн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лягушка ловит пролетающую мух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3132000" y="5228640"/>
            <a:ext cx="514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аваясь неподвижной, лягушка следит за мухой подвижными глазами, а ее мозг рассчитывает точку встречи и команды мышцам ног. Ноги залпом подбрасывают и разворачивают тело таким образом, чтобы точка встречи оказалась перед кончиком головы. В этот момент мозг вносит поправки и дает команду мышцам языка выброситься изо рта. Перехват летящей мухи происходит так быстро, что мы не успеваем рассмотреть движения лягу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Безымянный"/>
          <p:cNvPicPr/>
          <p:nvPr/>
        </p:nvPicPr>
        <p:blipFill>
          <a:blip r:embed="rId1"/>
          <a:stretch/>
        </p:blipFill>
        <p:spPr>
          <a:xfrm>
            <a:off x="468360" y="819000"/>
            <a:ext cx="1905120" cy="1609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Безымянный"/>
          <p:cNvPicPr/>
          <p:nvPr/>
        </p:nvPicPr>
        <p:blipFill>
          <a:blip r:embed="rId2"/>
          <a:stretch/>
        </p:blipFill>
        <p:spPr>
          <a:xfrm>
            <a:off x="468360" y="24289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Безымянный"/>
          <p:cNvPicPr/>
          <p:nvPr/>
        </p:nvPicPr>
        <p:blipFill>
          <a:blip r:embed="rId3"/>
          <a:stretch/>
        </p:blipFill>
        <p:spPr>
          <a:xfrm>
            <a:off x="468360" y="4168800"/>
            <a:ext cx="1905120" cy="1181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Безымянный"/>
          <p:cNvPicPr/>
          <p:nvPr/>
        </p:nvPicPr>
        <p:blipFill>
          <a:blip r:embed="rId4"/>
          <a:stretch/>
        </p:blipFill>
        <p:spPr>
          <a:xfrm>
            <a:off x="250920" y="5445000"/>
            <a:ext cx="1904760" cy="1123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266760" y="270720"/>
            <a:ext cx="4583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жаба ловит ползущую по земле добыч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аба заметила добычу в боковом поле зрения одного глаз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683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484360" y="2969280"/>
            <a:ext cx="475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аба поворачивается к добыче центром поля зрения этого глаза. Так глаз видит наиболее чет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2471760" y="4769280"/>
            <a:ext cx="485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тем она поворачивается и центром поля зрения второго гла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2020680" y="6165000"/>
            <a:ext cx="630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уя бинокулярное зрение, жаба метко выстреливает в добычу липким язы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Безымянный"/>
          <p:cNvPicPr/>
          <p:nvPr/>
        </p:nvPicPr>
        <p:blipFill>
          <a:blip r:embed="rId1"/>
          <a:stretch/>
        </p:blipFill>
        <p:spPr>
          <a:xfrm>
            <a:off x="684360" y="836640"/>
            <a:ext cx="1685880" cy="1905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Безымянный"/>
          <p:cNvPicPr/>
          <p:nvPr/>
        </p:nvPicPr>
        <p:blipFill>
          <a:blip r:embed="rId2"/>
          <a:stretch/>
        </p:blipFill>
        <p:spPr>
          <a:xfrm>
            <a:off x="395280" y="3284640"/>
            <a:ext cx="1905120" cy="1447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Безымянный"/>
          <p:cNvPicPr/>
          <p:nvPr/>
        </p:nvPicPr>
        <p:blipFill>
          <a:blip r:embed="rId3"/>
          <a:stretch/>
        </p:blipFill>
        <p:spPr>
          <a:xfrm>
            <a:off x="611280" y="4941720"/>
            <a:ext cx="1904760" cy="1486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369360" y="378360"/>
            <a:ext cx="764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РОВЫ И ОКРА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аска большинства земноводных — покровительственная, в том числе и разбивающая контуры т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9360" y="2753280"/>
            <a:ext cx="758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ядовитые лягушки, например поперечно-полосатый древолаз, окрашены предупреждающ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947240" y="3905640"/>
            <a:ext cx="678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ровительственная окраска остромордой речницы делает ее незаметной на буром фо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2516400" y="5274360"/>
            <a:ext cx="655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земноводные приобретают яркую брачную раскраску на сезон размнож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Безымянный"/>
          <p:cNvPicPr/>
          <p:nvPr/>
        </p:nvPicPr>
        <p:blipFill>
          <a:blip r:embed="rId1"/>
          <a:stretch/>
        </p:blipFill>
        <p:spPr>
          <a:xfrm>
            <a:off x="318960" y="82548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Безымянный"/>
          <p:cNvPicPr/>
          <p:nvPr/>
        </p:nvPicPr>
        <p:blipFill>
          <a:blip r:embed="rId2"/>
          <a:stretch/>
        </p:blipFill>
        <p:spPr>
          <a:xfrm>
            <a:off x="318960" y="3386160"/>
            <a:ext cx="1905120" cy="1495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36960" y="321120"/>
            <a:ext cx="282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АЛЬНОЕ ПОВЕД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-10440" y="2699280"/>
            <a:ext cx="812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ыкновенная квакш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о время пения у некоторых самцов раздувается горловой мешок. Он действует как резонатор, усиливая зву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02240" y="4880880"/>
            <a:ext cx="473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ец древолаза изгоняет другого самца со своей территор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42960" y="142920"/>
          <a:ext cx="8136000" cy="147312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ЗЕМНОВОДНЫ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ИТЕЛИ ТРЕХ ОТРЯДОВ ЗЕМНОВОДНЫХ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105"/>
          <p:cNvSpPr/>
          <p:nvPr/>
        </p:nvSpPr>
        <p:spPr>
          <a:xfrm>
            <a:off x="76500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04"/>
          <p:cNvSpPr/>
          <p:nvPr/>
        </p:nvSpPr>
        <p:spPr>
          <a:xfrm>
            <a:off x="765000" y="1595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557360"/>
          <a:ext cx="9144000" cy="19810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новодные — это в большинстве своем четвероногие холоднокровные позвоночные животные, имеющие стадию водной личинки, а во взрослом состоянии связанные как с водой, так и с наземной средой. Личинка дышит с помощью жабр и кожи, а взрослое животное — с помощью легких и голой, постоянно увлажняемой кож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118" descr="ку"/>
          <p:cNvPicPr/>
          <p:nvPr/>
        </p:nvPicPr>
        <p:blipFill>
          <a:blip r:embed="rId1"/>
          <a:stretch/>
        </p:blipFill>
        <p:spPr>
          <a:xfrm>
            <a:off x="2214720" y="5072040"/>
            <a:ext cx="2119320" cy="1409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7" descr="Безымянный"/>
          <p:cNvPicPr/>
          <p:nvPr/>
        </p:nvPicPr>
        <p:blipFill>
          <a:blip r:embed="rId2"/>
          <a:stretch/>
        </p:blipFill>
        <p:spPr>
          <a:xfrm>
            <a:off x="0" y="4786200"/>
            <a:ext cx="2157480" cy="2071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19"/>
          <p:cNvSpPr/>
          <p:nvPr/>
        </p:nvSpPr>
        <p:spPr>
          <a:xfrm>
            <a:off x="2291400" y="442944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ая жаб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0"/>
          <p:cNvSpPr/>
          <p:nvPr/>
        </p:nvSpPr>
        <p:spPr>
          <a:xfrm>
            <a:off x="289800" y="442944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еленая лягуш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143680" y="3214800"/>
          <a:ext cx="3143160" cy="334800"/>
        </p:xfrm>
        <a:graphic>
          <a:graphicData uri="http://schemas.openxmlformats.org/drawingml/2006/table">
            <a:tbl>
              <a:tblPr/>
              <a:tblGrid>
                <a:gridCol w="2417760"/>
                <a:gridCol w="390240"/>
                <a:gridCol w="33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яд ХВОСТАТ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135" descr="п"/>
          <p:cNvPicPr/>
          <p:nvPr/>
        </p:nvPicPr>
        <p:blipFill>
          <a:blip r:embed="rId3"/>
          <a:stretch/>
        </p:blipFill>
        <p:spPr>
          <a:xfrm>
            <a:off x="3929040" y="4214880"/>
            <a:ext cx="276552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4" descr="в"/>
          <p:cNvPicPr/>
          <p:nvPr/>
        </p:nvPicPr>
        <p:blipFill>
          <a:blip r:embed="rId4"/>
          <a:stretch/>
        </p:blipFill>
        <p:spPr>
          <a:xfrm>
            <a:off x="6858000" y="4357800"/>
            <a:ext cx="2143080" cy="25509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36"/>
          <p:cNvSpPr/>
          <p:nvPr/>
        </p:nvSpPr>
        <p:spPr>
          <a:xfrm>
            <a:off x="3930480" y="385812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ребенчатый тритон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7"/>
          <p:cNvSpPr/>
          <p:nvPr/>
        </p:nvSpPr>
        <p:spPr>
          <a:xfrm>
            <a:off x="5021640" y="4936320"/>
            <a:ext cx="111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8"/>
          <p:cNvSpPr/>
          <p:nvPr/>
        </p:nvSpPr>
        <p:spPr>
          <a:xfrm>
            <a:off x="6786720" y="3857760"/>
            <a:ext cx="216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бирский углозу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36"/>
          <p:cNvSpPr/>
          <p:nvPr/>
        </p:nvSpPr>
        <p:spPr>
          <a:xfrm>
            <a:off x="299160" y="392904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яд БЕСХВОСТ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6"/>
          <p:cNvSpPr/>
          <p:nvPr/>
        </p:nvSpPr>
        <p:spPr>
          <a:xfrm>
            <a:off x="15480" y="305280"/>
            <a:ext cx="804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РАЧНЫЕ РИТУАЛ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 многих земноводных размножению предшествуют брачные ритуалы, а самцы приобретают брачный наря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5" descr="Безымянный"/>
          <p:cNvPicPr/>
          <p:nvPr/>
        </p:nvPicPr>
        <p:blipFill>
          <a:blip r:embed="rId1"/>
          <a:stretch/>
        </p:blipFill>
        <p:spPr>
          <a:xfrm>
            <a:off x="395280" y="1052640"/>
            <a:ext cx="1905120" cy="10191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7"/>
          <p:cNvSpPr/>
          <p:nvPr/>
        </p:nvSpPr>
        <p:spPr>
          <a:xfrm>
            <a:off x="2142360" y="1483560"/>
            <a:ext cx="439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ка малоазиатского тритона и самец в брачном наря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3" descr="Безымянный"/>
          <p:cNvPicPr/>
          <p:nvPr/>
        </p:nvPicPr>
        <p:blipFill>
          <a:blip r:embed="rId2"/>
          <a:stretch/>
        </p:blipFill>
        <p:spPr>
          <a:xfrm>
            <a:off x="395280" y="2565360"/>
            <a:ext cx="1905120" cy="1876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2" descr="Безымянный"/>
          <p:cNvPicPr/>
          <p:nvPr/>
        </p:nvPicPr>
        <p:blipFill>
          <a:blip r:embed="rId3"/>
          <a:stretch/>
        </p:blipFill>
        <p:spPr>
          <a:xfrm>
            <a:off x="395280" y="4724280"/>
            <a:ext cx="1905120" cy="1667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1" descr="Безымянный"/>
          <p:cNvPicPr/>
          <p:nvPr/>
        </p:nvPicPr>
        <p:blipFill>
          <a:blip r:embed="rId4"/>
          <a:stretch/>
        </p:blipFill>
        <p:spPr>
          <a:xfrm>
            <a:off x="6877080" y="2852640"/>
            <a:ext cx="1905120" cy="1343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0" descr="Безымянный"/>
          <p:cNvPicPr/>
          <p:nvPr/>
        </p:nvPicPr>
        <p:blipFill>
          <a:blip r:embed="rId5"/>
          <a:stretch/>
        </p:blipFill>
        <p:spPr>
          <a:xfrm>
            <a:off x="5724360" y="4653000"/>
            <a:ext cx="819360" cy="1905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4"/>
          <p:cNvSpPr/>
          <p:nvPr/>
        </p:nvSpPr>
        <p:spPr>
          <a:xfrm>
            <a:off x="1080000" y="2105640"/>
            <a:ext cx="586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НОЖЕНИЕ И ЗАБОТА О ПОТОМСТВ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у рыб спаривание — редкое явление, то у земноводных оно обязатель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5"/>
          <p:cNvSpPr/>
          <p:nvPr/>
        </p:nvSpPr>
        <p:spPr>
          <a:xfrm>
            <a:off x="2484360" y="3038760"/>
            <a:ext cx="2592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кра разных видов земновод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инство земноводных не заботятся о дальнейшей судьбе оплодотворенных икринок. Но у некоторых выработались разные приемы заботы о потомстве, вплоть до живорож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7"/>
          <p:cNvSpPr/>
          <p:nvPr/>
        </p:nvSpPr>
        <p:spPr>
          <a:xfrm>
            <a:off x="6948360" y="4149720"/>
            <a:ext cx="189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ец жабы-повитухи носит икру на бедр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71560" y="7456320"/>
          <a:ext cx="3897360" cy="547920"/>
        </p:xfrm>
        <a:graphic>
          <a:graphicData uri="http://schemas.openxmlformats.org/drawingml/2006/table">
            <a:tbl>
              <a:tblPr/>
              <a:tblGrid>
                <a:gridCol w="3681360"/>
                <a:gridCol w="21600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68"/>
          <p:cNvSpPr/>
          <p:nvPr/>
        </p:nvSpPr>
        <p:spPr>
          <a:xfrm>
            <a:off x="871560" y="800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9"/>
          <p:cNvSpPr/>
          <p:nvPr/>
        </p:nvSpPr>
        <p:spPr>
          <a:xfrm>
            <a:off x="6588000" y="5490000"/>
            <a:ext cx="230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вакша филломедуза строит для икры гнездо из листье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195640" y="5445000"/>
          <a:ext cx="2736720" cy="87480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инамская пипа вынашивает икру в ячейках кож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Безымянный"/>
          <p:cNvPicPr/>
          <p:nvPr/>
        </p:nvPicPr>
        <p:blipFill>
          <a:blip r:embed="rId1"/>
          <a:stretch/>
        </p:blipFill>
        <p:spPr>
          <a:xfrm>
            <a:off x="755640" y="0"/>
            <a:ext cx="1266840" cy="1905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н"/>
          <p:cNvPicPr/>
          <p:nvPr/>
        </p:nvPicPr>
        <p:blipFill>
          <a:blip r:embed="rId2"/>
          <a:stretch/>
        </p:blipFill>
        <p:spPr>
          <a:xfrm>
            <a:off x="4643280" y="333360"/>
            <a:ext cx="1905120" cy="1486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9144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014920" y="1097640"/>
            <a:ext cx="2212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ец листолаза переноси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оловастиков в в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6588000" y="952920"/>
            <a:ext cx="22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ка рыбозмея защищает икру в но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692360" y="2133000"/>
            <a:ext cx="5381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рож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ка африканской живородящей жабы вынашивает головастиков в яйцеводе, австралийская заботливая лягушка — в собственном желуд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1" descr="Безымянный"/>
          <p:cNvPicPr/>
          <p:nvPr/>
        </p:nvPicPr>
        <p:blipFill>
          <a:blip r:embed="rId3"/>
          <a:stretch/>
        </p:blipFill>
        <p:spPr>
          <a:xfrm>
            <a:off x="395280" y="3357720"/>
            <a:ext cx="1905120" cy="1009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н"/>
          <p:cNvPicPr/>
          <p:nvPr/>
        </p:nvPicPr>
        <p:blipFill>
          <a:blip r:embed="rId4"/>
          <a:stretch/>
        </p:blipFill>
        <p:spPr>
          <a:xfrm>
            <a:off x="4427640" y="4221000"/>
            <a:ext cx="1609560" cy="19051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2104920" y="425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2413440" y="3690000"/>
            <a:ext cx="160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ивородящая жаб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6519600" y="5561640"/>
            <a:ext cx="168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ботливая лягуш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476360" y="475920"/>
            <a:ext cx="53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лягушки происходит с превращение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5423040" y="595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Безымянный"/>
          <p:cNvPicPr/>
          <p:nvPr/>
        </p:nvPicPr>
        <p:blipFill>
          <a:blip r:embed="rId1"/>
          <a:stretch/>
        </p:blipFill>
        <p:spPr>
          <a:xfrm>
            <a:off x="684360" y="1268280"/>
            <a:ext cx="792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428400" y="332640"/>
            <a:ext cx="29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СХОЖДЕНИЕ ЗЕМНОВОД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Безымянный"/>
          <p:cNvPicPr/>
          <p:nvPr/>
        </p:nvPicPr>
        <p:blipFill>
          <a:blip r:embed="rId1"/>
          <a:stretch/>
        </p:blipFill>
        <p:spPr>
          <a:xfrm>
            <a:off x="324000" y="981000"/>
            <a:ext cx="4103640" cy="3456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2062080" y="863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359320" y="591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7" descr="Безымянный"/>
          <p:cNvPicPr/>
          <p:nvPr/>
        </p:nvPicPr>
        <p:blipFill>
          <a:blip r:embed="rId2"/>
          <a:stretch/>
        </p:blipFill>
        <p:spPr>
          <a:xfrm>
            <a:off x="4427640" y="2060640"/>
            <a:ext cx="4321080" cy="40449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5359320" y="1191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539640" y="4796640"/>
            <a:ext cx="37450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давно вымерших рипидистиевых рыб скелет конечности соответствовал плану строения конечности наземных позвоночных. Поэтому их считают той группой, от которой произошли земновод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этапа происхождения земноводных: рипидистиевая рыба, самое древнее ископаемое земноводное (ихтиостегия) и современное хвостатое земноводно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1935000" y="446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Безымянный"/>
          <p:cNvPicPr/>
          <p:nvPr/>
        </p:nvPicPr>
        <p:blipFill>
          <a:blip r:embed="rId1"/>
          <a:stretch/>
        </p:blipFill>
        <p:spPr>
          <a:xfrm>
            <a:off x="250920" y="333360"/>
            <a:ext cx="5041800" cy="4952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5580000" y="1222560"/>
            <a:ext cx="331308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схождение и эволюция земноводных (по данным палеонтолог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ые ранние земноводные ихтиостегии жили 370–350 млн лет назад и вымерли. Другая древняя длиннохвостая группа — лепоспондилии пережила расцвет около 300 млн лет назад и вымерла, но дала начало современным Безногим и Хвостатым. Третья древняя группа с укороченным хвостом (лабиринтодонты) пережила расцвет около 300 млн лет назад и тоже вымерла, но дала начало современным Бесхвостым. Одна группа лабиринтодонтов — батрахозавры — тоже вымерла, но дала начало котилозаврам — первым пресмыкающим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71640" y="5561640"/>
            <a:ext cx="744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ОВОЕ РАЗНООБРАЗИЕ И КЛАССИФИКАЦИЯ СОВРЕМЕННЫХ ЗЕМНОВОД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е земноводные объединяются в 3 четко различающихся отряда: Безногие (200 видов), Хвостатые (500 видов) и Бесхвостые (4000 вид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00040" y="214200"/>
          <a:ext cx="3143160" cy="365400"/>
        </p:xfrm>
        <a:graphic>
          <a:graphicData uri="http://schemas.openxmlformats.org/drawingml/2006/table">
            <a:tbl>
              <a:tblPr/>
              <a:tblGrid>
                <a:gridCol w="2658960"/>
                <a:gridCol w="484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яд БЕЗНОГ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6"/>
          <p:cNvSpPr/>
          <p:nvPr/>
        </p:nvSpPr>
        <p:spPr>
          <a:xfrm>
            <a:off x="2143080" y="1073160"/>
            <a:ext cx="432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Цейлонский рыбозм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5" descr="к"/>
          <p:cNvPicPr/>
          <p:nvPr/>
        </p:nvPicPr>
        <p:blipFill>
          <a:blip r:embed="rId1"/>
          <a:stretch/>
        </p:blipFill>
        <p:spPr>
          <a:xfrm>
            <a:off x="4968720" y="0"/>
            <a:ext cx="2656080" cy="20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571680" y="2143080"/>
          <a:ext cx="7786440" cy="365040"/>
        </p:xfrm>
        <a:graphic>
          <a:graphicData uri="http://schemas.openxmlformats.org/drawingml/2006/table">
            <a:tbl>
              <a:tblPr/>
              <a:tblGrid>
                <a:gridCol w="7786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ЕЕ СТРОЕНИЕ ЛЯГУШКИ, КОНЕЧНОСТИ И ИХ РА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28"/>
          <p:cNvSpPr/>
          <p:nvPr/>
        </p:nvSpPr>
        <p:spPr>
          <a:xfrm>
            <a:off x="1509840" y="538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7" descr="паа"/>
          <p:cNvPicPr/>
          <p:nvPr/>
        </p:nvPicPr>
        <p:blipFill>
          <a:blip r:embed="rId2"/>
          <a:stretch/>
        </p:blipFill>
        <p:spPr>
          <a:xfrm>
            <a:off x="184320" y="2500200"/>
            <a:ext cx="89596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1080"/>
            <a:ext cx="942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тделы передних и задних конечностей позвоночн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955960" y="17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пва"/>
          <p:cNvPicPr/>
          <p:nvPr/>
        </p:nvPicPr>
        <p:blipFill>
          <a:blip r:embed="rId1"/>
          <a:stretch/>
        </p:blipFill>
        <p:spPr>
          <a:xfrm>
            <a:off x="1214280" y="642960"/>
            <a:ext cx="5943600" cy="4467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285840" y="5294520"/>
            <a:ext cx="885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всех позвоночных (за исключением рыб и безногих) одинаковый план строения конечностей, основанный на системе рычагов, которые прикрепляются к позвоночнику с помощью плечевого и тазового поя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аааа"/>
          <p:cNvPicPr/>
          <p:nvPr/>
        </p:nvPicPr>
        <p:blipFill>
          <a:blip r:embed="rId1"/>
          <a:stretch/>
        </p:blipFill>
        <p:spPr>
          <a:xfrm>
            <a:off x="500040" y="2786040"/>
            <a:ext cx="8240760" cy="44085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4"/>
          <p:cNvSpPr/>
          <p:nvPr/>
        </p:nvSpPr>
        <p:spPr>
          <a:xfrm>
            <a:off x="638280" y="26146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382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000080" y="438120"/>
            <a:ext cx="7916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земноводных конечности упираются в землю по бокам тела; у пресмыкающихся — тоже, но тело более приподнято. Лишь у птиц и млекопитающих конечности подпирают тело сниз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871560" y="172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404640" y="399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722160" y="40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724320" y="59666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ааа"/>
          <p:cNvPicPr/>
          <p:nvPr/>
        </p:nvPicPr>
        <p:blipFill>
          <a:blip r:embed="rId1"/>
          <a:stretch/>
        </p:blipFill>
        <p:spPr>
          <a:xfrm>
            <a:off x="0" y="285840"/>
            <a:ext cx="2286000" cy="6178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0"/>
          <p:cNvSpPr/>
          <p:nvPr/>
        </p:nvSpPr>
        <p:spPr>
          <a:xfrm>
            <a:off x="2786040" y="1446480"/>
            <a:ext cx="6357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-за такого прикрепления конечностей земноводные по суше не ходят, а ползают, поочередно сгибая и разгибая конечности и отталкиваясь ими от зем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4" descr="аавв"/>
          <p:cNvPicPr/>
          <p:nvPr/>
        </p:nvPicPr>
        <p:blipFill>
          <a:blip r:embed="rId1"/>
          <a:stretch/>
        </p:blipFill>
        <p:spPr>
          <a:xfrm>
            <a:off x="0" y="285840"/>
            <a:ext cx="2932200" cy="54291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8"/>
          <p:cNvSpPr/>
          <p:nvPr/>
        </p:nvSpPr>
        <p:spPr>
          <a:xfrm>
            <a:off x="3000240" y="285840"/>
            <a:ext cx="6143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ятнистая веслоногая лягушка лазает по стеблям. Веслоногие лягушки при прыжке могут планировать в воздухе на растопыренных между пальцами перепонках, пролетая до 10 –15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ущие на деревьях лягушки хорошо лазают, обхватывая стебли длинными гибкими пальцами с липкими дисками на концах. Они перепрыгивают с ветки на ветку, прилипая к ним дисками и липким брюх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1" descr="ааааа"/>
          <p:cNvPicPr/>
          <p:nvPr/>
        </p:nvPicPr>
        <p:blipFill>
          <a:blip r:embed="rId1"/>
          <a:stretch/>
        </p:blipFill>
        <p:spPr>
          <a:xfrm>
            <a:off x="428760" y="142920"/>
            <a:ext cx="8072280" cy="34718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3"/>
          <p:cNvSpPr/>
          <p:nvPr/>
        </p:nvSpPr>
        <p:spPr>
          <a:xfrm>
            <a:off x="500040" y="394128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Лягушки, как и другие бесхвостые земноводные, могут прыга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ыгая, лягушка одновременно отталкивается от земли обеими длинными задними конечностями, последовательно разгибая их в каждом суста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444600" y="215640"/>
            <a:ext cx="44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Шпорцевая лягуш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пп"/>
          <p:cNvPicPr/>
          <p:nvPr/>
        </p:nvPicPr>
        <p:blipFill>
          <a:blip r:embed="rId1"/>
          <a:stretch/>
        </p:blipFill>
        <p:spPr>
          <a:xfrm>
            <a:off x="1928880" y="857160"/>
            <a:ext cx="5022720" cy="3214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 flipV="1" rot="10800000">
            <a:off x="500040" y="4080600"/>
            <a:ext cx="8501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есхвостые плавают «брассом», одновременно отталкиваясь от воды задними конечностями с перепонками между пальц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50960" y="33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6:37:05Z</dcterms:created>
  <dc:creator>Наташа</dc:creator>
  <dc:description/>
  <dc:language>en-US</dc:language>
  <cp:lastModifiedBy>Александр</cp:lastModifiedBy>
  <dcterms:modified xsi:type="dcterms:W3CDTF">2012-03-19T16:10:49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a000000000001023620</vt:lpwstr>
  </property>
</Properties>
</file>