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41.jpeg" ContentType="image/jpeg"/>
  <Override PartName="/ppt/media/image1.png" ContentType="image/png"/>
  <Override PartName="/ppt/media/image2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2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31.wmf" ContentType="image/x-wmf"/>
  <Override PartName="/ppt/media/image3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2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43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4.jpeg" ContentType="image/jpeg"/>
  <Override PartName="/ppt/media/image7.png" ContentType="image/png"/>
  <Override PartName="/ppt/media/image22.jpeg" ContentType="image/jpeg"/>
  <Override PartName="/ppt/media/image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763D-5F71-49B6-91E6-8FD9AFC3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3361-2E65-4D04-89C2-FAD63A32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5C0A-37F1-409B-81AD-65C2F274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78BC-97E2-4B51-8069-56EA70B8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1026-0FF2-4D7F-9298-BCFA7235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DEC7-BEA0-450E-A90C-1B89B038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267F-5875-47D0-BBE7-602CD4CF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5A69-D3D9-4EE9-9905-EF9B7E2C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25D1-E060-476D-A6E8-DFCBFF8B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F799-261E-4DF3-BC60-4B5FD2B7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8FD-D37F-48F7-9358-C3DD241A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914C-A64A-496B-A3F6-D283BA45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5DEE-93CC-4A6B-929D-FF8DBCBEF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11.xml"/><Relationship Id="rId3" Type="http://schemas.openxmlformats.org/officeDocument/2006/relationships/slide" Target="slide3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" Target="slide5.xml"/><Relationship Id="rId4" Type="http://schemas.openxmlformats.org/officeDocument/2006/relationships/image" Target="../media/image32.jpeg"/><Relationship Id="rId5" Type="http://schemas.openxmlformats.org/officeDocument/2006/relationships/slide" Target="slide4.xml"/><Relationship Id="rId6" Type="http://schemas.openxmlformats.org/officeDocument/2006/relationships/image" Target="../media/image33.jpeg"/><Relationship Id="rId7" Type="http://schemas.openxmlformats.org/officeDocument/2006/relationships/slide" Target="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jpeg"/><Relationship Id="rId3" Type="http://schemas.openxmlformats.org/officeDocument/2006/relationships/image" Target="../media/image20.jpeg"/><Relationship Id="rId4" Type="http://schemas.openxmlformats.org/officeDocument/2006/relationships/image" Target="../media/image8.jpeg"/><Relationship Id="rId5" Type="http://schemas.openxmlformats.org/officeDocument/2006/relationships/image" Target="../media/image16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13.jpeg"/><Relationship Id="rId12" Type="http://schemas.openxmlformats.org/officeDocument/2006/relationships/image" Target="../media/image22.jpeg"/><Relationship Id="rId13" Type="http://schemas.openxmlformats.org/officeDocument/2006/relationships/image" Target="../media/image12.jpeg"/><Relationship Id="rId14" Type="http://schemas.openxmlformats.org/officeDocument/2006/relationships/image" Target="../media/image40.jpeg"/><Relationship Id="rId15" Type="http://schemas.openxmlformats.org/officeDocument/2006/relationships/image" Target="../media/image19.jpeg"/><Relationship Id="rId16" Type="http://schemas.openxmlformats.org/officeDocument/2006/relationships/image" Target="../media/image41.jpeg"/><Relationship Id="rId17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6826320" cy="158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«Наука не имеет отечества , но учёный не бывает без отечества»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Луи Паст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68a4b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2" action="ppaction://hlinksldjump"/>
              </a:rPr>
              <a:t>История открытия витами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3" action="ppaction://hlinksldjump"/>
              </a:rPr>
              <a:t>Опре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4" action="ppaction://hlinksldjump"/>
              </a:rPr>
              <a:t>Витамины и 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5" action="ppaction://hlinksldjump"/>
              </a:rPr>
              <a:t>витаминоподобные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6" action="ppaction://hlinksldjump"/>
              </a:rPr>
              <a:t>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7" action="ppaction://hlinksldjump"/>
              </a:rPr>
              <a:t>Источник витаминов растительного и животного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ая классификация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ль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32920" y="279360"/>
            <a:ext cx="25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Список слай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900"/>
                            </p:stCondLst>
                            <p:childTnLst>
                              <p:par>
                                <p:cTn id="2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900"/>
                            </p:stCondLst>
                            <p:childTnLst>
                              <p:par>
                                <p:cTn id="2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600"/>
                            </p:stCondLst>
                            <p:childTnLst>
                              <p:par>
                                <p:cTn id="3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400"/>
                            </p:stCondLst>
                            <p:childTnLst>
                              <p:par>
                                <p:cTn id="3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3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4700"/>
                            </p:stCondLst>
                            <p:childTnLst>
                              <p:par>
                                <p:cTn id="3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8900"/>
                            </p:stCondLst>
                            <p:childTnLst>
                              <p:par>
                                <p:cTn id="3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100"/>
                            </p:stCondLst>
                            <p:childTnLst>
                              <p:par>
                                <p:cTn id="3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9300"/>
                            </p:stCondLst>
                            <p:childTnLst>
                              <p:par>
                                <p:cTn id="3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1500"/>
                            </p:stCondLst>
                            <p:childTnLst>
                              <p:par>
                                <p:cTn id="3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История открытия витам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025520" y="1341360"/>
            <a:ext cx="511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торой половине XIX века считалось, что пищевая ценность продуктов определяется содержанием в них белков, жиров, углеводов, минеральных солей и воды. Меж тем за века человечество накопило немалый опыт длительных морских путешествий, когда при достаточных запасах продовольствия люди гибли от цинги. Поч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этот вопрос не было ответа до тех пор, пока в 1880 году русский ученый Николай Лунин, изучавший роль минеральных веществ в питании, не заметил, что мыши, поглощавшие искусственную пищу, составленную из всех известных частей молока (казеина, жира, сахара и солей), чахли и погибали. А мышки, получавшие натуральное молоко, были веселы и здоровы. "Из этого следует, что в молоке... содержатся еще другие вещества, незаменимые для питания", - сделал вывод уче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через 16 лет нашли причину болезни "бери-бери", распространенной среди жителей Японии и Индонезии, питавшихся в основном очищенным рисом. Врачу Эйкману, работавшему в тюремном госпитале на острове Ява, помогли... куры, бродившие по двору. Их кормили очищенным зерном, и птицы страдали заболеванием, напоминавшим "бери-бери". Стоило заметить его на рис неочищенный - болезнь проходи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м выделил витамин в кристаллическом виде польский ученый Казимир Функ в 1911 году. Год спустя он же придумал и название - от латинского "vita" - "жизнь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4224960"/>
            <a:ext cx="3097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НАЕТЕ ЛИ В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сутствие какого-либо из витаминов в пище ведет к недостаточному образованию в организме определенных жизненно важных ферментов и, как следствие, к специфическому нарушению обмена веще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1587240" cy="2479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700"/>
                            </p:stCondLst>
                            <p:childTnLst>
                              <p:par>
                                <p:cTn id="7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70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3700"/>
                            </p:stCondLst>
                            <p:childTnLst>
                              <p:par>
                                <p:cTn id="7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4700"/>
                            </p:stCondLst>
                            <p:childTnLst>
                              <p:par>
                                <p:cTn id="7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700"/>
                            </p:stCondLst>
                            <p:childTnLst>
                              <p:par>
                                <p:cTn id="7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6700"/>
                            </p:stCondLst>
                            <p:childTnLst>
                              <p:par>
                                <p:cTn id="8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Comic Sans MS"/>
              </a:rPr>
              <a:t>Витамины и витаминоподобные ве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569080" cy="13273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3429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76" name="26-048-00" descr="увеличить кеды CONVERSE * HI 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564000" y="3213000"/>
            <a:ext cx="1857240" cy="1809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3284640"/>
            <a:ext cx="171432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000"/>
                            </p:stCondLst>
                            <p:childTnLst>
                              <p:par>
                                <p:cTn id="8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5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146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24000" y="115920"/>
          <a:ext cx="8640720" cy="6149880"/>
        </p:xfrm>
        <a:graphic>
          <a:graphicData uri="http://schemas.openxmlformats.org/drawingml/2006/table">
            <a:tbl>
              <a:tblPr/>
              <a:tblGrid>
                <a:gridCol w="2879640"/>
                <a:gridCol w="2881080"/>
                <a:gridCol w="288000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растительного происхо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животного происхо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ь, цитрусов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ивочное масло, сыр, яйца, печень, рыбий жи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а-Карот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ь, петрушка, шпинат, весенняя зелень, дыня, помидоры, спаржа, капуста, брокколи, абрикос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, яйца, рыбий жир, печень трески, жирные сорта рыб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курузное, подсолнечное, оливковое масла, горох, облепих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е лиственные овощи, шпинат, брюссельская, белокачанная и цветная капуста, крупы из цельного зер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ие пивные дрожжи, свинина, проростки пшеницы, овес, орехи (фундук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евой экстракт, проростки пшеницы, отруби пшеницы, соевые бобы, капуста брокко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яичный желток, сы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е овощи, орехи, крупы из цельного зерна, дрожж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в том числе куриное, печень, рыба, молоко, сы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и, бобовые, грибы, ри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мясные субпродук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ростки и отруби пшеницы, зеленые лиственные овощ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молоко, яйц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ехи, зеленые лиственные овощи, бобы, проростки пшеницы, бананы, апельсин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, мясные субпродук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и, морские водорос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почки, икра, яйца, сыр, молоко, творог, мясо, рыб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ичный желток, печень, поч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364000" y="5445000"/>
            <a:ext cx="287640" cy="287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8459640" y="26028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5651640" y="5373720"/>
            <a:ext cx="293400" cy="293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7885080" y="3716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5651640" y="57340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8388360" y="537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885080" y="501336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3276720" y="2492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0"/>
          <a:stretch/>
        </p:blipFill>
        <p:spPr>
          <a:xfrm>
            <a:off x="5435640" y="450864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1"/>
          <a:stretch/>
        </p:blipFill>
        <p:spPr>
          <a:xfrm>
            <a:off x="5076720" y="350028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2"/>
          <a:stretch/>
        </p:blipFill>
        <p:spPr>
          <a:xfrm>
            <a:off x="8604360" y="414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3"/>
          <a:stretch/>
        </p:blipFill>
        <p:spPr>
          <a:xfrm>
            <a:off x="5651640" y="33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5724360" y="256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5"/>
          <a:stretch/>
        </p:blipFill>
        <p:spPr>
          <a:xfrm>
            <a:off x="8604360" y="1413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6"/>
          <a:stretch/>
        </p:blipFill>
        <p:spPr>
          <a:xfrm>
            <a:off x="5724360" y="69228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8920" y="-360"/>
            <a:ext cx="59864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временная классификация витамино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solidFill>
            <a:srgbClr val="146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228600"/>
          <a:ext cx="8748720" cy="6629400"/>
        </p:xfrm>
        <a:graphic>
          <a:graphicData uri="http://schemas.openxmlformats.org/drawingml/2006/table">
            <a:tbl>
              <a:tblPr/>
              <a:tblGrid>
                <a:gridCol w="1562400"/>
                <a:gridCol w="216000"/>
                <a:gridCol w="1231920"/>
                <a:gridCol w="509400"/>
                <a:gridCol w="5229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невритический витамин, аневрин, бери-бери витамин, анти-бери-бери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бофлав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мулятор роста, витамин роста, витамин G, лактофлав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Р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никотиновая, никотинам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ацин, антипеллагрический витамин, витамин В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ниацин амид, амид никотиновой кисл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пантотен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дерматитный, фактор против дерматита цыплят, фильтратный фактор, пантотен, витамин B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ридокс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рмин, фактор 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анкобал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анемически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фолие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ацин, птероилглутаминовая кислота, антианемический витамин; фактор роста цыплят; индекс "С" произведен от англ. chicken - цыплен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аскорбин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цинготный витамин, противоскорбутны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флавонои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авоноиды, витамин проницаемости, капилляроукрепляющи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т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Роль витаминов в жизни человек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временная медицина считает, что на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85% состояние нашего здоровья зависит от пита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Но существующие на сегодняшний день способы получения, обработки, хранения и приготовления пищи сводят на нет ее питательную и биологическую ценность. Мало того, что эта пища не обеспечивает все возрастающие потребности человека в витаминах, микро- и макроэлементах, аминокислотах и других питательных веществах, она еще и способствует их усиленному выделению, что приводит к дальнейшему ухудшению состояния здоровья. </a:t>
            </a:r>
            <a:br>
              <a:rPr sz="16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816360" cy="25002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0"/>
                            </p:stCondLst>
                            <p:childTnLst>
                              <p:par>
                                <p:cTn id="9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24000" y="189000"/>
            <a:ext cx="4835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Интересные факты.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иета для рассеянны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Для сохранения отличной памяти нейрофизиологи рекомендуют как молодым, так и пожилым полюбить рыбу, грецкие орехи, бутерброды из ржаного хлеба со сливочным маслом, салаты из овощей и бобовых, заправленные подсолнечным маслом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люда из морской и речной рыбы надо есть как минимум два раза в неделю. Обитатели водных глубин содержат не только фосфор, но разнообразные полиненасыщенные жирные кислоты, которые заставляют плодотворно трудиться наши "серые" клеточк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олезны для улучшения умственных способностей разнообразные фрукты и овощи. Так, ананасы, богатые серотонином, делают чувствительнее наши органы чувств. Бананы в большом количестве содержат витамин В6, недостаток которого повинен в забывчивости. Виноград помогает человеку сосредоточиться. Той же способностью обладают яблоки: зубрить учебник и грызть яблоко -прекрасное сочетание. В помидорах много марганца, который очень полезен людям, занимающимся интеллектуальным трудом. Морковь замедляет процессы старения организма, в том числе и мозга. Тем же эффектом отличаются красный перец (паприка) и апельсины. Шампиньоны дают человеку витамин В3 и пантотеновую кислоту, которые помогают бороться с усталостью. Картофель улучшает работоспособность. Подсолнечное масло влияет на степень живости воображени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826920" y="115920"/>
            <a:ext cx="1905120" cy="1638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-4559040" y="2417040"/>
            <a:ext cx="285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енний кофе для светлой голов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2059200"/>
            <a:ext cx="208944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тренний кофе для светлой голов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Ничто так не подстегивает работу мысли, как чашечка кофе или чая. У пожилых людей, которые выпивают 220-270 мг кофе утром или днем, память лучше, чем у людей, употребляющих напитки без кофеина. Это выяснилось при тестировании, проведенном учеными из Аризоны. Кстати, этот факт нисколько не противоречит результатам других исследований, в ходе которых обнаружилось, что у стариков память лучше всего работает по утрам, а ближе к вечеру им сложнее справиться с забывчивостью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Геронтологи рекомендуют пожилым людям назначать важные встречи на утро и выпивать чашку кофе, которая способна сохранить их голову светлой и во второй половине дня. Но из-за высокого содержания кофеина этими допингами нельзя злоупотреблять гипертоникам, язвенникам и людям, страдающим некоторыми другими хроническими недугам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492360" y="549360"/>
            <a:ext cx="1905120" cy="1533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-4294440" y="2550600"/>
            <a:ext cx="214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язание плоти и разум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2000" y="2053440"/>
            <a:ext cx="20872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стязание плоти и разу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лонники всевозможных разгрузочных диет нередко не могут похвастаться хорошей памятью. Если чувство легкого голода активизирует умственную работу, то длительное воздержание от полноценной пищи действует прямо противоположным образом. Опыты зафиксировали: реакция на различные ситуации у людей с нормальным режимом питания происходила через 350-400 миллисекунд, а тем, кто истязал плоть и ограничивал свой дневной рацион, требовалось все 500. Получается, что вместе с килокалориями человек сбрасывает и мегабайты хранящейся в его мозге информации. Кстати, замечено, что память резко ослабевает у тех, кто не имеет привычки завтракать по утра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6012000" y="620640"/>
            <a:ext cx="1904760" cy="12668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300"/>
                            </p:stCondLst>
                            <p:childTnLst>
                              <p:par>
                                <p:cTn id="9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300"/>
                            </p:stCondLst>
                            <p:childTnLst>
                              <p:par>
                                <p:cTn id="9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300"/>
                            </p:stCondLst>
                            <p:childTnLst>
                              <p:par>
                                <p:cTn id="9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300"/>
                            </p:stCondLst>
                            <p:childTnLst>
                              <p:par>
                                <p:cTn id="9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300"/>
                            </p:stCondLst>
                            <p:childTnLst>
                              <p:par>
                                <p:cTn id="9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6300"/>
                            </p:stCondLst>
                            <p:childTnLst>
                              <p:par>
                                <p:cTn id="9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7300"/>
                            </p:stCondLst>
                            <p:childTnLst>
                              <p:par>
                                <p:cTn id="9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7800"/>
                            </p:stCondLst>
                            <p:childTnLst>
                              <p:par>
                                <p:cTn id="10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8300"/>
                            </p:stCondLst>
                            <p:childTnLst>
                              <p:par>
                                <p:cTn id="10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итамины и их роль в жизни люде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7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eb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66880" cy="1942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260280"/>
            <a:ext cx="6192720" cy="1739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итам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низкомолекулярные органические вещества, поступающие в организм с продуктами питания. Витамины обычно входят в состав ферментов и влияют на многочисленные обменные процесс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4076640"/>
            <a:ext cx="6480360" cy="2228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ефицит витамин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едет к появлению специфических нарушений обмена с  характерными клиническими проявлениями -гиповитаминозам. Избыток витаминов- гипервитаминоз - встречается гораздо реже ( в основном для витамина 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2565360"/>
            <a:ext cx="7921800" cy="131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ребность человека в витаминах зависит от его возраста, состояния здоровья ,условий жизни , характера  его деятельности, времени года, содержания в пищи основных компонентов пит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172872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535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тамин С - аскорбиновая кислота- участвует в окислительно - восстановительных реакциях, повышает сопротивляемость организма экстремальным воздейств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796000" y="4941720"/>
            <a:ext cx="1008000" cy="100836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587520" y="3912480"/>
            <a:ext cx="3173760" cy="2121840"/>
            <a:chOff x="587520" y="3912480"/>
            <a:chExt cx="3173760" cy="2121840"/>
          </a:xfrm>
        </p:grpSpPr>
        <p:sp>
          <p:nvSpPr>
            <p:cNvPr id="53" name=""/>
            <p:cNvSpPr/>
            <p:nvPr/>
          </p:nvSpPr>
          <p:spPr>
            <a:xfrm>
              <a:off x="1014480" y="4217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14480" y="4532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4480" y="4852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07640" y="5158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7560" y="5472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8064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1528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8960" y="5912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08600" y="58222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3760" y="58222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1632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4400" y="39571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6240" y="4532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4400" y="45320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6520" y="4870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3960" y="48704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2520" y="5167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7520" y="54633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6760" y="54633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30000" y="46839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16280" y="4421880"/>
              <a:ext cx="252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02960" y="4736160"/>
              <a:ext cx="180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29960" y="4736160"/>
              <a:ext cx="180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009440" y="5056560"/>
              <a:ext cx="2520" cy="11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000800" y="5362200"/>
              <a:ext cx="18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985320" y="5676840"/>
              <a:ext cx="8640" cy="16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917640" y="4145040"/>
              <a:ext cx="518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872640" y="4176720"/>
              <a:ext cx="518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827640" y="4641840"/>
              <a:ext cx="103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818640" y="4969800"/>
              <a:ext cx="11232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801000" y="5272560"/>
              <a:ext cx="120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809640" y="5575320"/>
              <a:ext cx="10332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01960" y="4403520"/>
              <a:ext cx="34380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092600" y="4874760"/>
              <a:ext cx="35280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29480" y="4172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29480" y="4486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29480" y="48099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22640" y="5113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12920" y="54273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9564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3136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33240" y="5866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23960" y="57776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91280" y="57776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3384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43000" y="39124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41840" y="51217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06840" y="5418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35000" y="54180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50760" y="46393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32720" y="4376520"/>
              <a:ext cx="252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32720" y="4691160"/>
              <a:ext cx="252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128400" y="5011920"/>
              <a:ext cx="1800" cy="11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119040" y="5317200"/>
              <a:ext cx="18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101400" y="5631480"/>
              <a:ext cx="864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3033720" y="4100400"/>
              <a:ext cx="5400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2991600" y="4132080"/>
              <a:ext cx="5112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856600" y="4570200"/>
              <a:ext cx="190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856600" y="4623480"/>
              <a:ext cx="1908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845080" y="4897440"/>
              <a:ext cx="20196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46880" y="4951440"/>
              <a:ext cx="20196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8880" y="5227920"/>
              <a:ext cx="119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2927880" y="5530680"/>
              <a:ext cx="10116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18400" y="4358880"/>
              <a:ext cx="34560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209040" y="4829760"/>
              <a:ext cx="35496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54360" y="44866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33040" y="5137560"/>
              <a:ext cx="7185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33040" y="5092920"/>
              <a:ext cx="718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33040" y="5137560"/>
              <a:ext cx="179640" cy="53640"/>
            </a:xfrm>
            <a:custGeom>
              <a:avLst/>
              <a:gdLst/>
              <a:ahLst/>
              <a:rect l="l" t="t" r="r" b="b"/>
              <a:pathLst>
                <a:path w="239" h="72">
                  <a:moveTo>
                    <a:pt x="0" y="0"/>
                  </a:moveTo>
                  <a:lnTo>
                    <a:pt x="191" y="0"/>
                  </a:lnTo>
                  <a:lnTo>
                    <a:pt x="239" y="7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72320" y="5038920"/>
              <a:ext cx="179640" cy="53640"/>
            </a:xfrm>
            <a:custGeom>
              <a:avLst/>
              <a:gdLst/>
              <a:ahLst/>
              <a:rect l="l" t="t" r="r" b="b"/>
              <a:pathLst>
                <a:path w="239" h="72">
                  <a:moveTo>
                    <a:pt x="239" y="72"/>
                  </a:moveTo>
                  <a:lnTo>
                    <a:pt x="48" y="72"/>
                  </a:lnTo>
                  <a:lnTo>
                    <a:pt x="0" y="0"/>
                  </a:lnTo>
                  <a:lnTo>
                    <a:pt x="239" y="7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36360" y="48168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56960" y="524772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20600" y="4760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3800" y="5227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69360" y="52545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26800" y="485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52440" y="48776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284720" y="4941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451640" y="4869000"/>
            <a:ext cx="944640" cy="100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204080" y="3935520"/>
            <a:ext cx="438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держится в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ишне, бананах, винограде, яблоках,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5219640" y="1087560"/>
            <a:ext cx="359424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тамин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4358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тиамин – необходим для нормальной деятельности центральной  и переферической нервной системы. Регулятор жирового и углеводного об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5256360" cy="1728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227640" y="57340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028000" y="57340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68680" y="4844880"/>
            <a:ext cx="40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хлебе, горохе, ов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580000" y="2492280"/>
            <a:ext cx="32194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В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В – рибофламин – участвует в окислительно - востонавительных процес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914640" cy="2105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348000" y="558972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549600" y="4869000"/>
            <a:ext cx="51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сыре, молоке, яйцах, батоне, печени, капусте броккол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788000" y="2205000"/>
            <a:ext cx="3816360" cy="2500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7451640" y="5661000"/>
            <a:ext cx="1020960" cy="928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788000" y="5589720"/>
            <a:ext cx="1006200" cy="1006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6156360" y="55911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тамин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ацин – участвует в окислительно – восстановительных реакциях в клетк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3524040" cy="1362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708360" y="4581360"/>
            <a:ext cx="51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Зеленых овощах, орехах, крупах из цельного зерна, дрожж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00720" y="558972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796000" y="5661000"/>
            <a:ext cx="1047600" cy="809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932360" y="2276640"/>
            <a:ext cx="28576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0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900"/>
                            </p:stCondLst>
                            <p:childTnLst>
                              <p:par>
                                <p:cTn id="2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900"/>
                            </p:stCondLst>
                            <p:childTnLst>
                              <p:par>
                                <p:cTn id="2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900"/>
                            </p:stCondLst>
                            <p:childTnLst>
                              <p:par>
                                <p:cTn id="2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тамин А - ретинол -входит в состав зрительного пурпура, усиливает остроту зрения при слабом освещении, укрепляет эпителиальные ткани, необходим для нормального рост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0920" y="2682720"/>
            <a:ext cx="4681440" cy="1754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564000" y="5013360"/>
            <a:ext cx="51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моркови, цитрусовых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651640" y="2421000"/>
            <a:ext cx="2336760" cy="2519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364000" y="5516640"/>
            <a:ext cx="10461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671480" y="136440"/>
            <a:ext cx="657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866880" y="5562720"/>
            <a:ext cx="100108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« Красуйся, град Петров, и стой неколебимо как Россия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.С. Пушкин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оэма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«МЕДНЫЙ ВСАДНИ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14:33:12Z</dcterms:created>
  <dc:creator>Sanchos</dc:creator>
  <dc:description/>
  <dc:language>en-US</dc:language>
  <cp:lastModifiedBy>1</cp:lastModifiedBy>
  <dcterms:modified xsi:type="dcterms:W3CDTF">2006-02-15T06:24:25Z</dcterms:modified>
  <cp:revision>15</cp:revision>
  <dc:subject/>
  <dc:title>Витамины и их роль в жизни людей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b000000000001023620</vt:lpwstr>
  </property>
</Properties>
</file>