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21.wmf" ContentType="image/x-wmf"/>
  <Override PartName="/ppt/media/image6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5.wmf" ContentType="image/x-wmf"/>
  <Override PartName="/ppt/media/image41.jpeg" ContentType="image/jpeg"/>
  <Override PartName="/ppt/media/image1.png" ContentType="image/png"/>
  <Override PartName="/ppt/media/image2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9.jpeg" ContentType="image/jpeg"/>
  <Override PartName="/ppt/media/image12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31.wmf" ContentType="image/x-wmf"/>
  <Override PartName="/ppt/media/image38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32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43.jpeg" ContentType="image/jpeg"/>
  <Override PartName="/ppt/media/image17.jpeg" ContentType="image/jpeg"/>
  <Override PartName="/ppt/media/image5.jpeg" ContentType="image/jpeg"/>
  <Override PartName="/ppt/media/image11.wmf" ContentType="image/x-wmf"/>
  <Override PartName="/ppt/media/image34.jpeg" ContentType="image/jpeg"/>
  <Override PartName="/ppt/media/image7.png" ContentType="image/png"/>
  <Override PartName="/ppt/media/image22.jpeg" ContentType="image/jpeg"/>
  <Override PartName="/ppt/media/image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6D1A-81A5-4EB5-AA18-190E3E018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6F31-17F1-4696-8FEE-2780F3BD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433A-32F8-4C02-B12D-C0E208AA7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5223-A3C0-4F69-929B-96E2B9A25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5368-769A-43F3-98BA-EAF4AAC2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AA69-9B88-4BE4-A52B-FAE0084E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B058-04C4-4964-B5BF-66FBC630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1F00-F748-49B3-8320-A2C1B098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5F4E-96AD-40C2-B3E8-5B3A62F2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C9AD-FC3F-42E5-83D5-9E50BDEC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888C-7448-4560-BB7F-3F4C2CD0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7D5B-A187-4A74-8FFF-93DFD9BE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F6D7-D249-4F2D-9FC9-A73F7CE81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11.xml"/><Relationship Id="rId3" Type="http://schemas.openxmlformats.org/officeDocument/2006/relationships/slide" Target="slide3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3.xml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slide" Target="slide5.xml"/><Relationship Id="rId4" Type="http://schemas.openxmlformats.org/officeDocument/2006/relationships/image" Target="../media/image32.jpeg"/><Relationship Id="rId5" Type="http://schemas.openxmlformats.org/officeDocument/2006/relationships/slide" Target="slide4.xml"/><Relationship Id="rId6" Type="http://schemas.openxmlformats.org/officeDocument/2006/relationships/image" Target="../media/image33.jpeg"/><Relationship Id="rId7" Type="http://schemas.openxmlformats.org/officeDocument/2006/relationships/slide" Target=""/><Relationship Id="rId8" Type="http://schemas.openxmlformats.org/officeDocument/2006/relationships/image" Target="../media/image34.jpeg"/><Relationship Id="rId9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jpeg"/><Relationship Id="rId3" Type="http://schemas.openxmlformats.org/officeDocument/2006/relationships/image" Target="../media/image20.jpeg"/><Relationship Id="rId4" Type="http://schemas.openxmlformats.org/officeDocument/2006/relationships/image" Target="../media/image8.jpeg"/><Relationship Id="rId5" Type="http://schemas.openxmlformats.org/officeDocument/2006/relationships/image" Target="../media/image16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image" Target="../media/image39.jpeg"/><Relationship Id="rId11" Type="http://schemas.openxmlformats.org/officeDocument/2006/relationships/image" Target="../media/image13.jpeg"/><Relationship Id="rId12" Type="http://schemas.openxmlformats.org/officeDocument/2006/relationships/image" Target="../media/image22.jpeg"/><Relationship Id="rId13" Type="http://schemas.openxmlformats.org/officeDocument/2006/relationships/image" Target="../media/image12.jpeg"/><Relationship Id="rId14" Type="http://schemas.openxmlformats.org/officeDocument/2006/relationships/image" Target="../media/image40.jpeg"/><Relationship Id="rId15" Type="http://schemas.openxmlformats.org/officeDocument/2006/relationships/image" Target="../media/image19.jpeg"/><Relationship Id="rId16" Type="http://schemas.openxmlformats.org/officeDocument/2006/relationships/image" Target="../media/image41.jpeg"/><Relationship Id="rId17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6826320" cy="158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«Наука не имеет отечества , но учёный не бывает без отечества»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Луи Пасте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468a4b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2" action="ppaction://hlinksldjump"/>
              </a:rPr>
              <a:t>История открытия витами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3" action="ppaction://hlinksldjump"/>
              </a:rPr>
              <a:t>Опред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Р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4" action="ppaction://hlinksldjump"/>
              </a:rPr>
              <a:t>Витамины и </a:t>
            </a: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5" action="ppaction://hlinksldjump"/>
              </a:rPr>
              <a:t>витаминоподобные</a:t>
            </a: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6" action="ppaction://hlinksldjump"/>
              </a:rPr>
              <a:t> 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7" action="ppaction://hlinksldjump"/>
              </a:rPr>
              <a:t>Источник витаминов растительного и животного происхо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ая классификация вита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ль вита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есные фа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32920" y="279360"/>
            <a:ext cx="254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Список слай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900"/>
                            </p:stCondLst>
                            <p:childTnLst>
                              <p:par>
                                <p:cTn id="28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900"/>
                            </p:stCondLst>
                            <p:childTnLst>
                              <p:par>
                                <p:cTn id="29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600"/>
                            </p:stCondLst>
                            <p:childTnLst>
                              <p:par>
                                <p:cTn id="30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9400"/>
                            </p:stCondLst>
                            <p:childTnLst>
                              <p:par>
                                <p:cTn id="31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1200"/>
                            </p:stCondLst>
                            <p:childTnLst>
                              <p:par>
                                <p:cTn id="31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4700"/>
                            </p:stCondLst>
                            <p:childTnLst>
                              <p:par>
                                <p:cTn id="33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8900"/>
                            </p:stCondLst>
                            <p:childTnLst>
                              <p:par>
                                <p:cTn id="33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5100"/>
                            </p:stCondLst>
                            <p:childTnLst>
                              <p:par>
                                <p:cTn id="34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9300"/>
                            </p:stCondLst>
                            <p:childTnLst>
                              <p:par>
                                <p:cTn id="35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1500"/>
                            </p:stCondLst>
                            <p:childTnLst>
                              <p:par>
                                <p:cTn id="35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История открытия витами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025520" y="1341360"/>
            <a:ext cx="511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 второй половине XIX века считалось, что пищевая ценность продуктов определяется содержанием в них белков, жиров, углеводов, минеральных солей и воды. Меж тем за века человечество накопило немалый опыт длительных морских путешествий, когда при достаточных запасах продовольствия люди гибли от цинги. Почем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этот вопрос не было ответа до тех пор, пока в 1880 году русский ученый Николай Лунин, изучавший роль минеральных веществ в питании, не заметил, что мыши, поглощавшие искусственную пищу, составленную из всех известных частей молока (казеина, жира, сахара и солей), чахли и погибали. А мышки, получавшие натуральное молоко, были веселы и здоровы. "Из этого следует, что в молоке... содержатся еще другие вещества, незаменимые для питания", - сделал вывод учены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ще через 16 лет нашли причину болезни "бери-бери", распространенной среди жителей Японии и Индонезии, питавшихся в основном очищенным рисом. Врачу Эйкману, работавшему в тюремном госпитале на острове Ява, помогли... куры, бродившие по двору. Их кормили очищенным зерном, и птицы страдали заболеванием, напоминавшим "бери-бери". Стоило заметить его на рис неочищенный - болезнь проходи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вым выделил витамин в кристаллическом виде польский ученый Казимир Функ в 1911 году. Год спустя он же придумал и название - от латинского "vita" - "жизнь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71640" y="4224960"/>
            <a:ext cx="3097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НАЕТЕ ЛИ В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сутствие какого-либо из витаминов в пище ведет к недостаточному образованию в организме определенных жизненно важных ферментов и, как следствие, к специфическому нарушению обмена вещест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835280" y="1341360"/>
            <a:ext cx="1587240" cy="24796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700"/>
                            </p:stCondLst>
                            <p:childTnLst>
                              <p:par>
                                <p:cTn id="7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270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3700"/>
                            </p:stCondLst>
                            <p:childTnLst>
                              <p:par>
                                <p:cTn id="7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4700"/>
                            </p:stCondLst>
                            <p:childTnLst>
                              <p:par>
                                <p:cTn id="7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700"/>
                            </p:stCondLst>
                            <p:childTnLst>
                              <p:par>
                                <p:cTn id="7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6700"/>
                            </p:stCondLst>
                            <p:childTnLst>
                              <p:par>
                                <p:cTn id="8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Comic Sans MS"/>
              </a:rPr>
              <a:t>Витамины и витаминоподобные веще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8569080" cy="13273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8360" y="3429000"/>
            <a:ext cx="2016000" cy="1512720"/>
          </a:xfrm>
          <a:prstGeom prst="rect">
            <a:avLst/>
          </a:prstGeom>
          <a:ln w="0">
            <a:noFill/>
          </a:ln>
        </p:spPr>
      </p:pic>
      <p:pic>
        <p:nvPicPr>
          <p:cNvPr id="176" name="26-048-00" descr="увеличить кеды CONVERSE * HI 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564000" y="3213000"/>
            <a:ext cx="1857240" cy="1809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516720" y="3284640"/>
            <a:ext cx="1714320" cy="1685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0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2000"/>
                            </p:stCondLst>
                            <p:childTnLst>
                              <p:par>
                                <p:cTn id="8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3000"/>
                            </p:stCondLst>
                            <p:childTnLst>
                              <p:par>
                                <p:cTn id="8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3500"/>
                            </p:stCondLst>
                            <p:childTnLst>
                              <p:par>
                                <p:cTn id="8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146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24000" y="115920"/>
          <a:ext cx="8640720" cy="6149880"/>
        </p:xfrm>
        <a:graphic>
          <a:graphicData uri="http://schemas.openxmlformats.org/drawingml/2006/table">
            <a:tbl>
              <a:tblPr/>
              <a:tblGrid>
                <a:gridCol w="2879640"/>
                <a:gridCol w="2881080"/>
                <a:gridCol w="2880000"/>
              </a:tblGrid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ы растительного происхожд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ы животного происхожд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ковь, цитрусовы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ивочное масло, сыр, яйца, печень, рыбий жи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та-Карот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ковь, петрушка, шпинат, весенняя зелень, дыня, помидоры, спаржа, капуста, брокколи, абрикос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ко, яйца, рыбий жир, печень трески, жирные сорта рыб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9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курузное, подсолнечное, оливковое масла, горох, облепих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ые лиственные овощи, шпинат, брюссельская, белокачанная и цветная капуста, крупы из цельного зер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хие пивные дрожжи, свинина, проростки пшеницы, овес, орехи (фундук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жжевой экстракт, проростки пшеницы, отруби пшеницы, соевые бобы, капуста брокко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, яичный желток, сы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ые овощи, орехи, крупы из цельного зерна, дрожж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в том числе куриное, печень, рыба, молоко, сы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жжи, бобовые, грибы, ри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, мясные субпродукт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ростки и отруби пшеницы, зеленые лиственные овощ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печень, рыба, молоко, яйц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ехи, зеленые лиственные овощи, бобы, проростки пшеницы, бананы, апельсин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йца, мясные субпродукт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8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жжи, морские водорос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, почки, икра, яйца, сыр, молоко, творог, мясо, рыб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4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ичный желток, печень, поч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364000" y="5445000"/>
            <a:ext cx="287640" cy="2876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8459640" y="260280"/>
            <a:ext cx="432000" cy="432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5651640" y="5373720"/>
            <a:ext cx="293400" cy="2937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7885080" y="3716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5651640" y="573408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7"/>
          <a:stretch/>
        </p:blipFill>
        <p:spPr>
          <a:xfrm>
            <a:off x="8388360" y="537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8"/>
          <a:stretch/>
        </p:blipFill>
        <p:spPr>
          <a:xfrm>
            <a:off x="7885080" y="501336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9"/>
          <a:stretch/>
        </p:blipFill>
        <p:spPr>
          <a:xfrm>
            <a:off x="3276720" y="249228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0"/>
          <a:stretch/>
        </p:blipFill>
        <p:spPr>
          <a:xfrm>
            <a:off x="5435640" y="450864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1"/>
          <a:stretch/>
        </p:blipFill>
        <p:spPr>
          <a:xfrm>
            <a:off x="5076720" y="350028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2"/>
          <a:stretch/>
        </p:blipFill>
        <p:spPr>
          <a:xfrm>
            <a:off x="8604360" y="4149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3"/>
          <a:stretch/>
        </p:blipFill>
        <p:spPr>
          <a:xfrm>
            <a:off x="5651640" y="3357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4"/>
          <a:stretch/>
        </p:blipFill>
        <p:spPr>
          <a:xfrm>
            <a:off x="5724360" y="256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5"/>
          <a:stretch/>
        </p:blipFill>
        <p:spPr>
          <a:xfrm>
            <a:off x="8604360" y="14130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6"/>
          <a:stretch/>
        </p:blipFill>
        <p:spPr>
          <a:xfrm>
            <a:off x="5724360" y="69228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0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18920" y="-360"/>
            <a:ext cx="59864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временная классификация витаминов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solidFill>
            <a:srgbClr val="146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0" y="228600"/>
          <a:ext cx="8748720" cy="6629400"/>
        </p:xfrm>
        <a:graphic>
          <a:graphicData uri="http://schemas.openxmlformats.org/drawingml/2006/table">
            <a:tbl>
              <a:tblPr/>
              <a:tblGrid>
                <a:gridCol w="1562400"/>
                <a:gridCol w="216000"/>
                <a:gridCol w="1231920"/>
                <a:gridCol w="509400"/>
                <a:gridCol w="5229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невритический витамин, аневрин, бери-бери витамин, анти-бери-бери вит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бофлав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мулятор роста, витамин роста, витамин G, лактофлав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Р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та никотиновая, никотинами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ацин, антипеллагрический витамин, витамин В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ниацин амид, амид никотиновой кисл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та пантотено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дерматитный, фактор против дерматита цыплят, фильтратный фактор, пантотен, витамин B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ридокс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ермин, фактор 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анкобал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анемический вит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та фолие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лацин, птероилглутаминовая кислота, антианемический витамин; фактор роста цыплят; индекс "С" произведен от англ. chicken - цыплен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та аскорбино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воцинготный витамин, противоскорбутный вит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флавонои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авоноиды, витамин проницаемости, капилляроукрепляющий вит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т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dissolve/>
  </p:transition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0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1000"/>
                            </p:stCondLst>
                            <p:childTnLst>
                              <p:par>
                                <p:cTn id="9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Роль витаминов в жизни человек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временная медицина считает, что на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85% состояние нашего здоровья зависит от пита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Но существующие на сегодняшний день способы получения, обработки, хранения и приготовления пищи сводят на нет ее питательную и биологическую ценность. Мало того, что эта пища не обеспечивает все возрастающие потребности человека в витаминах, микро- и макроэлементах, аминокислотах и других питательных веществах, она еще и способствует их усиленному выделению, что приводит к дальнейшему ухудшению состояния здоровья. </a:t>
            </a:r>
            <a:br>
              <a:rPr sz="16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3816360" cy="25002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8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1000"/>
                            </p:stCondLst>
                            <p:childTnLst>
                              <p:par>
                                <p:cTn id="9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3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2000"/>
                            </p:stCondLst>
                            <p:childTnLst>
                              <p:par>
                                <p:cTn id="94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24000" y="189000"/>
            <a:ext cx="4835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Интересные факты.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253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иета для рассеянны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Для сохранения отличной памяти нейрофизиологи рекомендуют как молодым, так и пожилым полюбить рыбу, грецкие орехи, бутерброды из ржаного хлеба со сливочным маслом, салаты из овощей и бобовых, заправленные подсолнечным маслом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Блюда из морской и речной рыбы надо есть как минимум два раза в неделю. Обитатели водных глубин содержат не только фосфор, но разнообразные полиненасыщенные жирные кислоты, которые заставляют плодотворно трудиться наши "серые" клеточк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Полезны для улучшения умственных способностей разнообразные фрукты и овощи. Так, ананасы, богатые серотонином, делают чувствительнее наши органы чувств. Бананы в большом количестве содержат витамин В6, недостаток которого повинен в забывчивости. Виноград помогает человеку сосредоточиться. Той же способностью обладают яблоки: зубрить учебник и грызть яблоко -прекрасное сочетание. В помидорах много марганца, который очень полезен людям, занимающимся интеллектуальным трудом. Морковь замедляет процессы старения организма, в том числе и мозга. Тем же эффектом отличаются красный перец (паприка) и апельсины. Шампиньоны дают человеку витамин В3 и пантотеновую кислоту, которые помогают бороться с усталостью. Картофель улучшает работоспособность. Подсолнечное масло влияет на степень живости воображения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826920" y="115920"/>
            <a:ext cx="1905120" cy="1638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-4559040" y="2417040"/>
            <a:ext cx="2852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ренний кофе для светлой голов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92360" y="2059200"/>
            <a:ext cx="2089440" cy="42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Утренний кофе для светлой голов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Ничто так не подстегивает работу мысли, как чашечка кофе или чая. У пожилых людей, которые выпивают 220-270 мг кофе утром или днем, память лучше, чем у людей, употребляющих напитки без кофеина. Это выяснилось при тестировании, проведенном учеными из Аризоны. Кстати, этот факт нисколько не противоречит результатам других исследований, в ходе которых обнаружилось, что у стариков память лучше всего работает по утрам, а ближе к вечеру им сложнее справиться с забывчивостью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Геронтологи рекомендуют пожилым людям назначать важные встречи на утро и выпивать чашку кофе, которая способна сохранить их голову светлой и во второй половине дня. Но из-за высокого содержания кофеина этими допингами нельзя злоупотреблять гипертоникам, язвенникам и людям, страдающим некоторыми другими хроническими недугам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3492360" y="549360"/>
            <a:ext cx="1905120" cy="15336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-4294440" y="2550600"/>
            <a:ext cx="214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язание плоти и разум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12000" y="2053440"/>
            <a:ext cx="208728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Истязание плоти и разу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клонники всевозможных разгрузочных диет нередко не могут похвастаться хорошей памятью. Если чувство легкого голода активизирует умственную работу, то длительное воздержание от полноценной пищи действует прямо противоположным образом. Опыты зафиксировали: реакция на различные ситуации у людей с нормальным режимом питания происходила через 350-400 миллисекунд, а тем, кто истязал плоть и ограничивал свой дневной рацион, требовалось все 500. Получается, что вместе с килокалориями человек сбрасывает и мегабайты хранящейся в его мозге информации. Кстати, замечено, что память резко ослабевает у тех, кто не имеет привычки завтракать по утра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6012000" y="620640"/>
            <a:ext cx="1904760" cy="12668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0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300"/>
                            </p:stCondLst>
                            <p:childTnLst>
                              <p:par>
                                <p:cTn id="96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2300"/>
                            </p:stCondLst>
                            <p:childTnLst>
                              <p:par>
                                <p:cTn id="9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3300"/>
                            </p:stCondLst>
                            <p:childTnLst>
                              <p:par>
                                <p:cTn id="97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4300"/>
                            </p:stCondLst>
                            <p:childTnLst>
                              <p:par>
                                <p:cTn id="98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300"/>
                            </p:stCondLst>
                            <p:childTnLst>
                              <p:par>
                                <p:cTn id="98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6300"/>
                            </p:stCondLst>
                            <p:childTnLst>
                              <p:par>
                                <p:cTn id="99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7300"/>
                            </p:stCondLst>
                            <p:childTnLst>
                              <p:par>
                                <p:cTn id="9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7800"/>
                            </p:stCondLst>
                            <p:childTnLst>
                              <p:par>
                                <p:cTn id="10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8300"/>
                            </p:stCondLst>
                            <p:childTnLst>
                              <p:par>
                                <p:cTn id="10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итамины и их роль в жизни людей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47512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700"/>
                            </p:stCondLst>
                            <p:childTnLst>
                              <p:par>
                                <p:cTn id="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eb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164360" y="189000"/>
            <a:ext cx="1766880" cy="1942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8360" y="260280"/>
            <a:ext cx="6192720" cy="1739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итамин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низкомолекулярные органические вещества, поступающие в организм с продуктами питания. Витамины обычно входят в состав ферментов и влияют на многочисленные обменные процессы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4076640"/>
            <a:ext cx="6480360" cy="2228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ефицит витамин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едет к появлению специфических нарушений обмена с  характерными клиническими проявлениями -гиповитаминозам. Избыток витаминов- гипервитаминоз - встречается гораздо реже ( в основном для витамина 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42920" y="2565360"/>
            <a:ext cx="7921800" cy="1313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требность человека в витаминах зависит от его возраста, состояния здоровья ,условий жизни , характера  его деятельности, времени года, содержания в пищи основных компонентов пит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50920" y="4076640"/>
            <a:ext cx="1728720" cy="2160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итамин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5352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тамин С - аскорбиновая кислота- участвует в окислительно - восстановительных реакциях, повышает сопротивляемость организма экстремальным воздейств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796000" y="4941720"/>
            <a:ext cx="1008000" cy="100836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587520" y="3912480"/>
            <a:ext cx="3173760" cy="2121840"/>
            <a:chOff x="587520" y="3912480"/>
            <a:chExt cx="3173760" cy="2121840"/>
          </a:xfrm>
        </p:grpSpPr>
        <p:sp>
          <p:nvSpPr>
            <p:cNvPr id="53" name=""/>
            <p:cNvSpPr/>
            <p:nvPr/>
          </p:nvSpPr>
          <p:spPr>
            <a:xfrm>
              <a:off x="1014480" y="4217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014480" y="45320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4480" y="48524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07640" y="51580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97560" y="54720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80640" y="58222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15280" y="58222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8960" y="59122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08600" y="58222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73760" y="58222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16320" y="58222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24400" y="395712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6240" y="45320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34400" y="45320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6520" y="48704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23960" y="48704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22520" y="51670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7520" y="54633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16760" y="546336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530000" y="468396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016280" y="4421880"/>
              <a:ext cx="2520" cy="12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002960" y="4736160"/>
              <a:ext cx="1800" cy="13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29960" y="4736160"/>
              <a:ext cx="1800" cy="13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1009440" y="5056560"/>
              <a:ext cx="2520" cy="11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1000800" y="5362200"/>
              <a:ext cx="180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985320" y="5676840"/>
              <a:ext cx="8640" cy="16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917640" y="4145040"/>
              <a:ext cx="5184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872640" y="4176720"/>
              <a:ext cx="5184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827640" y="4641840"/>
              <a:ext cx="103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818640" y="4969800"/>
              <a:ext cx="11232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801000" y="5272560"/>
              <a:ext cx="120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809640" y="5575320"/>
              <a:ext cx="10332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01960" y="4403520"/>
              <a:ext cx="343800" cy="3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092600" y="4874760"/>
              <a:ext cx="352800" cy="31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129480" y="4172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129480" y="44866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29480" y="48099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22640" y="51130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12920" y="54273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95640" y="57776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31360" y="57776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33240" y="5866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23960" y="57776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91280" y="57776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33840" y="57776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43000" y="39124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41840" y="51217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06840" y="54180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35000" y="541800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50760" y="463932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132720" y="4376520"/>
              <a:ext cx="252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132720" y="4691160"/>
              <a:ext cx="2520" cy="13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128400" y="5011920"/>
              <a:ext cx="1800" cy="11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3119040" y="5317200"/>
              <a:ext cx="180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101400" y="5631480"/>
              <a:ext cx="8640" cy="16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3033720" y="4100400"/>
              <a:ext cx="5400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2991600" y="4132080"/>
              <a:ext cx="5112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856600" y="4570200"/>
              <a:ext cx="190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2856600" y="4623480"/>
              <a:ext cx="19080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845080" y="4897440"/>
              <a:ext cx="201960" cy="1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46880" y="4951440"/>
              <a:ext cx="201960" cy="1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918880" y="5227920"/>
              <a:ext cx="119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2927880" y="5530680"/>
              <a:ext cx="10116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18400" y="4358880"/>
              <a:ext cx="345600" cy="3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3209040" y="4829760"/>
              <a:ext cx="354960" cy="31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54360" y="44866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33040" y="5137560"/>
              <a:ext cx="71856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33040" y="5092920"/>
              <a:ext cx="718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33040" y="5137560"/>
              <a:ext cx="179640" cy="53640"/>
            </a:xfrm>
            <a:custGeom>
              <a:avLst/>
              <a:gdLst/>
              <a:ahLst/>
              <a:rect l="l" t="t" r="r" b="b"/>
              <a:pathLst>
                <a:path w="239" h="72">
                  <a:moveTo>
                    <a:pt x="0" y="0"/>
                  </a:moveTo>
                  <a:lnTo>
                    <a:pt x="191" y="0"/>
                  </a:lnTo>
                  <a:lnTo>
                    <a:pt x="239" y="72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72320" y="5038920"/>
              <a:ext cx="179640" cy="53640"/>
            </a:xfrm>
            <a:custGeom>
              <a:avLst/>
              <a:gdLst/>
              <a:ahLst/>
              <a:rect l="l" t="t" r="r" b="b"/>
              <a:pathLst>
                <a:path w="239" h="72">
                  <a:moveTo>
                    <a:pt x="239" y="72"/>
                  </a:moveTo>
                  <a:lnTo>
                    <a:pt x="48" y="72"/>
                  </a:lnTo>
                  <a:lnTo>
                    <a:pt x="0" y="0"/>
                  </a:lnTo>
                  <a:lnTo>
                    <a:pt x="239" y="72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36360" y="481680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56960" y="524772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20600" y="4760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53800" y="5227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69360" y="52545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26800" y="4859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52440" y="48776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4284720" y="4941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7451640" y="4869000"/>
            <a:ext cx="944640" cy="100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204080" y="3935520"/>
            <a:ext cx="438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одержится в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ишне, бананах, винограде, яблоках,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5219640" y="1087560"/>
            <a:ext cx="359424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итамин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43588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тами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тиамин – необходим для нормальной деятельности центральной  и переферической нервной системы. Регулятор жирового и углеводного обм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2708280"/>
            <a:ext cx="5256360" cy="1728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227640" y="57340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8028000" y="573408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468680" y="4844880"/>
            <a:ext cx="401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тся в : хлебе, горохе, овс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5580000" y="2492280"/>
            <a:ext cx="32194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итамин В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тамин В – рибофламин – участвует в окислительно - востонавительных процесс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3914640" cy="2105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348000" y="558972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549600" y="4869000"/>
            <a:ext cx="519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тся в : сыре, молоке, яйцах, батоне, печени, капусте брокколи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788000" y="2205000"/>
            <a:ext cx="3816360" cy="2500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7451640" y="5661000"/>
            <a:ext cx="1020960" cy="9288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4788000" y="5589720"/>
            <a:ext cx="1006200" cy="10062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6156360" y="559116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итамин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тами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P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ацин – участвует в окислительно – восстановительных реакциях в клетк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3524040" cy="13622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708360" y="4581360"/>
            <a:ext cx="519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тся в : Зеленых овощах, орехах, крупах из цельного зерна, дрожжа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500720" y="5589720"/>
            <a:ext cx="936360" cy="936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796000" y="5661000"/>
            <a:ext cx="1047600" cy="809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4932360" y="2276640"/>
            <a:ext cx="285768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900"/>
                            </p:stCondLst>
                            <p:childTnLst>
                              <p:par>
                                <p:cTn id="2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900"/>
                            </p:stCondLst>
                            <p:childTnLst>
                              <p:par>
                                <p:cTn id="2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900"/>
                            </p:stCondLst>
                            <p:childTnLst>
                              <p:par>
                                <p:cTn id="2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900"/>
                            </p:stCondLst>
                            <p:childTnLst>
                              <p:par>
                                <p:cTn id="2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итамин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4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тамин А - ретинол -входит в состав зрительного пурпура, усиливает остроту зрения при слабом освещении, укрепляет эпителиальные ткани, необходим для нормального рост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50920" y="2682720"/>
            <a:ext cx="4681440" cy="1754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564000" y="5013360"/>
            <a:ext cx="519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тся в : моркови, цитрусовых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651640" y="2421000"/>
            <a:ext cx="2336760" cy="2519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5364000" y="5516640"/>
            <a:ext cx="104616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0"/>
                            </p:stCondLst>
                            <p:childTnLst>
                              <p:par>
                                <p:cTn id="2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671480" y="136440"/>
            <a:ext cx="657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866880" y="5562720"/>
            <a:ext cx="10010880" cy="12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« Красуйся, град Петров, и стой неколебимо как Россия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.С. Пушкин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оэма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«МЕДНЫЙ ВСАДНИ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4T14:33:12Z</dcterms:created>
  <dc:creator>Sanchos</dc:creator>
  <dc:description/>
  <dc:language>en-US</dc:language>
  <cp:lastModifiedBy>1</cp:lastModifiedBy>
  <dcterms:modified xsi:type="dcterms:W3CDTF">2006-02-15T06:24:25Z</dcterms:modified>
  <cp:revision>15</cp:revision>
  <dc:subject/>
  <dc:title>Витамины и их роль в жизни людей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00b000000000001023620</vt:lpwstr>
  </property>
</Properties>
</file>