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0E7-F10F-454D-B2E8-8F4F38C9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07A-A6EE-44E1-9DF9-3D45D952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694-6DAA-46DE-9C26-C78F2717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40A0-C9A5-4B40-B845-4918F017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75F6-06A8-406A-8BDA-2C648C4D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A6EB-C2E7-443C-8A7E-A28F1040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19CF-4FD6-4135-A0E7-B16BC717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A5F3-16C8-4385-BE96-C17AB72B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D76C-C4C4-46EF-892F-C1B995BE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3345-30CB-412B-9EB6-5FB1888E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01FC-B4E3-477D-A377-C7A3C047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FC0-6F82-49D4-A791-A8D15889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5EF9-D695-4633-A97B-CC64D37A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6751-A006-4E2B-9CAE-309345D8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680E-24B9-480B-885E-72681038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F9E3-5691-4916-ABAB-C66792DE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BD07-0639-406E-917A-22C6E5AA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81DC-54E1-47FE-86AD-D39B1CB7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7FCC2-A368-420F-B952-FD330A33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11EEA-3B2D-4E12-8E81-4275C748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8E54-72C2-499E-89F2-761A1024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2305F-0A57-4932-9197-DC6B2188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D6F-0528-4DDF-B02F-40735C7C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3B815-3C19-4BB8-9CAA-52EBD4D7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84FEA-07BF-4037-9A0F-A5118F34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6CB54-2F23-4AC9-A78A-5533134A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E1A97-7BDB-47C2-984D-AD037CC4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61228-9CC1-4485-80DF-CCFA13EF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FC92F-B465-43B5-A1DB-DC38B836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81961-9DF2-4CA9-B457-9F1A632E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149AB-F607-481B-BE2D-CD0DF176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98D2F-4B11-438A-9B12-F0FE99EA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4343C-3C1A-4668-94F7-91C8E76C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1D8-4A9C-444A-A1EA-D62EFDF9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3B6BD-252F-4714-B80E-AD30A156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EC308-6984-4A15-AB2D-5C52A9CB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77CC0-1DB2-4A3C-83F4-651D80A5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C249B-BA4D-4D34-9857-D379F51F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DEF1A-812F-45E5-BA72-6D4E3138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0DA1B-0207-44BB-B6F5-46D1DE24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956BC-23A7-4419-A2BC-38CDD31B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DCC33-20F3-4A54-BB3B-C9E16F0D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A4FCA-6308-4359-B177-D1C944F1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5F274-B5BD-4A21-928E-E2C08A7D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110-5D41-45C6-B00A-7F28CD44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079A3-A651-47E8-B87E-99E4EEB2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0BE3B-9852-46A9-A558-3CB5430B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4FECD-DC7E-413B-9723-B777D8AA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E1253-67AC-497C-85CC-E17B6377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DB907-A2C1-4A74-A5D5-DB2A1A56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7874A-78D4-4916-BCF2-67F79E12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CCBD4-42BC-4D28-A283-378FFABF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FBF9F-B74A-4BB6-BF0B-03F96790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23BD7-A650-4B94-92DC-3B80A46E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787E0-45A3-46B5-9A7B-ADBE7D07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B09-FF32-4ABC-8830-801F0960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44DC4-09D4-40B3-B397-71A5F066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812A0-243C-47E0-B2CF-68990BD8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27112-AEEB-4AE3-B249-8047F96D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BC8BE-DD6D-4C81-B9E9-B8E284A1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9E666-69B4-4317-969A-EB06ACD7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E20EE-7CCE-4CA4-97D7-451B63B3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6FE5A-4894-4D59-9708-AFE3DE0E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157CB-8E09-44AA-9989-296FAC2B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12D72-B705-4AD2-B430-4C2561A0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2FCED-148E-476B-939B-DB84F412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1218-9F2E-461F-B7BE-5673900A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BB7B3-FA0D-45B3-BAA9-7753331B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A8976-F0AA-4C69-A0B4-619A05E7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DE8AE-937F-4271-BB28-EFDBCC64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9F11-8A36-4EEA-9922-ECFBC783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CAE-6E35-446E-AC66-65CF0588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CB8F-0ED2-4D1E-BD2F-8BB34BC0B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80AB-8768-429C-866E-075DBD60D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279D-ECE8-47BE-91E1-D183EEECD05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D060-2783-4B8C-ABA5-9296DD3C682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D03C-955C-46CB-B94E-6DD422AE92A0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AEEF-DC51-4446-B578-66B2EB1148E4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еточная теория строения организм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. Этап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Развит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Карл Максимович Бэр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76720" y="1557360"/>
          <a:ext cx="244944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57360"/>
                    <a:ext cx="24494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45842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27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ыл яйцеклетку млекопитающих. Сформулировал положение, что клетка не только единица строения, но и единица развития живых организ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92 – 187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удольф Вирхов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419640" y="1484280"/>
          <a:ext cx="22287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22287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сновал принцип преемственности клето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"каждая клетка из клетки"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21 – 190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Современная клеточная теория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Клетка представляет собой основу структурной и функциональной организации растений и живот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Клетки растений и животных сходны по строению и развиваются аналогично (путем деления исходной клетк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Клетки у всех организмов имеют мембранное стро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Ядро клетки представляет ее главный регуляторный органои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Клеточное строение живых организмов — свидетельство единства их происхожд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396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15920" indent="-1015920" algn="ctr">
              <a:lnSpc>
                <a:spcPct val="90000"/>
              </a:lnSpc>
              <a:buClr>
                <a:srgbClr val="ff33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рождение понятий о клет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492360" y="1557360"/>
          <a:ext cx="201168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20116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66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убликовал труд "Микрография", где изложил результаты своих исследований. Рассматривая тонкий срез пробки под микроскопом, он обнаружил существование множества мелких ячеек и назвал их "клетками". Так возник этот терм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8560" y="981000"/>
            <a:ext cx="142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5-17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Антони ван Левен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3640" y="1628640"/>
          <a:ext cx="24987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24987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1680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исал с большой точностью, наблюдаемые под микроскопом микроорганизмы. Он назвал их "микроскопическими животными", однако не отмечал их клеточного стро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7800" y="1125360"/>
            <a:ext cx="174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2  - 172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. 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озникновен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Броу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419640" y="1628640"/>
          <a:ext cx="24318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28640"/>
                    <a:ext cx="24318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508752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8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первые описал ядро в растительной клетке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54520" y="1197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73 – 185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Маттиас Шлейде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48000" y="1557360"/>
          <a:ext cx="27813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27813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38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делал первые шаги к раскрытию и пониманию роли яд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4880" y="105264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04 – 188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Теодор Шван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348000" y="1484280"/>
          <a:ext cx="22748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22748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Arial"/>
              </a:rPr>
              <a:t>1839 год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уя свои собственные данные и результа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. Шлейдена, обобщил знания о клетке и сформулировал клеточную теорию. Основное положение этой теории: клетка является элементарной единицей строения всех растительных и животных организмов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4880" y="1125360"/>
            <a:ext cx="1599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10 – 188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Клеточная теория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 Шванна - Шлейдена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сем животным и растениям свойственно клеточное стро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Растут и развиваются растения и животные путем возникновения новых клет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Клетка является самой маленькой единицей живого, а целый организм – совокупность клет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56:21Z</dcterms:created>
  <dc:creator>IPATOV</dc:creator>
  <dc:description/>
  <dc:language>en-US</dc:language>
  <cp:lastModifiedBy>IPATOV</cp:lastModifiedBy>
  <dcterms:modified xsi:type="dcterms:W3CDTF">2007-01-11T11:25:24Z</dcterms:modified>
  <cp:revision>6</cp:revision>
  <dc:subject/>
  <dc:title>Клеточная теория строения организмов</dc:title>
</cp:coreProperties>
</file>