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8E57-CB6F-459F-8488-D8159F167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B975-216B-43C3-B21E-2753ECD5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FD7C-D905-4996-BA9B-8CBE303B3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EFC7-B2EE-4F2A-A3CF-36ACA3FB0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E324-54BC-4940-9E23-2461398A7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C0D7-0055-4162-9E65-627D014C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2E88-4212-4DB8-AEE6-AD91A0F2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E3027-6A32-451A-87A3-8A41925C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781C-71A7-46E7-BB08-0A07ABA2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D2B8-E619-4F8D-8D3D-260F7F43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9E3F-80A2-4207-AFFC-44E50188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4AD9-2A22-449D-861A-14917708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147D-D1B5-4720-975D-62D231DF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39572-8732-476A-B4A5-04230EEB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5145-52FB-4FB0-963B-9FB37122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FCBD-91AA-4B91-AA80-84A891D8A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52BC-2B48-417A-8331-503BD3E99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510B4-EF6A-4A9F-B91F-4D49CB5F1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2CB31-46F7-48B8-B5D1-8075F69F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C6E60-DADD-40C5-A8C4-86334F77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2F6E6-27ED-4546-A9AC-BCBDA65D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CF1C9-E39F-44C3-8A4E-35461819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4852-A96A-435F-A5F5-BF857A63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A2DFE-D6D8-4E13-BBA7-AF90C04E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8FAA2-4995-41E1-A90D-ADEE6F5E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E76E3-0BAF-49CF-8469-6AF1A952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2674C-CE14-4993-A58A-4546B34B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93BFD-17F7-479A-BB1B-95585785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C0A32-1AD4-4FD9-9725-083F070A7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AE245-BB8D-4E76-A630-000D56092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D80C0-44EC-4205-BF84-1466DB796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0FB03-4FB5-4128-9F23-C527F8C6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381B8-1CDD-48F0-B61E-B03C26EF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7249-6E61-42D4-A96F-35539544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5EF6D-E55F-4610-8023-9C89866C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6B559-94DB-4799-BFC9-EA9A4534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5CB8D-BDFF-4C42-A689-F4D17198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D16AB-ED32-4565-B607-1F6BC674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5BF77-E253-4BE6-87CF-A88FD008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A34E2-C108-45DF-A7EC-B3E33878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97F15-77C1-4897-BE19-895DAA2F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98588-FFA7-445A-B46F-4E758F1BE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D9162-E596-4A72-9232-1B815E1EA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63D7C-1363-4ED2-901D-F5AB39DF6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186B-EFF4-4D2F-B2E3-704283DC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C461C-C665-4D0E-9779-9AD8B979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0EC2D-F58E-44CD-953A-CAB18003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9C847-EFCA-49CA-A75E-EE174BE6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3E0A0-319F-4046-A5BF-597A4D16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EB9D8-9399-41ED-8AB7-54E3FE93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E30F2-5049-4257-97B9-EBACF68E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0B2FF-09D9-489E-8E6B-CE4CAEA5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C8E1A-A3A3-4C5E-9B13-4FE07061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08013-4419-4A50-811F-6286C739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219EF-2353-4514-A621-9F4C33029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46F2-864B-4966-A2EC-EB37D1DF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AFF2C-30E9-4EB8-9342-5B78DBE89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3763C-3619-4913-8083-C219B2C2B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17A2F-357D-4FF1-AAAC-B9890389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29E85-7D7B-48EA-934A-4DD69E3E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12EA5-52A0-4BA0-8A4C-BA97077B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4DE24-9EBB-409D-9C24-68A478E8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1A2FC-8BB2-4A82-927C-844F38EB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08390-7C69-4047-97D8-4D688F83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CFABB-B1BE-4F6F-A867-81E29FD6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BC2AB-9305-49BC-9DE1-012DAF7A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E6CD-D946-4A9E-838C-40C9C36C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3C1EA-4F68-4F07-BE3A-876054A8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66D80-2FB1-4A5F-BE9F-FF8065F8D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F5662-11A8-4CFA-8F4F-12E3A6514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67D6-C7D7-4163-A803-041C510D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7A45-06FC-4A9E-BE3B-111DC6A4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C646-65C2-4C10-8DB7-748D1A710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1DB0-1860-474C-94AD-B89A80731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93F2-4B14-4120-B620-ACB4A735FF4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A948-6E36-4B82-8E16-90E31C64B6B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83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84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87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9388-5B03-4757-A575-6D687D94B103}" type="slidenum">
              <a:rPr b="1" lang="en-US" sz="26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31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34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6CB4-A460-4ED4-A21B-775E8E17E2EB}" type="slidenum">
              <a:rPr b="1" lang="en-US" sz="26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Клеточная теория строения организмов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II. Этап</a:t>
            </a:r>
            <a:br>
              <a:rPr sz="3200"/>
            </a:b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Развитие клеточной теор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Карл Максимович Бэр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3276720" y="1557360"/>
          <a:ext cx="2449440" cy="29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557360"/>
                    <a:ext cx="2449440" cy="29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4584240"/>
            <a:ext cx="822960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827 год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ткрыл яйцеклетку млекопитающих. Сформулировал положение, что клетка не только единица строения, но и единица развития живых организм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54880" y="98100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792 – 187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Рудольф Вирхов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3419640" y="1484280"/>
          <a:ext cx="2228760" cy="30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484280"/>
                    <a:ext cx="222876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4723920"/>
            <a:ext cx="8229600" cy="14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855 год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босновал принцип преемственности клеток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"каждая клетка из клетки"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924360" y="1268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54880" y="98100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821 – 190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Современная клеточная теория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) Клетка представляет собой основу структурной и функциональной организации растений и животны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) Клетки растений и животных сходны по строению и развиваются аналогично (путем деления исходной клетки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) Клетки у всех организмов имеют мембранное строе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) Ядро клетки представляет ее главный регуляторный органоид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) Клеточное строение живых организмов — свидетельство единства их происхожд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4920" y="765000"/>
            <a:ext cx="8396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15920" indent="-1015920" algn="ctr">
              <a:lnSpc>
                <a:spcPct val="90000"/>
              </a:lnSpc>
              <a:buClr>
                <a:srgbClr val="ff33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Этап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Зарождение понятий о клетке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Роберт Гук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492360" y="1557360"/>
          <a:ext cx="2011680" cy="25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557360"/>
                    <a:ext cx="201168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665 год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публиковал труд "Микрография", где изложил результаты своих исследований. Рассматривая тонкий срез пробки под микроскопом, он обнаружил существование множества мелких ячеек и назвал их "клетками". Так возник этот терми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78560" y="981000"/>
            <a:ext cx="1421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635-170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Антони ван Левенгук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203640" y="1628640"/>
          <a:ext cx="249876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628640"/>
                    <a:ext cx="249876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443664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3300"/>
                </a:solidFill>
                <a:latin typeface="Arial"/>
              </a:rPr>
              <a:t>1680 год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писал с большой точностью, наблюдаемые под микроскопом микроорганизмы. Он назвал их "микроскопическими животными", однако не отмечал их клеточного стро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637800" y="1125360"/>
            <a:ext cx="1741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632  - 1723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I. Этап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Возникновение клеточной теор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Роберт Броун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419640" y="1628640"/>
          <a:ext cx="2431800" cy="32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628640"/>
                    <a:ext cx="243180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508752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858 год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первые описал ядро в растительной клетке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854520" y="119700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773 – 1858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Маттиас Шлейден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3348000" y="1557360"/>
          <a:ext cx="2781360" cy="33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557360"/>
                    <a:ext cx="2781360" cy="33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508464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1838 год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делал первые шаги к раскрытию и пониманию роли яд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4880" y="105264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804 – 188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Garamond"/>
              </a:rPr>
              <a:t>Теодор Шванн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3348000" y="1484280"/>
          <a:ext cx="227484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484280"/>
                    <a:ext cx="227484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4365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3300"/>
                </a:solidFill>
                <a:latin typeface="Arial"/>
              </a:rPr>
              <a:t>1839 год</a:t>
            </a: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спользуя свои собственные данные и результаты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. Шлейдена, обобщил знания о клетке и сформулировал клеточную теорию. Основное положение этой теории: клетка является элементарной единицей строения всех растительных и животных организмов. 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854880" y="1125360"/>
            <a:ext cx="1599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1810 – 188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Клеточная теория</a:t>
            </a:r>
            <a:br>
              <a:rPr sz="4200"/>
            </a:b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 Шванна - Шлейдена</a:t>
            </a:r>
            <a:endParaRPr b="0" lang="en-US" sz="4200" spc="-1" strike="noStrike">
              <a:solidFill>
                <a:srgbClr val="0000ff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Всем животным и растениям свойственно клеточное стро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Растут и развиваются растения и животные путем возникновения новых клеток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Клетка является самой маленькой единицей живого, а целый организм – совокупность клеток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0:56:21Z</dcterms:created>
  <dc:creator>IPATOV</dc:creator>
  <dc:description/>
  <dc:language>en-US</dc:language>
  <cp:lastModifiedBy>IPATOV</cp:lastModifiedBy>
  <dcterms:modified xsi:type="dcterms:W3CDTF">2007-01-11T11:25:24Z</dcterms:modified>
  <cp:revision>6</cp:revision>
  <dc:subject/>
  <dc:title>Клеточная теория строения организмов</dc:title>
</cp:coreProperties>
</file>