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2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6829-2BDB-45C0-A035-846600BC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D0F-9959-4320-9568-061B3193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7072-54F0-4CDB-96AB-152EC929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92FE-26C8-43CE-8349-BECABA657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5BD-4B36-4CD2-A92F-025CFE15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C528-AFF1-4879-BE9A-B2154483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A90-4307-43C9-BF3F-9E282331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1BA-612E-4287-8759-89F3A02A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D59D-6935-4642-8252-22787353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D07-C0E2-4975-BB03-E8EB8103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E8D7-EE70-4A7B-8E31-3F0ABF11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6EF-1CEA-4956-9D5C-71CAD43B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5843-3AFB-44F6-A928-17B718E3A8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a5f9f7"/>
          </a:solidFill>
          <a:ln w="9360">
            <a:solidFill>
              <a:srgbClr val="a5f9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КУЛЬТУРНЫЕ</a:t>
            </a: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РАСТЕНИЯ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829040"/>
          </a:xfrm>
          <a:prstGeom prst="rect">
            <a:avLst/>
          </a:prstGeom>
          <a:solidFill>
            <a:srgbClr val="f1fe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ультурные растения -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ущественная часть царства растений. Они произошли от дикорастущих видов .Сортовое богатство культурных растений обусловлено потребностями людей и тем биологическим разнообразием в природе, из которого человек отбирал для себя полезные виды растений, чтобы возделывать их. Человек способствовал расселению культурных растений в разных регионах планеты (часто очень далеких от их центров происхожд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ТЫК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ыква, дико произраставшая в Америке, издавна введена в культуру. В настоящее время имеется много сортов и разновид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UI_PUMP_Olinka-ready06"/>
          <p:cNvPicPr/>
          <p:nvPr/>
        </p:nvPicPr>
        <p:blipFill>
          <a:blip r:embed="rId1"/>
          <a:stretch/>
        </p:blipFill>
        <p:spPr>
          <a:xfrm>
            <a:off x="755640" y="1844640"/>
            <a:ext cx="3313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ЧТО МЫ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тарый и Новый Свет дали человечеству много различных ценных растений для питания, лечения, украшения жилищ, изготовления одежды, красителей, украшений и пр.Вводя в культуру то или иное растение, человек создавал множество новых сортов, менял их свойства по своему усмотр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957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Arial"/>
              </a:rPr>
              <a:t>Что за культ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Wheat"/>
          <p:cNvPicPr/>
          <p:nvPr/>
        </p:nvPicPr>
        <p:blipFill>
          <a:blip r:embed="rId1"/>
          <a:stretch/>
        </p:blipFill>
        <p:spPr>
          <a:xfrm>
            <a:off x="684360" y="2278080"/>
            <a:ext cx="2160360" cy="388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otatoes"/>
          <p:cNvPicPr/>
          <p:nvPr/>
        </p:nvPicPr>
        <p:blipFill>
          <a:blip r:embed="rId2"/>
          <a:stretch/>
        </p:blipFill>
        <p:spPr>
          <a:xfrm>
            <a:off x="3059280" y="2278080"/>
            <a:ext cx="2717640" cy="388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0729185122-web"/>
          <p:cNvPicPr/>
          <p:nvPr/>
        </p:nvPicPr>
        <p:blipFill>
          <a:blip r:embed="rId3"/>
          <a:stretch/>
        </p:blipFill>
        <p:spPr>
          <a:xfrm>
            <a:off x="6012000" y="227808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omat"/>
          <p:cNvPicPr/>
          <p:nvPr/>
        </p:nvPicPr>
        <p:blipFill>
          <a:blip r:embed="rId1"/>
          <a:stretch/>
        </p:blipFill>
        <p:spPr>
          <a:xfrm>
            <a:off x="592200" y="34290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UI_PUMP_Olinka-ready06"/>
          <p:cNvPicPr/>
          <p:nvPr/>
        </p:nvPicPr>
        <p:blipFill>
          <a:blip r:embed="rId2"/>
          <a:stretch/>
        </p:blipFill>
        <p:spPr>
          <a:xfrm>
            <a:off x="5837400" y="2133720"/>
            <a:ext cx="2695320" cy="385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anan"/>
          <p:cNvPicPr/>
          <p:nvPr/>
        </p:nvPicPr>
        <p:blipFill>
          <a:blip r:embed="rId3"/>
          <a:stretch/>
        </p:blipFill>
        <p:spPr>
          <a:xfrm>
            <a:off x="3530520" y="1731960"/>
            <a:ext cx="19051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ВЫПОЛНИ ЗАДА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ЗАПОЛНИ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35280" y="2852640"/>
          <a:ext cx="6913440" cy="2016360"/>
        </p:xfrm>
        <a:graphic>
          <a:graphicData uri="http://schemas.openxmlformats.org/drawingml/2006/table">
            <a:tbl>
              <a:tblPr/>
              <a:tblGrid>
                <a:gridCol w="3638520"/>
                <a:gridCol w="3274920"/>
              </a:tblGrid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ЫЙ 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46" descr="j0292020"/>
          <p:cNvPicPr/>
          <p:nvPr/>
        </p:nvPicPr>
        <p:blipFill>
          <a:blip r:embed="rId1"/>
          <a:stretch/>
        </p:blipFill>
        <p:spPr>
          <a:xfrm>
            <a:off x="0" y="3573360"/>
            <a:ext cx="2916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7" descr="j0195384"/>
          <p:cNvPicPr/>
          <p:nvPr/>
        </p:nvPicPr>
        <p:blipFill>
          <a:blip r:embed="rId2"/>
          <a:stretch/>
        </p:blipFill>
        <p:spPr>
          <a:xfrm>
            <a:off x="7093080" y="105264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9" descr="j0195384"/>
          <p:cNvPicPr/>
          <p:nvPr/>
        </p:nvPicPr>
        <p:blipFill>
          <a:blip r:embed="rId3"/>
          <a:stretch/>
        </p:blipFill>
        <p:spPr>
          <a:xfrm>
            <a:off x="5724360" y="4869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Вот эти культур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Картофель, помидоры, кукуруза, капуста, пшеница, рожь, тыква, батат, фасоль, овес, горох, ячмень, черный перец, красный перец, петрушка, укроп, гвоздика, мускатный орех, лавровый лист, горчица, мята, анис, банан, виногра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Р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ОВ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пуста, пшеница, рожь, овес, ячмень, черный перец, петрушка, укроп, гвоздика, мускатный орех, лавровый лист, горчица, мята, анис, банан, виноград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ртофель, помидоры, кукуруза, тыква, батат, фасоль, красный перец, табак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5" descr="j0292982"/>
          <p:cNvPicPr/>
          <p:nvPr/>
        </p:nvPicPr>
        <p:blipFill>
          <a:blip r:embed="rId1"/>
          <a:stretch/>
        </p:blipFill>
        <p:spPr>
          <a:xfrm>
            <a:off x="6948360" y="4365720"/>
            <a:ext cx="171468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a5f9f7"/>
              </a:gs>
              <a:gs pos="50000">
                <a:srgbClr val="fba3e2"/>
              </a:gs>
              <a:gs pos="100000">
                <a:srgbClr val="a5f9f7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презентацию по биологии раздел БОТА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йся 6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О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ИРНОВ НИК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8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ff"/>
                </a:solidFill>
                <a:latin typeface="Arial"/>
              </a:rPr>
              <a:t>ДАРЫ СТАР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572680" cy="454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6600"/>
                </a:solidFill>
                <a:latin typeface="Arial"/>
              </a:rPr>
              <a:t>Дарами Старого Света являются не только хлебные и овощные, но и фруктовые растения, а также те, от которых люди получили многочисленные пряности и приправы (черный перец, мускатный орех, лавровый лист, гвоздика, горчица, петрушка, укроп, мята, анис и т.д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Wheat"/>
          <p:cNvPicPr/>
          <p:nvPr/>
        </p:nvPicPr>
        <p:blipFill>
          <a:blip r:embed="rId1"/>
          <a:stretch/>
        </p:blipFill>
        <p:spPr>
          <a:xfrm>
            <a:off x="539640" y="1628640"/>
            <a:ext cx="3175200" cy="439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211640" y="177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Arial"/>
              </a:rPr>
              <a:t>ПШЕНИЦА- родом из Средиземномо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780000" y="256536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шеница выращивается двух сортов – твердая и мягкая. Они отличаются по белковому и углеводному составу зерна. Из муки твердой пшеницы – хлеб, макаронные изделия. Тесто из муки мягкой пшеницы рыхлое, легко рвется, но зато из него получаются необычайно вкусные пироги и пшеничная к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РОЖЬ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r-secale"/>
          <p:cNvPicPr/>
          <p:nvPr/>
        </p:nvPicPr>
        <p:blipFill>
          <a:blip r:embed="rId1"/>
          <a:stretch/>
        </p:blipFill>
        <p:spPr>
          <a:xfrm>
            <a:off x="5292720" y="1557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468360" y="2421000"/>
            <a:ext cx="4608360" cy="2562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РОЖЬ впервые попала в культуру земледелия как сорняк пшеницы. Отделить семена сорной ржи от посевной пшеницы было очень трудно. В северных районах пшеница часто погибала на полях, а ее спутница – рожь выживала. Люди питались ее зерном и в конце концов признали ценной куль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ВИНО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Вино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116"/>
          <p:cNvPicPr/>
          <p:nvPr/>
        </p:nvPicPr>
        <p:blipFill>
          <a:blip r:embed="rId1"/>
          <a:stretch/>
        </p:blipFill>
        <p:spPr>
          <a:xfrm>
            <a:off x="611280" y="2421000"/>
            <a:ext cx="272736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492360" y="2425680"/>
            <a:ext cx="4608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ИНОГРАД - вторая после пшеницы культура по древности и распространению. Его родина –Закавказье и Малая Азия. Дикий виноград растет, обвивая высокие деревья .Культурный виноград возделывают в виде кустов, обрезая его ветки – л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АНАН - </a:t>
            </a: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ГИГАНТСКАЯ Т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48000" y="1566360"/>
            <a:ext cx="5796000" cy="4526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cc"/>
                </a:solidFill>
                <a:latin typeface="Arial"/>
              </a:rPr>
              <a:t>БАНАН -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 высокое, иногда гигантское(до 15 м.) травянистое растение с мощным корневищем, упроченным толстым стеблем и ложным стволом, образованным огромными влагалищами крупных лист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nan"/>
          <p:cNvPicPr/>
          <p:nvPr/>
        </p:nvPicPr>
        <p:blipFill>
          <a:blip r:embed="rId1"/>
          <a:stretch/>
        </p:blipFill>
        <p:spPr>
          <a:xfrm>
            <a:off x="108000" y="1557360"/>
            <a:ext cx="3384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7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ДАРЫ НОВ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solidFill>
            <a:srgbClr val="e1dd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В Евразию, Африку завезены такие ценные растения: картофель, кукуруза, тыква, батат, фасоль, какао и томаты (или помидо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4102030000[1]"/>
          <p:cNvPicPr/>
          <p:nvPr/>
        </p:nvPicPr>
        <p:blipFill>
          <a:blip r:embed="rId1"/>
          <a:stretch/>
        </p:blipFill>
        <p:spPr>
          <a:xfrm>
            <a:off x="4500720" y="3716280"/>
            <a:ext cx="42987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c7d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КАРТО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57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удно представить, но всего 250 лет назад в России еще никто не употреблял в пищу картофель. Предки американских индейцев много веков назад на плоскогорь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tatoes"/>
          <p:cNvPicPr/>
          <p:nvPr/>
        </p:nvPicPr>
        <p:blipFill>
          <a:blip r:embed="rId1"/>
          <a:stretch/>
        </p:blipFill>
        <p:spPr>
          <a:xfrm>
            <a:off x="5651640" y="4149720"/>
            <a:ext cx="2717640" cy="165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55640" y="4149720"/>
            <a:ext cx="4680000" cy="1739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Анд нашли клубни дикого картофеля. Они называли его «папас». Дикий картофель имел мелкие клубни, но когда человек стал его возделывать как культурное растение- клубни его стали намного круп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О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204640"/>
            <a:ext cx="5004000" cy="403236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ОМАТЫ в диком виде обитают на Тихоокеанском побережье Южной Америки и на Галапагосских остр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omat"/>
          <p:cNvPicPr/>
          <p:nvPr/>
        </p:nvPicPr>
        <p:blipFill>
          <a:blip r:embed="rId1"/>
          <a:stretch/>
        </p:blipFill>
        <p:spPr>
          <a:xfrm>
            <a:off x="5613480" y="2205000"/>
            <a:ext cx="3062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5:03:59Z</dcterms:created>
  <dc:creator>Тропина Елена Ивановна</dc:creator>
  <dc:description/>
  <dc:language>en-US</dc:language>
  <cp:lastModifiedBy>Александр</cp:lastModifiedBy>
  <dcterms:modified xsi:type="dcterms:W3CDTF">2012-03-19T15:33:32Z</dcterms:modified>
  <cp:revision>23</cp:revision>
  <dc:subject>Курсы КПК</dc:subject>
  <dc:title>Дары Старого и Нового света</dc:title>
</cp:coreProperties>
</file>