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11F2-5749-4776-BD7B-6B038EB7FE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2DF8-9AF7-490E-87F0-9E4A7092B22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82FE-3FA0-4644-9FAB-19E6DD717505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BEC8-7B0D-493B-8060-C9F0B4A8E78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62E6-7E00-4D2D-8270-2B289A81023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CB47-8D10-4C42-AD4B-08C058121EA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DD8C-909C-408A-B512-BBD78BA9375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827F-C9AF-4265-BADC-46A980089E08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27D4-08A1-4BFD-AA83-E4DF9DE16525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B79D-0528-448D-90F5-AC3FCA193D0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0615-E19F-4FD5-A7C9-41E3CA4D406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246F-933C-46AB-B145-32DF56BDC43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D7C5-7130-401E-BC2C-FBCCBC63A11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4EAA-9580-4ABE-85FF-623B991E6DD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F0C4-787A-4629-987B-38196EF73E8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B7D7-3BBF-4EB5-99C5-00DBD3E2537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BB83-158C-471E-AD59-C2706D880D7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8C5C-5C62-4B9C-AED0-9E1A874D880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59A1-28FF-4B88-99E4-7A40D92B5D3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4137-CF57-4D2F-B781-901A14F3568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1CC1-5F8B-4A1A-8519-4338F0900A4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C45F-2381-4D24-AAA9-24A1ADCACBB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FD6-2D0E-42AE-902A-5ABBDB46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FCD-F065-4AC8-8537-9E1483B1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EED-C8ED-4881-BC2A-51BFAF42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7F2-5953-46FE-8487-0025A7FE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8A4B-62ED-47EB-9EE6-B23DE5BF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7C9C-722F-4E67-A985-49B0BC80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5DA8-D5CB-4CEA-B391-146683C3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C368-6151-4825-8CA7-DF25D199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8971-A6E6-4693-99F4-096CBC4D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DD75-1AC9-4115-BEC6-CBED4459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E406-3B11-4950-872F-5805B118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9C3-C1D8-4558-A179-6EBCD4F1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08AA-B67C-4F19-B5CE-2686D68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986E-2574-4A6F-846E-6379BE0E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D96E-0DBE-4853-A38E-9B69D86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5F87-D5B7-447E-B4CD-91B38307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91AE-0F1F-4142-9F35-DA6C0B0D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779-D867-46B7-BDAE-F7E0703D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68A-ECD6-45E3-83A2-3E9C6A3D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66C-2A0C-4B2B-899C-74741E74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44A-0BD9-41E4-ACF0-C8C0D59C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B76-6A7B-43D1-96EB-DAAB995A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915-E194-4AE7-9846-A686878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1A8-244F-425A-AA7A-D112A768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F7AD-D61A-469D-AEA9-755E0E8218D7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4E48-1592-4A12-942F-B4723B66B560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1337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иолог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600200" y="457200"/>
            <a:ext cx="6705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" Павловская СОШ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190512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06 - 2007 учебный го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-381240" y="51814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676520" y="15238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к о н ы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н д е л 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457560" y="510516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143000" y="714240"/>
            <a:ext cx="7772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рвый закон Менделя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198108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рганизм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сящихся к разным чистым линиям и отли 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ающихся друг от друга по одной паре альтерна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ивных признаков, все первое поколение гибрид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ажется единообразным и будет нести призна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дного из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600200" y="5181480"/>
            <a:ext cx="44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Закон доминирова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3048120" y="5410080"/>
            <a:ext cx="575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закон единообра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ибридов первого поколен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 rot="5400000">
            <a:off x="-343440" y="521964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219320" y="457200"/>
            <a:ext cx="723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закон Менд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63680" y="187020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етерозиготных потомк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вого поколения между собой во втором поколени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блюдается расщепление в определенном числовом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шении : по фенотипу 3:1, по генотипу 1:2:1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1828800" y="35053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он расщепления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676520" y="4648320"/>
            <a:ext cx="60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кон чистоты гамет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530720" y="53341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образовании половых клеток в каждую гамету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падает только один ген из аллельной пары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47920" y="1295280"/>
            <a:ext cx="731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219320" y="990720"/>
            <a:ext cx="7696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маленьком государстве Лисляндия вот уже несколько столетий разводят лис. Мех идёт на экспорт, а деньги от его продажи составляют основу экономики страны. Особенно ценятся серебристые лисы. Они считаются национальным достоянием, и провозить их через границу строжайше запрещено. Хитроумный контрабандист, хорошо учившийся в школе, хочет обмануть таможню. Он знает азы генетики и предполагает, что серебристая окраска лис определяется двумя рецессивными аллелями гена окраски шерсти. Лисы с хотя бы одним доминантным аллелем обычные - рыжие. Что нужно сделать, чтобы получить серебристых лис на родине контрабандиста, не нарушив законов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Лислянди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WordArt 19"/>
          <p:cNvSpPr txBox="1"/>
          <p:nvPr/>
        </p:nvSpPr>
        <p:spPr>
          <a:xfrm rot="5400000">
            <a:off x="-419400" y="50670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1905120" y="228600"/>
            <a:ext cx="5943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Контрабандист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67652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и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57200" y="1108080"/>
            <a:ext cx="279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рыжей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серебристо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 серебристы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267080" y="1295280"/>
            <a:ext cx="0" cy="3200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371600" y="4038480"/>
            <a:ext cx="2895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1447920" y="411480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1371240" y="42670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523880" y="51814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447920" y="4952880"/>
            <a:ext cx="247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1752480" y="52578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2362320" y="5181480"/>
            <a:ext cx="304560" cy="1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1905120" y="4495680"/>
            <a:ext cx="2030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2438280" y="4419720"/>
            <a:ext cx="3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200400" y="41911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3124080" y="50292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556160" y="1108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2900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480060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952880" y="21337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4876920" y="2209680"/>
            <a:ext cx="2286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5244840" y="1717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 х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24852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6553080" y="1676160"/>
            <a:ext cx="22860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843600" y="171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4329000" y="2403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5092200" y="24033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 flipH="1">
            <a:off x="5257440" y="2057400"/>
            <a:ext cx="15228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638680" y="2057400"/>
            <a:ext cx="15264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691320" y="2403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6857640" y="2057400"/>
            <a:ext cx="15228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7162920" y="2057400"/>
            <a:ext cx="22860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016600" y="30891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5089680" y="347040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 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4481640" y="407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AutoShape 42"/>
          <p:cNvSpPr/>
          <p:nvPr/>
        </p:nvSpPr>
        <p:spPr>
          <a:xfrm>
            <a:off x="487692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5244120" y="40798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608184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AutoShape 46"/>
          <p:cNvSpPr/>
          <p:nvPr/>
        </p:nvSpPr>
        <p:spPr>
          <a:xfrm>
            <a:off x="662940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7072920" y="407988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Line 48"/>
          <p:cNvSpPr/>
          <p:nvPr/>
        </p:nvSpPr>
        <p:spPr>
          <a:xfrm flipV="1">
            <a:off x="6934320" y="4038480"/>
            <a:ext cx="152280" cy="152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Line 49"/>
          <p:cNvSpPr/>
          <p:nvPr/>
        </p:nvSpPr>
        <p:spPr>
          <a:xfrm>
            <a:off x="5105520" y="4495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Line 50"/>
          <p:cNvSpPr/>
          <p:nvPr/>
        </p:nvSpPr>
        <p:spPr>
          <a:xfrm>
            <a:off x="4952880" y="4572000"/>
            <a:ext cx="304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4482720" y="47656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      А     а             А        а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Line 52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Line 54"/>
          <p:cNvSpPr/>
          <p:nvPr/>
        </p:nvSpPr>
        <p:spPr>
          <a:xfrm flipH="1">
            <a:off x="7162560" y="4495680"/>
            <a:ext cx="15228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696080" y="449568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5092920" y="5451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471640" y="5832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 :  2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5699160" y="61372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3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WordArt 59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371600" y="457200"/>
            <a:ext cx="7315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ретий закон Менде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55760" y="2022480"/>
            <a:ext cx="677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собей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личающихся друг от друга по двум (и более 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арам альтернативных признаков,гены и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ответствующие им признаки наследуются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зависимо друг от друга и комбинируются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о всех возможных сочетаниях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286000" y="48769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9:3:3: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7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523880" y="2057400"/>
            <a:ext cx="54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286000" y="25146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590920" y="35053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342900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5943600" y="24382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 flipV="1">
            <a:off x="6553080" y="2209320"/>
            <a:ext cx="4572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7010280" y="2209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6705720" y="220968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WordArt 20"/>
          <p:cNvSpPr txBox="1"/>
          <p:nvPr/>
        </p:nvSpPr>
        <p:spPr>
          <a:xfrm>
            <a:off x="8305920" y="3276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1"/>
          <p:cNvSpPr txBox="1"/>
          <p:nvPr/>
        </p:nvSpPr>
        <p:spPr>
          <a:xfrm>
            <a:off x="1523880" y="380988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2"/>
          <p:cNvSpPr txBox="1"/>
          <p:nvPr/>
        </p:nvSpPr>
        <p:spPr>
          <a:xfrm>
            <a:off x="228600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23"/>
          <p:cNvSpPr txBox="1"/>
          <p:nvPr/>
        </p:nvSpPr>
        <p:spPr>
          <a:xfrm>
            <a:off x="373392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58672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25"/>
          <p:cNvSpPr txBox="1"/>
          <p:nvPr/>
        </p:nvSpPr>
        <p:spPr>
          <a:xfrm>
            <a:off x="74674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26"/>
          <p:cNvSpPr txBox="1"/>
          <p:nvPr/>
        </p:nvSpPr>
        <p:spPr>
          <a:xfrm>
            <a:off x="8534520" y="4419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523880" y="4952880"/>
            <a:ext cx="457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28"/>
          <p:cNvSpPr txBox="1"/>
          <p:nvPr/>
        </p:nvSpPr>
        <p:spPr>
          <a:xfrm>
            <a:off x="1752480" y="53341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31"/>
          <p:cNvSpPr txBox="1"/>
          <p:nvPr/>
        </p:nvSpPr>
        <p:spPr>
          <a:xfrm>
            <a:off x="1981080" y="5562720"/>
            <a:ext cx="304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2"/>
          <p:cNvSpPr txBox="1"/>
          <p:nvPr/>
        </p:nvSpPr>
        <p:spPr>
          <a:xfrm>
            <a:off x="4267080" y="510552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33"/>
          <p:cNvSpPr txBox="1"/>
          <p:nvPr/>
        </p:nvSpPr>
        <p:spPr>
          <a:xfrm>
            <a:off x="2743200" y="51055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7162920" y="27432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35"/>
          <p:cNvSpPr txBox="1"/>
          <p:nvPr/>
        </p:nvSpPr>
        <p:spPr>
          <a:xfrm>
            <a:off x="5867280" y="5105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6"/>
          <p:cNvSpPr txBox="1"/>
          <p:nvPr/>
        </p:nvSpPr>
        <p:spPr>
          <a:xfrm>
            <a:off x="5334120" y="5562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37"/>
          <p:cNvSpPr txBox="1"/>
          <p:nvPr/>
        </p:nvSpPr>
        <p:spPr>
          <a:xfrm>
            <a:off x="7543800" y="510552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38"/>
          <p:cNvSpPr txBox="1"/>
          <p:nvPr/>
        </p:nvSpPr>
        <p:spPr>
          <a:xfrm>
            <a:off x="7543800" y="548640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39"/>
          <p:cNvSpPr txBox="1"/>
          <p:nvPr/>
        </p:nvSpPr>
        <p:spPr>
          <a:xfrm>
            <a:off x="8610480" y="5638680"/>
            <a:ext cx="244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AutoShape 42"/>
          <p:cNvSpPr/>
          <p:nvPr/>
        </p:nvSpPr>
        <p:spPr>
          <a:xfrm>
            <a:off x="3048120" y="5867280"/>
            <a:ext cx="76176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4495680" y="601992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1" name="AutoShape 44"/>
          <p:cNvSpPr/>
          <p:nvPr/>
        </p:nvSpPr>
        <p:spPr>
          <a:xfrm>
            <a:off x="6172200" y="58672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AutoShape 45"/>
          <p:cNvSpPr/>
          <p:nvPr/>
        </p:nvSpPr>
        <p:spPr>
          <a:xfrm>
            <a:off x="7620120" y="601992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342900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Line 47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Line 48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Line 49"/>
          <p:cNvSpPr/>
          <p:nvPr/>
        </p:nvSpPr>
        <p:spPr>
          <a:xfrm>
            <a:off x="320040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7" name="Line 51"/>
          <p:cNvSpPr/>
          <p:nvPr/>
        </p:nvSpPr>
        <p:spPr>
          <a:xfrm>
            <a:off x="655308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Line 52"/>
          <p:cNvSpPr/>
          <p:nvPr/>
        </p:nvSpPr>
        <p:spPr>
          <a:xfrm>
            <a:off x="6248520" y="6553080"/>
            <a:ext cx="685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Line 55"/>
          <p:cNvSpPr/>
          <p:nvPr/>
        </p:nvSpPr>
        <p:spPr>
          <a:xfrm flipV="1">
            <a:off x="8229600" y="5866920"/>
            <a:ext cx="30492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0" name="Line 56"/>
          <p:cNvSpPr/>
          <p:nvPr/>
        </p:nvSpPr>
        <p:spPr>
          <a:xfrm flipV="1">
            <a:off x="5029200" y="5715000"/>
            <a:ext cx="30492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1" name="WordArt 57"/>
          <p:cNvSpPr txBox="1"/>
          <p:nvPr/>
        </p:nvSpPr>
        <p:spPr>
          <a:xfrm>
            <a:off x="2057400" y="53352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етика по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58"/>
          <p:cNvSpPr txBox="1"/>
          <p:nvPr/>
        </p:nvSpPr>
        <p:spPr>
          <a:xfrm rot="5400000">
            <a:off x="-380880" y="502920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59"/>
          <p:cNvSpPr txBox="1"/>
          <p:nvPr/>
        </p:nvSpPr>
        <p:spPr>
          <a:xfrm>
            <a:off x="5105520" y="274320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523880" y="533520"/>
            <a:ext cx="60962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енетика по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523880" y="22096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59092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971800" y="28954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819520" y="30481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2743200" y="48006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5029200" y="251460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594360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 flipV="1">
            <a:off x="6477120" y="2209680"/>
            <a:ext cx="22860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H="1">
            <a:off x="6553080" y="2209680"/>
            <a:ext cx="1526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WordArt 19"/>
          <p:cNvSpPr txBox="1"/>
          <p:nvPr/>
        </p:nvSpPr>
        <p:spPr>
          <a:xfrm>
            <a:off x="434340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20"/>
          <p:cNvSpPr txBox="1"/>
          <p:nvPr/>
        </p:nvSpPr>
        <p:spPr>
          <a:xfrm>
            <a:off x="1600200" y="3505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21"/>
          <p:cNvSpPr txBox="1"/>
          <p:nvPr/>
        </p:nvSpPr>
        <p:spPr>
          <a:xfrm>
            <a:off x="3124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22"/>
          <p:cNvSpPr txBox="1"/>
          <p:nvPr/>
        </p:nvSpPr>
        <p:spPr>
          <a:xfrm>
            <a:off x="4267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25"/>
          <p:cNvSpPr txBox="1"/>
          <p:nvPr/>
        </p:nvSpPr>
        <p:spPr>
          <a:xfrm>
            <a:off x="6477120" y="3581280"/>
            <a:ext cx="6094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6858000" y="3048120"/>
            <a:ext cx="45720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7924680" y="35812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8077320" y="3048120"/>
            <a:ext cx="30456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3" name="WordArt 30"/>
          <p:cNvSpPr txBox="1"/>
          <p:nvPr/>
        </p:nvSpPr>
        <p:spPr>
          <a:xfrm>
            <a:off x="160020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1447560" y="4952880"/>
            <a:ext cx="3049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2057400" y="5257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581280" y="236232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746748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35"/>
          <p:cNvSpPr txBox="1"/>
          <p:nvPr/>
        </p:nvSpPr>
        <p:spPr>
          <a:xfrm>
            <a:off x="6019920" y="4800600"/>
            <a:ext cx="1218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36"/>
          <p:cNvSpPr txBox="1"/>
          <p:nvPr/>
        </p:nvSpPr>
        <p:spPr>
          <a:xfrm>
            <a:off x="7086600" y="22860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304812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64832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>
            <a:off x="640080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3" name="AutoShape 40"/>
          <p:cNvSpPr/>
          <p:nvPr/>
        </p:nvSpPr>
        <p:spPr>
          <a:xfrm>
            <a:off x="777240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342900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3200400" y="6553080"/>
            <a:ext cx="5335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6" name="Line 43"/>
          <p:cNvSpPr/>
          <p:nvPr/>
        </p:nvSpPr>
        <p:spPr>
          <a:xfrm flipV="1">
            <a:off x="5257800" y="586692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78168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55308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9" name="Line 48"/>
          <p:cNvSpPr/>
          <p:nvPr/>
        </p:nvSpPr>
        <p:spPr>
          <a:xfrm flipV="1">
            <a:off x="8305920" y="5866920"/>
            <a:ext cx="30456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Line 49"/>
          <p:cNvSpPr/>
          <p:nvPr/>
        </p:nvSpPr>
        <p:spPr>
          <a:xfrm flipH="1">
            <a:off x="3505320" y="3200400"/>
            <a:ext cx="3045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1" name="Line 50"/>
          <p:cNvSpPr/>
          <p:nvPr/>
        </p:nvSpPr>
        <p:spPr>
          <a:xfrm>
            <a:off x="4419720" y="3200400"/>
            <a:ext cx="22860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2" name="WordArt 51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6"/>
          <p:cNvSpPr txBox="1"/>
          <p:nvPr/>
        </p:nvSpPr>
        <p:spPr>
          <a:xfrm>
            <a:off x="1523880" y="1828800"/>
            <a:ext cx="533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362320" y="20574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590920" y="2590920"/>
            <a:ext cx="152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31240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13"/>
          <p:cNvSpPr txBox="1"/>
          <p:nvPr/>
        </p:nvSpPr>
        <p:spPr>
          <a:xfrm>
            <a:off x="3657600" y="16765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4"/>
          <p:cNvSpPr txBox="1"/>
          <p:nvPr/>
        </p:nvSpPr>
        <p:spPr>
          <a:xfrm>
            <a:off x="40384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5"/>
          <p:cNvSpPr txBox="1"/>
          <p:nvPr/>
        </p:nvSpPr>
        <p:spPr>
          <a:xfrm>
            <a:off x="4648320" y="182880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6"/>
          <p:cNvSpPr txBox="1"/>
          <p:nvPr/>
        </p:nvSpPr>
        <p:spPr>
          <a:xfrm>
            <a:off x="5105520" y="2133720"/>
            <a:ext cx="56988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17"/>
          <p:cNvSpPr txBox="1"/>
          <p:nvPr/>
        </p:nvSpPr>
        <p:spPr>
          <a:xfrm>
            <a:off x="6781680" y="19051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6019920" y="2209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4" name="Line 20"/>
          <p:cNvSpPr/>
          <p:nvPr/>
        </p:nvSpPr>
        <p:spPr>
          <a:xfrm flipV="1">
            <a:off x="6400800" y="1905120"/>
            <a:ext cx="22860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WordArt 21"/>
          <p:cNvSpPr txBox="1"/>
          <p:nvPr/>
        </p:nvSpPr>
        <p:spPr>
          <a:xfrm>
            <a:off x="7391520" y="1676520"/>
            <a:ext cx="24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22"/>
          <p:cNvSpPr txBox="1"/>
          <p:nvPr/>
        </p:nvSpPr>
        <p:spPr>
          <a:xfrm>
            <a:off x="7848720" y="190512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3"/>
          <p:cNvSpPr txBox="1"/>
          <p:nvPr/>
        </p:nvSpPr>
        <p:spPr>
          <a:xfrm>
            <a:off x="1523880" y="3429000"/>
            <a:ext cx="436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24"/>
          <p:cNvSpPr txBox="1"/>
          <p:nvPr/>
        </p:nvSpPr>
        <p:spPr>
          <a:xfrm>
            <a:off x="243828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25"/>
          <p:cNvSpPr txBox="1"/>
          <p:nvPr/>
        </p:nvSpPr>
        <p:spPr>
          <a:xfrm>
            <a:off x="2971800" y="32767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26"/>
          <p:cNvSpPr txBox="1"/>
          <p:nvPr/>
        </p:nvSpPr>
        <p:spPr>
          <a:xfrm>
            <a:off x="396252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27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28"/>
          <p:cNvSpPr txBox="1"/>
          <p:nvPr/>
        </p:nvSpPr>
        <p:spPr>
          <a:xfrm>
            <a:off x="6477120" y="34290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29"/>
          <p:cNvSpPr txBox="1"/>
          <p:nvPr/>
        </p:nvSpPr>
        <p:spPr>
          <a:xfrm>
            <a:off x="7010280" y="3124080"/>
            <a:ext cx="24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30"/>
          <p:cNvSpPr txBox="1"/>
          <p:nvPr/>
        </p:nvSpPr>
        <p:spPr>
          <a:xfrm>
            <a:off x="8001000" y="335268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31"/>
          <p:cNvSpPr txBox="1"/>
          <p:nvPr/>
        </p:nvSpPr>
        <p:spPr>
          <a:xfrm>
            <a:off x="1447920" y="4800600"/>
            <a:ext cx="419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32"/>
          <p:cNvSpPr txBox="1"/>
          <p:nvPr/>
        </p:nvSpPr>
        <p:spPr>
          <a:xfrm>
            <a:off x="1600200" y="5105520"/>
            <a:ext cx="15228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33"/>
          <p:cNvSpPr txBox="1"/>
          <p:nvPr/>
        </p:nvSpPr>
        <p:spPr>
          <a:xfrm>
            <a:off x="1752480" y="54100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34"/>
          <p:cNvSpPr txBox="1"/>
          <p:nvPr/>
        </p:nvSpPr>
        <p:spPr>
          <a:xfrm>
            <a:off x="21337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35"/>
          <p:cNvSpPr txBox="1"/>
          <p:nvPr/>
        </p:nvSpPr>
        <p:spPr>
          <a:xfrm>
            <a:off x="26668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36"/>
          <p:cNvSpPr txBox="1"/>
          <p:nvPr/>
        </p:nvSpPr>
        <p:spPr>
          <a:xfrm>
            <a:off x="3048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37"/>
          <p:cNvSpPr txBox="1"/>
          <p:nvPr/>
        </p:nvSpPr>
        <p:spPr>
          <a:xfrm>
            <a:off x="3581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WordArt 38"/>
          <p:cNvSpPr txBox="1"/>
          <p:nvPr/>
        </p:nvSpPr>
        <p:spPr>
          <a:xfrm>
            <a:off x="4191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39"/>
          <p:cNvSpPr txBox="1"/>
          <p:nvPr/>
        </p:nvSpPr>
        <p:spPr>
          <a:xfrm>
            <a:off x="5029200" y="480060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4724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WordArt 41"/>
          <p:cNvSpPr txBox="1"/>
          <p:nvPr/>
        </p:nvSpPr>
        <p:spPr>
          <a:xfrm>
            <a:off x="59436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42"/>
          <p:cNvSpPr txBox="1"/>
          <p:nvPr/>
        </p:nvSpPr>
        <p:spPr>
          <a:xfrm>
            <a:off x="640080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WordArt 43"/>
          <p:cNvSpPr txBox="1"/>
          <p:nvPr/>
        </p:nvSpPr>
        <p:spPr>
          <a:xfrm>
            <a:off x="678168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44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46"/>
          <p:cNvSpPr txBox="1"/>
          <p:nvPr/>
        </p:nvSpPr>
        <p:spPr>
          <a:xfrm>
            <a:off x="7315200" y="46483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WordArt 47"/>
          <p:cNvSpPr txBox="1"/>
          <p:nvPr/>
        </p:nvSpPr>
        <p:spPr>
          <a:xfrm>
            <a:off x="77724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49"/>
          <p:cNvSpPr txBox="1"/>
          <p:nvPr/>
        </p:nvSpPr>
        <p:spPr>
          <a:xfrm>
            <a:off x="8458200" y="48006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51"/>
          <p:cNvSpPr txBox="1"/>
          <p:nvPr/>
        </p:nvSpPr>
        <p:spPr>
          <a:xfrm>
            <a:off x="396252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3" name="WordArt 52"/>
          <p:cNvSpPr txBox="1"/>
          <p:nvPr/>
        </p:nvSpPr>
        <p:spPr>
          <a:xfrm>
            <a:off x="563868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53"/>
          <p:cNvSpPr txBox="1"/>
          <p:nvPr/>
        </p:nvSpPr>
        <p:spPr>
          <a:xfrm>
            <a:off x="754380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AutoShape 54"/>
          <p:cNvSpPr/>
          <p:nvPr/>
        </p:nvSpPr>
        <p:spPr>
          <a:xfrm>
            <a:off x="2590920" y="5638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6" name="AutoShape 55"/>
          <p:cNvSpPr/>
          <p:nvPr/>
        </p:nvSpPr>
        <p:spPr>
          <a:xfrm>
            <a:off x="4572000" y="6095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6324480" y="579132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AutoShape 58"/>
          <p:cNvSpPr/>
          <p:nvPr/>
        </p:nvSpPr>
        <p:spPr>
          <a:xfrm>
            <a:off x="8001000" y="6095880"/>
            <a:ext cx="533520" cy="457200"/>
          </a:xfrm>
          <a:prstGeom prst="smileyFace">
            <a:avLst>
              <a:gd name="adj" fmla="val -465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 flipH="1">
            <a:off x="2666520" y="2819520"/>
            <a:ext cx="6858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4191120" y="2819520"/>
            <a:ext cx="2286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H="1">
            <a:off x="6705720" y="2743200"/>
            <a:ext cx="30456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>
            <a:off x="8077320" y="2819520"/>
            <a:ext cx="2286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Line 64"/>
          <p:cNvSpPr/>
          <p:nvPr/>
        </p:nvSpPr>
        <p:spPr>
          <a:xfrm flipV="1">
            <a:off x="4952880" y="57913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4" name="Line 65"/>
          <p:cNvSpPr/>
          <p:nvPr/>
        </p:nvSpPr>
        <p:spPr>
          <a:xfrm flipV="1">
            <a:off x="8458200" y="5791320"/>
            <a:ext cx="38088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2895480" y="6095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Line 69"/>
          <p:cNvSpPr/>
          <p:nvPr/>
        </p:nvSpPr>
        <p:spPr>
          <a:xfrm>
            <a:off x="2666880" y="624852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7" name="Line 70"/>
          <p:cNvSpPr/>
          <p:nvPr/>
        </p:nvSpPr>
        <p:spPr>
          <a:xfrm>
            <a:off x="6629400" y="62485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6400800" y="640080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9" name="WordArt 72"/>
          <p:cNvSpPr txBox="1"/>
          <p:nvPr/>
        </p:nvSpPr>
        <p:spPr>
          <a:xfrm>
            <a:off x="8305920" y="472428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73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76"/>
          <p:cNvSpPr txBox="1"/>
          <p:nvPr/>
        </p:nvSpPr>
        <p:spPr>
          <a:xfrm>
            <a:off x="1447920" y="457200"/>
            <a:ext cx="71625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следование гемофилии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2" name="WordArt 77"/>
          <p:cNvSpPr txBox="1"/>
          <p:nvPr/>
        </p:nvSpPr>
        <p:spPr>
          <a:xfrm>
            <a:off x="3200400" y="601992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3" name="WordArt 78"/>
          <p:cNvSpPr txBox="1"/>
          <p:nvPr/>
        </p:nvSpPr>
        <p:spPr>
          <a:xfrm>
            <a:off x="5181480" y="601992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4" name="WordArt 79"/>
          <p:cNvSpPr txBox="1"/>
          <p:nvPr/>
        </p:nvSpPr>
        <p:spPr>
          <a:xfrm>
            <a:off x="7086600" y="6019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385" name="WordArt 80"/>
          <p:cNvSpPr txBox="1"/>
          <p:nvPr/>
        </p:nvSpPr>
        <p:spPr>
          <a:xfrm>
            <a:off x="8610480" y="60199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6" name="WordArt 81"/>
          <p:cNvSpPr txBox="1"/>
          <p:nvPr/>
        </p:nvSpPr>
        <p:spPr>
          <a:xfrm>
            <a:off x="365688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7" name="WordArt 82"/>
          <p:cNvSpPr txBox="1"/>
          <p:nvPr/>
        </p:nvSpPr>
        <p:spPr>
          <a:xfrm>
            <a:off x="56379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83"/>
          <p:cNvSpPr txBox="1"/>
          <p:nvPr/>
        </p:nvSpPr>
        <p:spPr>
          <a:xfrm>
            <a:off x="7543080" y="632448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89" name="WordArt 84"/>
          <p:cNvSpPr txBox="1"/>
          <p:nvPr/>
        </p:nvSpPr>
        <p:spPr>
          <a:xfrm>
            <a:off x="88383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600200" y="1981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203120" y="29862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809880" y="198108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333960" y="3032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 - обладатель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зучаемого призна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6858000" y="190512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535080" y="3138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л не установлен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1523880" y="43434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279800" y="534816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женщ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962520" y="3733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0" name="Line 14"/>
          <p:cNvSpPr/>
          <p:nvPr/>
        </p:nvSpPr>
        <p:spPr>
          <a:xfrm>
            <a:off x="4876920" y="4267080"/>
            <a:ext cx="990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6918840" y="4281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бра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96252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5943600" y="4876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876920" y="5334120"/>
            <a:ext cx="10666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4267080" y="59436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5943600" y="58672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5486400" y="5334120"/>
            <a:ext cx="0" cy="99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4952880" y="6324480"/>
            <a:ext cx="990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6918120" y="519588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ти и порядок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х рожден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0" name="WordArt 27"/>
          <p:cNvSpPr txBox="1"/>
          <p:nvPr/>
        </p:nvSpPr>
        <p:spPr>
          <a:xfrm rot="5400000">
            <a:off x="-380880" y="510552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WordArt 28"/>
          <p:cNvSpPr txBox="1"/>
          <p:nvPr/>
        </p:nvSpPr>
        <p:spPr>
          <a:xfrm>
            <a:off x="1600200" y="380880"/>
            <a:ext cx="70866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ая символик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86000" y="9144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нетик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47920" y="2666880"/>
            <a:ext cx="70866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Основные закономерн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 rot="5400000">
            <a:off x="-609840" y="487656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1359720" y="803160"/>
            <a:ext cx="688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ец Золушки женился второй раз на женщине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 которой было две дочери. Золушка и ее новые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естры называются сводными сестрам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ображают это так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3352680" y="3124080"/>
            <a:ext cx="609840" cy="5335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3124080"/>
            <a:ext cx="60984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6095880" y="3124080"/>
            <a:ext cx="609840" cy="5335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315200" y="3124080"/>
            <a:ext cx="609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39625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6705720" y="3429000"/>
            <a:ext cx="609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4038480" y="4419720"/>
            <a:ext cx="609840" cy="533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1" name="Oval 17"/>
          <p:cNvSpPr/>
          <p:nvPr/>
        </p:nvSpPr>
        <p:spPr>
          <a:xfrm>
            <a:off x="5943600" y="4419720"/>
            <a:ext cx="60948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2" name="Oval 18"/>
          <p:cNvSpPr/>
          <p:nvPr/>
        </p:nvSpPr>
        <p:spPr>
          <a:xfrm>
            <a:off x="7467480" y="4419720"/>
            <a:ext cx="609840" cy="533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3" name="Line 19"/>
          <p:cNvSpPr/>
          <p:nvPr/>
        </p:nvSpPr>
        <p:spPr>
          <a:xfrm>
            <a:off x="6324480" y="4191120"/>
            <a:ext cx="1447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Line 21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Line 22"/>
          <p:cNvSpPr/>
          <p:nvPr/>
        </p:nvSpPr>
        <p:spPr>
          <a:xfrm>
            <a:off x="777240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6" name="Line 23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343400" y="3429000"/>
            <a:ext cx="0" cy="990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1600200" y="44956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1447920" y="4647960"/>
            <a:ext cx="22860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2057400" y="4800600"/>
            <a:ext cx="12952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31"/>
          <p:cNvSpPr txBox="1"/>
          <p:nvPr/>
        </p:nvSpPr>
        <p:spPr>
          <a:xfrm>
            <a:off x="1447920" y="3124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2" name="WordArt 32"/>
          <p:cNvSpPr txBox="1"/>
          <p:nvPr/>
        </p:nvSpPr>
        <p:spPr>
          <a:xfrm>
            <a:off x="1676520" y="5562720"/>
            <a:ext cx="6400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ослов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33"/>
          <p:cNvSpPr txBox="1"/>
          <p:nvPr/>
        </p:nvSpPr>
        <p:spPr>
          <a:xfrm rot="5400000">
            <a:off x="-45720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 rot="5400000">
            <a:off x="-342720" y="506736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905120" y="685800"/>
            <a:ext cx="6324480" cy="3048120"/>
          </a:xfrm>
          <a:prstGeom prst="cloudCallout">
            <a:avLst>
              <a:gd name="adj1" fmla="val -22490"/>
              <a:gd name="adj2" fmla="val 76041"/>
            </a:avLst>
          </a:prstGeom>
          <a:solidFill>
            <a:srgbClr val="cc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6" name="WordArt 6"/>
          <p:cNvSpPr txBox="1"/>
          <p:nvPr/>
        </p:nvSpPr>
        <p:spPr>
          <a:xfrm>
            <a:off x="3048120" y="1447920"/>
            <a:ext cx="4572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1447920" y="5410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8" name="WordArt 10"/>
          <p:cNvSpPr txBox="1"/>
          <p:nvPr/>
        </p:nvSpPr>
        <p:spPr>
          <a:xfrm>
            <a:off x="1981080" y="5715000"/>
            <a:ext cx="632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1981080" y="609480"/>
            <a:ext cx="6248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роизведе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828800" y="1676520"/>
            <a:ext cx="6400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и это и ест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752480" y="25909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следственность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371600" y="342900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й проявляет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6248520" y="35812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цип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523880" y="441972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хран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4800600" y="4495680"/>
            <a:ext cx="3657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200400" y="60199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кадемик Н.П.Дубин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 rot="5400000">
            <a:off x="-381600" y="502920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1905120" y="914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то такое генетика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523880" y="2895480"/>
            <a:ext cx="70866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то является основоположнико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уки генетики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9"/>
          <p:cNvSpPr txBox="1"/>
          <p:nvPr/>
        </p:nvSpPr>
        <p:spPr>
          <a:xfrm rot="5400000">
            <a:off x="-267120" y="51433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"/>
          <p:cNvSpPr/>
          <p:nvPr/>
        </p:nvSpPr>
        <p:spPr>
          <a:xfrm>
            <a:off x="1143000" y="228600"/>
            <a:ext cx="7315200" cy="144792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imes New Roman"/>
              </a:rPr>
              <a:t>Генетика - 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1371600" y="2057400"/>
            <a:ext cx="2895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наука о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343400" y="2057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омерностя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523880" y="320040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и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600200" y="4572000"/>
            <a:ext cx="670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менчив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2057400" y="5715000"/>
            <a:ext cx="510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ов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7"/>
          <p:cNvSpPr txBox="1"/>
          <p:nvPr/>
        </p:nvSpPr>
        <p:spPr>
          <a:xfrm>
            <a:off x="1981080" y="838080"/>
            <a:ext cx="60962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Мендел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2590920" y="2286000"/>
            <a:ext cx="4800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рего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124080" y="3809880"/>
            <a:ext cx="3353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ога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2133720" y="548640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 1822 - 1884 гг.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447920" y="4572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5 год. Г.Мендель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х, г.Бр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981080" y="2514600"/>
            <a:ext cx="670572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0 год. Гуго Де Фриз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рренс,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ермак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5638680"/>
            <a:ext cx="36576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0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( 22 сорта горох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8 лет!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143000" y="3886200"/>
            <a:ext cx="342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ибридологический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 rot="5400000">
            <a:off x="-305280" y="5105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3"/>
          <p:cNvSpPr txBox="1"/>
          <p:nvPr/>
        </p:nvSpPr>
        <p:spPr>
          <a:xfrm>
            <a:off x="1828800" y="5335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бъясните термины 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447920" y="1828800"/>
            <a:ext cx="1447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715000" y="18288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"/>
          <p:cNvSpPr txBox="1"/>
          <p:nvPr/>
        </p:nvSpPr>
        <p:spPr>
          <a:xfrm>
            <a:off x="1676520" y="4038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оминантный ген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1600200" y="51814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цессивный ген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5"/>
          <p:cNvSpPr txBox="1"/>
          <p:nvPr/>
        </p:nvSpPr>
        <p:spPr>
          <a:xfrm>
            <a:off x="3276720" y="18288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кус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1523880" y="2819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7"/>
          <p:cNvSpPr txBox="1"/>
          <p:nvPr/>
        </p:nvSpPr>
        <p:spPr>
          <a:xfrm>
            <a:off x="5105520" y="2819520"/>
            <a:ext cx="2743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брид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8"/>
          <p:cNvSpPr txBox="1"/>
          <p:nvPr/>
        </p:nvSpPr>
        <p:spPr>
          <a:xfrm rot="5400000">
            <a:off x="-38124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981080" y="19051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267080" y="1981080"/>
            <a:ext cx="1524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553080" y="2133720"/>
            <a:ext cx="2057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676520" y="3733920"/>
            <a:ext cx="1676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А В В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038480" y="3581280"/>
            <a:ext cx="2210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АаВв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858000" y="3962520"/>
            <a:ext cx="1523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057400" y="5410080"/>
            <a:ext cx="83808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3733920" y="5257800"/>
            <a:ext cx="7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334120" y="5181480"/>
            <a:ext cx="1218960" cy="10670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5943600" y="6248520"/>
            <a:ext cx="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791320" y="647712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7162920" y="5715000"/>
            <a:ext cx="1218960" cy="11430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 flipV="1">
            <a:off x="8077320" y="5181480"/>
            <a:ext cx="380880" cy="609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8458200" y="51814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8305560" y="5181480"/>
            <a:ext cx="152280" cy="763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WordArt 24"/>
          <p:cNvSpPr txBox="1"/>
          <p:nvPr/>
        </p:nvSpPr>
        <p:spPr>
          <a:xfrm rot="5400000">
            <a:off x="-343080" y="5067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25"/>
          <p:cNvSpPr txBox="1"/>
          <p:nvPr/>
        </p:nvSpPr>
        <p:spPr>
          <a:xfrm>
            <a:off x="1295280" y="3808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означает эта запись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9:43:01Z</dcterms:created>
  <dc:creator>Нагорная И.Н</dc:creator>
  <dc:description/>
  <dc:language>en-US</dc:language>
  <cp:lastModifiedBy>Александр</cp:lastModifiedBy>
  <dcterms:modified xsi:type="dcterms:W3CDTF">2012-04-06T11:49:42Z</dcterms:modified>
  <cp:revision>155</cp:revision>
  <dc:subject/>
  <dc:title>Заголовок слайда отсутствует</dc:title>
</cp:coreProperties>
</file>