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EDC-D49A-48AB-A58B-549F1FFE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5CB0-386E-45BA-95BA-209275C8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ED7-705B-4921-9F3B-80E58E19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EF8-4AE0-4753-8C9A-83845DB9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FE2-5591-47A7-9B5E-67457B59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B0F-DFD3-49A7-ABA1-4D4E86E8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933-D1A4-4F6B-8BC6-C5B77BCD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E7F-CD95-4B71-BA23-75E49D55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8BC-812F-453E-A28B-E23B7607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587-F9BF-45D5-916A-CD2FA3F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869-CB0B-4858-AE29-5CF1EEE2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CCD-55EC-4132-9539-278B41E7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8b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434E-F36A-4CFE-BE6C-381EDC063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55640" y="47628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1.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Выбрат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итательные веще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дукты 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роженое. 2. Лимон. 3. Жирные кислоты. 4. Нуклеиновые кислоты. 5. Углеводы. 6.Хлеб. 7. Треска. 8. Сливочное масло. 9. Белки. 10. Глицерин. 11. Картофель. 12. Мясо. 13.Минеральные соли. 14. Аминокислоты. 15.Глюкоза. 16. Колбаса. 17. Ж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Задание 2. Установить последователь-ность органов пищеварительной систе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желудок, б) толстая кишка, в) ротовая полость, г) тонкая кишка, д) пищевод, е) гло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187280" y="47628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Регуляция слюноот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214200" y="1071720"/>
            <a:ext cx="871560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стояни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дрств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покоя ежеминутно выделяются около 0,5 мл слюны, в основном слизистого тип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 время сна секреция значительно уменьшае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ногие вкусовые стимулы, особенно кислый вкус (вызванный кислотой), приводят к обильной секреции слюн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гда человек нюхает или ест любимую пищу, слюноотделение более выражено, чем при нелюбимой пи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71640" y="765000"/>
            <a:ext cx="727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… </a:t>
            </a:r>
            <a:r>
              <a:rPr b="1" i="1" lang="ru-RU" sz="3600" spc="-1" strike="noStrike">
                <a:solidFill>
                  <a:srgbClr val="660033"/>
                </a:solidFill>
                <a:latin typeface="Academy"/>
              </a:rPr>
              <a:t>Ещё в Древней Индии применяли “испытание рисом”. На суде для решения вопроса о виновности или невиновности подсудимому предлагали съесть сухой рис. Если он его съест, значит, он не виновен, если нет, то виновен.</a:t>
            </a: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571680" y="785880"/>
            <a:ext cx="835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рвничает, находится в стрессе, то у него "пересыхает" во рту, переработать рис без слюны не возмож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не виновен и спокоен, процесс слюноотделения нормальный, рис смачивается слюной и проглатывается лег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2205000"/>
            <a:ext cx="7775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ханическое измельчение пищи (язык, зуб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бразование пищевого комка (слюна, язык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астичное расщепление углеводов (ферменты слюн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297440" y="476280"/>
            <a:ext cx="69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Этапы расщепления веще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в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4360" y="620640"/>
          <a:ext cx="7848360" cy="573084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итатель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дукты пит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Жирные кислоты. 4. Нуклеиновые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т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глевод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Белк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Глицерин. 13.Минера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и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Аминокислоты. 15.Глюкоз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Жи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жено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мон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 Хлеб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Треск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Сливочное масл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Картофел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Мясо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Колбас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cademy"/>
              </a:rPr>
              <a:t>Органы пищеваритель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пищеварительная система"/>
          <p:cNvPicPr/>
          <p:nvPr/>
        </p:nvPicPr>
        <p:blipFill>
          <a:blip r:embed="rId1"/>
          <a:stretch/>
        </p:blipFill>
        <p:spPr>
          <a:xfrm>
            <a:off x="971640" y="1413000"/>
            <a:ext cx="4321080" cy="4103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94036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товая п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1200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14960" y="3500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у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02360" y="429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нк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12000" y="501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ст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12000" y="2133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>
            <a:off x="3203280" y="1628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 flipV="1">
            <a:off x="3276720" y="2852640"/>
            <a:ext cx="273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3564000" y="3789360"/>
            <a:ext cx="25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H="1">
            <a:off x="3276720" y="4581360"/>
            <a:ext cx="2735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 flipH="1">
            <a:off x="3492000" y="522936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H="1" flipV="1">
            <a:off x="3203640" y="1915920"/>
            <a:ext cx="26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116000" y="24210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_BodoniNova"/>
              </a:rPr>
              <a:t>Пищеварение в ротовой пол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332000" y="620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троение зу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внутреннее строение зуба"/>
          <p:cNvPicPr/>
          <p:nvPr/>
        </p:nvPicPr>
        <p:blipFill>
          <a:blip r:embed="rId1"/>
          <a:stretch/>
        </p:blipFill>
        <p:spPr>
          <a:xfrm>
            <a:off x="2195640" y="134136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33200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Гигиена ротовой по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16360" y="2276640"/>
            <a:ext cx="3961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о болезней входит через рот”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Китайская пословиц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чистка зубов"/>
          <p:cNvPicPr/>
          <p:nvPr/>
        </p:nvPicPr>
        <p:blipFill>
          <a:blip r:embed="rId1"/>
          <a:stretch/>
        </p:blipFill>
        <p:spPr>
          <a:xfrm>
            <a:off x="611280" y="1197000"/>
            <a:ext cx="3446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403280" y="404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люнные желе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слюнные железы"/>
          <p:cNvPicPr/>
          <p:nvPr/>
        </p:nvPicPr>
        <p:blipFill>
          <a:blip r:embed="rId1"/>
          <a:stretch/>
        </p:blipFill>
        <p:spPr>
          <a:xfrm>
            <a:off x="1785960" y="1071720"/>
            <a:ext cx="55926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40000" y="54936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D:\212006\imga.jpg"/>
          <p:cNvPicPr/>
          <p:nvPr/>
        </p:nvPicPr>
        <p:blipFill>
          <a:blip r:embed="rId1"/>
          <a:stretch/>
        </p:blipFill>
        <p:spPr>
          <a:xfrm>
            <a:off x="214200" y="1285920"/>
            <a:ext cx="8763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258920" y="476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ntiqua"/>
              </a:rPr>
              <a:t>Органические вещества входящие в состав слю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1844640"/>
            <a:ext cx="748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. Муцины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– сложные белки, содержащие полисахариды, они придают слюне вязкость и клейкость, способствуют смачиванию и склеиванию пищевого комка и облегчают его проглаты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.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Лизоцим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убивает микр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3. Амилаза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является гидролитическим ферментом и расщепляет молекулы крахмала и гликогена с образованием мальтозы и сахаро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36:20Z</dcterms:created>
  <dc:creator>Chip</dc:creator>
  <dc:description/>
  <dc:language>en-US</dc:language>
  <cp:lastModifiedBy>Александр</cp:lastModifiedBy>
  <dcterms:modified xsi:type="dcterms:W3CDTF">2012-04-02T18:12:16Z</dcterms:modified>
  <cp:revision>12</cp:revision>
  <dc:subject/>
  <dc:title>Слайд 1</dc:title>
</cp:coreProperties>
</file>