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EE9D-70EF-4147-9F5C-923C516AC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A6FB-E409-4CF5-A22E-5D1C75A6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428-6ECB-4ACC-99DE-E7381FE7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DBA0-CE0A-4612-BD77-E5FB31DEE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5207-6C82-4AC2-AEFD-57F73D7A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653C-E97D-44A7-B54E-A3EFA28E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122A-E937-431D-A5BB-4F1570E1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FDFA-09EF-4BC9-BE66-6DE2FBD0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D1FE-F9C1-4AD2-988D-32E65768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6F82-11CB-40E6-817B-434E4C07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2E98-B9C9-4161-B8C7-AFEA1820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069-837B-428B-A439-0A9F9FC2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CD9A-208E-4950-BF2D-34829DF9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5EB6-A122-4663-B765-CF358B14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FDFA-79AE-4F62-80DD-321EA710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03C5-B22F-4113-907F-066E4262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DBA2-BE37-491D-8286-413FFE8D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782-CEE7-4B9D-A585-69B32C72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BFFA-F829-4DDC-89A4-4F031015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47B-0430-4229-B3FB-388F9C07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9B80-3212-4938-B391-136A4A30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6B4-AE2A-4EA5-A6E4-4286508A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DDC-D385-4F82-8E3B-325781C8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8CA1-DBA3-451C-9AB6-EA96BBFA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3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32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33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34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35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36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37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41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42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43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44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45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46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47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48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49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50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51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52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-12600" y="0"/>
            <a:ext cx="9156600" cy="160020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55"/>
          <p:cNvSpPr/>
          <p:nvPr/>
        </p:nvSpPr>
        <p:spPr>
          <a:xfrm>
            <a:off x="-12600" y="-12600"/>
            <a:ext cx="9156600" cy="1353960"/>
          </a:xfrm>
          <a:prstGeom prst="pie">
            <a:avLst/>
          </a:pr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56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97D8-6A5C-43F6-82B5-E42E57E51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3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2382480" y="1315080"/>
              <a:ext cx="43995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36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37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40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41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54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55"/>
            <p:cNvSpPr/>
            <p:nvPr/>
          </p:nvSpPr>
          <p:spPr>
            <a:xfrm flipH="1">
              <a:off x="360" y="0"/>
              <a:ext cx="9142560" cy="215892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 flipH="1">
              <a:off x="12240" y="0"/>
              <a:ext cx="9131400" cy="1752480"/>
            </a:xfrm>
            <a:prstGeom prst="pi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57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8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9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1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31DB-480C-46E0-8EEE-047F5FF93D44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uk.ru/Encycl/HerbFood/T0045.htm" TargetMode="External"/><Relationship Id="rId2" Type="http://schemas.openxmlformats.org/officeDocument/2006/relationships/hyperlink" Target="http://www.sunduk.ru/Encycl/HerbFood/T0038.htm" TargetMode="External"/><Relationship Id="rId3" Type="http://schemas.openxmlformats.org/officeDocument/2006/relationships/hyperlink" Target="http://www.sunduk.ru/Encycl/HerbFood/T0033.htm" TargetMode="External"/><Relationship Id="rId4" Type="http://schemas.openxmlformats.org/officeDocument/2006/relationships/hyperlink" Target="http://www.sunduk.ru/Encycl/HerbFood/T0043.htm" TargetMode="External"/><Relationship Id="rId5" Type="http://schemas.openxmlformats.org/officeDocument/2006/relationships/hyperlink" Target="http://www.sunduk.ru/Encycl/HerbFood/T0025.htm" TargetMode="External"/><Relationship Id="rId6" Type="http://schemas.openxmlformats.org/officeDocument/2006/relationships/hyperlink" Target="http://www.sunduk.ru/Encycl/HerbFood/T0030.htm" TargetMode="External"/><Relationship Id="rId7" Type="http://schemas.openxmlformats.org/officeDocument/2006/relationships/hyperlink" Target="http://www.sunduk.ru/Encycl/HerbFood/T0034.htm" TargetMode="External"/><Relationship Id="rId8" Type="http://schemas.openxmlformats.org/officeDocument/2006/relationships/hyperlink" Target="http://www.sunduk.ru/Encycl/HerbFood/T0026.htm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2057400" y="762120"/>
            <a:ext cx="6172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838080" y="12952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оказывает влияние на рост человека, улучшает состояние кожи, способствует сопротивлению организма инфекции, обеспечивает рост и развитие эпителиальных клеток, входит в состав зрительного пигмента палочек сетчатки глаза - родопсина и зрительного пигмента колбочек - йодопсина. Эти пигменты регулируют темновую адаптацию глаз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 rot="1961400">
            <a:off x="38052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733920" y="452700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аблюдаются конъюнктивиты, характерна сухость роговицы - ксерофтальмия. Отмечается также похудение (вплоть до истощения), у детей - задержка роста. Симптомы избытка витамина А: сонливость, вялость, головная боль, гиперемия лица, тошнота, рвота,                                                 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429000" y="28195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едостаток витамина A приводит к ухудшению зрения в сумерках ("куриной слепоте"). Проявления гиповитаминоза А: кожа становится сухой и шероховатой на руках и икрах ног, шелушится, ороговение волосяных фолликулов делает ее шершавой. Ногти сухие, тусклые. Часто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2209680"/>
            <a:ext cx="3822840" cy="46483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3809880" y="2055600"/>
            <a:ext cx="533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Comic Sans MS"/>
              </a:rPr>
              <a:t>Витамин А обнаружен только в продуктах животного происхождения (рыбий жир, жир молока, сливочное масло, сливки, творог, сыр, яичный желток, жир печени и жир других органов - сердца, мозга). Однако в организме человека (в кишечной стенке и печени) витамин А может образовываться из некоторых пигментов, называемых каротинами, которые широко распространены в растительных продуктах. Наибольшей активностью обладает b-каротин (провитамин А)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3196800"/>
            <a:ext cx="883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читается, что 1 мг b-каротина по эффективности соответствует 0,17 мг витамина А (ретинол). Много содержится каротина в рябине, абрикосах, шиповнике, черной смородине, облепихе, желтых тыквах, арбузах, в красном перце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шпин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капусте, ботве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2"/>
              </a:rPr>
              <a:t>сельдерея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3"/>
              </a:rPr>
              <a:t>петруш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4"/>
              </a:rPr>
              <a:t>укроп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5"/>
              </a:rPr>
              <a:t>кресс-сал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6"/>
              </a:rPr>
              <a:t>моркови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7"/>
              </a:rPr>
              <a:t>щавел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8"/>
              </a:rPr>
              <a:t>лу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перце, крапиве, одуванчике, клевере. Отмечают, что количество витаминов изменяется в соответствии с окраской продуктов в красновато-желтый цвет: чем интенсивнее эта окраска, тем больше витамина в продукте. Количество витамина в жирах зависит от состава пищи, которой питается животное. Если пища животного богата витаминами или провитаминами, то жир его содержит высокий процент витамина; так, рыбий жир в 100 раз богаче витамином А, чем сливочное масло, потому что растительный и животный планктон, которым питаются рыбы, очень богат витамином 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9"/>
          <a:stretch/>
        </p:blipFill>
        <p:spPr>
          <a:xfrm>
            <a:off x="2514600" y="2286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уточная потребность взрослого человека в витамине А (в пересчете на ретинол) - 1 мг, беременных и кормящих женщин - 1,25-1,5 мг, детей первого года жизни - 0,4 мг. Потребность повышается в период развития и роста, в период беременности, а также при диабете и заболеваниях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в течение короткого времени выдерживает высокие температуры. Чувствителен к окислению кислородом воздуха и к ультрафиолетовым лучам. Лучше сохранять витамин А в темном месте. В пищевых веществах витамин А более стоек, даже при нагревани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лучше всасывается и усваивается в присутствии жиров. Провитамином А является b-каротин, из которого в организме образуется ретиналь, затем ретинол. Витамин А накапливается в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01080" cy="25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2-04-06T11:51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