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B78-312B-4F52-95B5-33D0E78C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409B-2F4A-4F62-AE5C-7F9D68C0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C53-97BE-4E7A-9761-3E88906E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492-938E-45D6-B18C-F7FE4E53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22B84-511C-4C83-AF17-11B4C144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11FD-8BE9-4D2D-A88D-7627F069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8CC7-4FBA-46C9-845E-0A5F8CC7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D6C6-2B8F-40B9-A770-7B2562AF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B06E-DF7D-479E-9FD3-D2BC7DD0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8252-AFDA-4395-83D4-7F971528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7EB0-6A21-4154-8327-27D4A83E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765-73D6-40D4-ADBC-9A32FFB8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97FA-AEDB-43AA-B20D-5F0A6D5D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B426-7895-4AAF-B7D3-02F8A7EC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0D66-5264-4931-B704-0CFFBA57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0DDD-BC4E-4B40-BB0E-64021A13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9912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440" y="134784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7580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9912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440" y="3915000"/>
            <a:ext cx="249804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BE1C-64F1-43A7-B29D-D41E4419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999-EFBF-45BF-9B3D-CBEDDB1B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3135-D84C-43F0-A8A3-2A5D0281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AE8E-66BB-4DDF-A355-2B40A3DF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485720" y="209520"/>
            <a:ext cx="739116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1D47-CCCA-43C9-A10B-15C6B2AD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74E-6492-4E00-99F5-217EC10C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1280" y="391500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0EB0-D97A-4852-959F-ACE144D1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85720" y="200880"/>
            <a:ext cx="7391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7580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1280" y="1347840"/>
            <a:ext cx="37857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75800" y="3915000"/>
            <a:ext cx="7758360" cy="23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3EB-DA3C-403A-8C57-CC877302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960" y="692280"/>
            <a:ext cx="9144360" cy="6165720"/>
            <a:chOff x="-12960" y="692280"/>
            <a:chExt cx="9144360" cy="6165720"/>
          </a:xfrm>
        </p:grpSpPr>
        <p:sp>
          <p:nvSpPr>
            <p:cNvPr id="1" name="Line 3"/>
            <p:cNvSpPr/>
            <p:nvPr/>
          </p:nvSpPr>
          <p:spPr>
            <a:xfrm>
              <a:off x="2324160" y="711360"/>
              <a:ext cx="6807240" cy="467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" name="Line 4"/>
            <p:cNvSpPr/>
            <p:nvPr/>
          </p:nvSpPr>
          <p:spPr>
            <a:xfrm>
              <a:off x="2324160" y="711360"/>
              <a:ext cx="6807240" cy="5510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2324160" y="711360"/>
              <a:ext cx="6456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" name="Line 6"/>
            <p:cNvSpPr/>
            <p:nvPr/>
          </p:nvSpPr>
          <p:spPr>
            <a:xfrm>
              <a:off x="2324160" y="711360"/>
              <a:ext cx="54086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2324160" y="711360"/>
              <a:ext cx="442440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2324160" y="711360"/>
              <a:ext cx="3432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2324160" y="711360"/>
              <a:ext cx="255924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8" name="Line 10"/>
            <p:cNvSpPr/>
            <p:nvPr/>
          </p:nvSpPr>
          <p:spPr>
            <a:xfrm>
              <a:off x="2324160" y="711360"/>
              <a:ext cx="169056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9" name="Line 11"/>
            <p:cNvSpPr/>
            <p:nvPr/>
          </p:nvSpPr>
          <p:spPr>
            <a:xfrm>
              <a:off x="2324160" y="711360"/>
              <a:ext cx="81612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2324160" y="711360"/>
              <a:ext cx="0" cy="6146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>
              <a:off x="2324160" y="711360"/>
              <a:ext cx="6807240" cy="4046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>
              <a:off x="2324160" y="711360"/>
              <a:ext cx="6807240" cy="3484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2324160" y="711360"/>
              <a:ext cx="6807240" cy="3001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>
              <a:off x="2324160" y="711360"/>
              <a:ext cx="6807240" cy="2514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2392560" y="733320"/>
              <a:ext cx="6738840" cy="2075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>
              <a:off x="2324160" y="711360"/>
              <a:ext cx="6807240" cy="1677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>
              <a:off x="2324160" y="711360"/>
              <a:ext cx="6807240" cy="1322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2324160" y="711360"/>
              <a:ext cx="6807240" cy="97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2324160" y="711360"/>
              <a:ext cx="6807240" cy="695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>
              <a:off x="2324160" y="711360"/>
              <a:ext cx="6807240" cy="411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>
              <a:off x="2324160" y="711360"/>
              <a:ext cx="6807240" cy="206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 flipH="1">
              <a:off x="-12600" y="712800"/>
              <a:ext cx="2340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-12600" y="692280"/>
              <a:ext cx="2340000" cy="3990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-12960" y="733320"/>
              <a:ext cx="2319480" cy="549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5" name="Line 27"/>
            <p:cNvSpPr/>
            <p:nvPr/>
          </p:nvSpPr>
          <p:spPr>
            <a:xfrm flipH="1">
              <a:off x="382680" y="735120"/>
              <a:ext cx="192888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 flipH="1">
              <a:off x="1029960" y="749160"/>
              <a:ext cx="1282680" cy="61088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 flipH="1">
              <a:off x="1679400" y="735120"/>
              <a:ext cx="641160" cy="6122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 flipH="1">
              <a:off x="-12600" y="692280"/>
              <a:ext cx="2340000" cy="297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 flipH="1">
              <a:off x="-12960" y="739800"/>
              <a:ext cx="2297160" cy="2106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0" name="Line 32"/>
            <p:cNvSpPr/>
            <p:nvPr/>
          </p:nvSpPr>
          <p:spPr>
            <a:xfrm flipH="1">
              <a:off x="-12600" y="712800"/>
              <a:ext cx="2340000" cy="142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1" name="Line 33"/>
            <p:cNvSpPr/>
            <p:nvPr/>
          </p:nvSpPr>
          <p:spPr>
            <a:xfrm flipH="1">
              <a:off x="-12600" y="747720"/>
              <a:ext cx="2278080" cy="79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2" name="Line 34"/>
            <p:cNvSpPr/>
            <p:nvPr/>
          </p:nvSpPr>
          <p:spPr>
            <a:xfrm flipH="1">
              <a:off x="-12600" y="735120"/>
              <a:ext cx="2324160" cy="3268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33" name="Line 35"/>
            <p:cNvSpPr/>
            <p:nvPr/>
          </p:nvSpPr>
          <p:spPr>
            <a:xfrm flipH="1">
              <a:off x="-12600" y="692280"/>
              <a:ext cx="2340000" cy="19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34" name="Group 36"/>
            <p:cNvGrpSpPr/>
            <p:nvPr/>
          </p:nvGrpSpPr>
          <p:grpSpPr>
            <a:xfrm>
              <a:off x="-12600" y="3274920"/>
              <a:ext cx="9143640" cy="1936440"/>
              <a:chOff x="-12600" y="3274920"/>
              <a:chExt cx="9143640" cy="1936440"/>
            </a:xfrm>
          </p:grpSpPr>
          <p:sp>
            <p:nvSpPr>
              <p:cNvPr id="35" name="Line 37"/>
              <p:cNvSpPr/>
              <p:nvPr/>
            </p:nvSpPr>
            <p:spPr>
              <a:xfrm>
                <a:off x="-12600" y="521136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-12600" y="4496400"/>
                <a:ext cx="9143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-12600" y="3850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-12600" y="3274920"/>
                <a:ext cx="914040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39" name="Line 41"/>
            <p:cNvSpPr/>
            <p:nvPr/>
          </p:nvSpPr>
          <p:spPr>
            <a:xfrm>
              <a:off x="-12600" y="27828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0" name="Line 42"/>
            <p:cNvSpPr/>
            <p:nvPr/>
          </p:nvSpPr>
          <p:spPr>
            <a:xfrm flipV="1">
              <a:off x="-12600" y="2309400"/>
              <a:ext cx="9144000" cy="1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1" name="Line 43"/>
            <p:cNvSpPr/>
            <p:nvPr/>
          </p:nvSpPr>
          <p:spPr>
            <a:xfrm>
              <a:off x="-12600" y="1876320"/>
              <a:ext cx="9144000" cy="1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2" name="Line 44"/>
            <p:cNvSpPr/>
            <p:nvPr/>
          </p:nvSpPr>
          <p:spPr>
            <a:xfrm>
              <a:off x="-12600" y="1531800"/>
              <a:ext cx="91026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3" name="Line 45"/>
            <p:cNvSpPr/>
            <p:nvPr/>
          </p:nvSpPr>
          <p:spPr>
            <a:xfrm flipV="1">
              <a:off x="-12600" y="1238400"/>
              <a:ext cx="9144000" cy="1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4" name="Line 46"/>
            <p:cNvSpPr/>
            <p:nvPr/>
          </p:nvSpPr>
          <p:spPr>
            <a:xfrm>
              <a:off x="-12600" y="1049400"/>
              <a:ext cx="9144000" cy="11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5" name="Line 47"/>
            <p:cNvSpPr/>
            <p:nvPr/>
          </p:nvSpPr>
          <p:spPr>
            <a:xfrm flipV="1">
              <a:off x="-12600" y="885600"/>
              <a:ext cx="9144000" cy="270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6" name="Line 48"/>
            <p:cNvSpPr/>
            <p:nvPr/>
          </p:nvSpPr>
          <p:spPr>
            <a:xfrm>
              <a:off x="27000" y="826920"/>
              <a:ext cx="91044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47" name="Line 49"/>
            <p:cNvSpPr/>
            <p:nvPr/>
          </p:nvSpPr>
          <p:spPr>
            <a:xfrm>
              <a:off x="-12600" y="765000"/>
              <a:ext cx="914400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sp>
        <p:nvSpPr>
          <p:cNvPr id="48" name="Line 50"/>
          <p:cNvSpPr/>
          <p:nvPr/>
        </p:nvSpPr>
        <p:spPr>
          <a:xfrm flipH="1">
            <a:off x="-12600" y="712800"/>
            <a:ext cx="2340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49" name="Line 51"/>
          <p:cNvSpPr/>
          <p:nvPr/>
        </p:nvSpPr>
        <p:spPr>
          <a:xfrm flipH="1">
            <a:off x="-12600" y="712800"/>
            <a:ext cx="2340000" cy="3492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0" name="Line 52"/>
          <p:cNvSpPr/>
          <p:nvPr/>
        </p:nvSpPr>
        <p:spPr>
          <a:xfrm flipH="1">
            <a:off x="-12600" y="692280"/>
            <a:ext cx="2340000" cy="196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1" name="Line 53"/>
          <p:cNvSpPr/>
          <p:nvPr/>
        </p:nvSpPr>
        <p:spPr>
          <a:xfrm>
            <a:off x="-12600" y="765000"/>
            <a:ext cx="91440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2" name="Freeform 54"/>
          <p:cNvSpPr/>
          <p:nvPr/>
        </p:nvSpPr>
        <p:spPr>
          <a:xfrm>
            <a:off x="-12600" y="0"/>
            <a:ext cx="9156600" cy="1600200"/>
          </a:xfrm>
          <a:prstGeom prst="pie">
            <a:avLst/>
          </a:prstGeom>
          <a:gradFill rotWithShape="0">
            <a:gsLst>
              <a:gs pos="0">
                <a:srgbClr val="368463"/>
              </a:gs>
              <a:gs pos="100000">
                <a:srgbClr val="22543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3" name="Freeform 55"/>
          <p:cNvSpPr/>
          <p:nvPr/>
        </p:nvSpPr>
        <p:spPr>
          <a:xfrm>
            <a:off x="-12600" y="-12600"/>
            <a:ext cx="9156600" cy="1353960"/>
          </a:xfrm>
          <a:prstGeom prst="pie">
            <a:avLst/>
          </a:prstGeom>
          <a:gradFill rotWithShape="0">
            <a:gsLst>
              <a:gs pos="0">
                <a:srgbClr val="22543f"/>
              </a:gs>
              <a:gs pos="100000">
                <a:srgbClr val="36846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54" name="Picture 56" descr="figure07_o copy"/>
          <p:cNvPicPr/>
          <p:nvPr/>
        </p:nvPicPr>
        <p:blipFill>
          <a:blip r:embed="rId2"/>
          <a:stretch/>
        </p:blipFill>
        <p:spPr>
          <a:xfrm>
            <a:off x="600120" y="115920"/>
            <a:ext cx="107928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7" descr="figure07_b"/>
          <p:cNvPicPr/>
          <p:nvPr/>
        </p:nvPicPr>
        <p:blipFill>
          <a:blip r:embed="rId3"/>
          <a:stretch/>
        </p:blipFill>
        <p:spPr>
          <a:xfrm>
            <a:off x="-12600" y="333360"/>
            <a:ext cx="1439640" cy="1203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8" descr="figure07_g"/>
          <p:cNvPicPr/>
          <p:nvPr/>
        </p:nvPicPr>
        <p:blipFill>
          <a:blip r:embed="rId4"/>
          <a:stretch/>
        </p:blipFill>
        <p:spPr>
          <a:xfrm>
            <a:off x="1174680" y="404640"/>
            <a:ext cx="649440" cy="543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45684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124080" y="6428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552720" y="6428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1DCC-9982-4A1B-BCBB-16197EF73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7e4be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12240" y="692280"/>
            <a:ext cx="9093600" cy="6165360"/>
            <a:chOff x="12240" y="692280"/>
            <a:chExt cx="9093600" cy="6165360"/>
          </a:xfrm>
        </p:grpSpPr>
        <p:sp>
          <p:nvSpPr>
            <p:cNvPr id="99" name="Line 3"/>
            <p:cNvSpPr/>
            <p:nvPr/>
          </p:nvSpPr>
          <p:spPr>
            <a:xfrm flipH="1">
              <a:off x="12600" y="1315080"/>
              <a:ext cx="6769440" cy="4217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 flipH="1">
              <a:off x="12600" y="1315080"/>
              <a:ext cx="6769440" cy="4968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 flipH="1">
              <a:off x="361800" y="1315080"/>
              <a:ext cx="64202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 flipH="1">
              <a:off x="1403640" y="1315080"/>
              <a:ext cx="537840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2382480" y="1315080"/>
              <a:ext cx="43995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3368880" y="1315080"/>
              <a:ext cx="341316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4237200" y="1315080"/>
              <a:ext cx="2544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5101200" y="1315080"/>
              <a:ext cx="16808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5970600" y="1315080"/>
              <a:ext cx="81144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6782040" y="1315080"/>
              <a:ext cx="0" cy="5542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 flipH="1">
              <a:off x="12600" y="1315080"/>
              <a:ext cx="6769440" cy="3648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 flipH="1">
              <a:off x="12600" y="1315080"/>
              <a:ext cx="6769440" cy="3142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 flipH="1">
              <a:off x="12600" y="1315080"/>
              <a:ext cx="6769440" cy="2706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 flipH="1">
              <a:off x="12600" y="1315080"/>
              <a:ext cx="6769440" cy="226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 flipH="1">
              <a:off x="12600" y="1334880"/>
              <a:ext cx="6701400" cy="1870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 flipH="1">
              <a:off x="12600" y="1315080"/>
              <a:ext cx="6769440" cy="15130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12600" y="1315080"/>
              <a:ext cx="6769440" cy="119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>
              <a:off x="12600" y="1315080"/>
              <a:ext cx="6769440" cy="877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>
              <a:off x="12600" y="1315080"/>
              <a:ext cx="6769440" cy="626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>
              <a:off x="12600" y="1315080"/>
              <a:ext cx="6769440" cy="370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12600" y="1315080"/>
              <a:ext cx="6769440" cy="1857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6779160" y="1316520"/>
              <a:ext cx="232668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6779160" y="1297800"/>
              <a:ext cx="2326680" cy="359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6799320" y="1334880"/>
              <a:ext cx="2306520" cy="4954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6794640" y="1336320"/>
              <a:ext cx="191808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6793560" y="1349280"/>
              <a:ext cx="1275480" cy="5508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6785640" y="1336320"/>
              <a:ext cx="637560" cy="5521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6779160" y="1297800"/>
              <a:ext cx="2326680" cy="26838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6821640" y="1340640"/>
              <a:ext cx="2284200" cy="189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6779160" y="1316520"/>
              <a:ext cx="2326680" cy="12823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6840360" y="1347840"/>
              <a:ext cx="2265120" cy="715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6794280" y="1336320"/>
              <a:ext cx="2311200" cy="294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6779160" y="1297800"/>
              <a:ext cx="2326680" cy="177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grpSp>
          <p:nvGrpSpPr>
            <p:cNvPr id="132" name="Group 36"/>
            <p:cNvGrpSpPr/>
            <p:nvPr/>
          </p:nvGrpSpPr>
          <p:grpSpPr>
            <a:xfrm>
              <a:off x="12600" y="692280"/>
              <a:ext cx="9092880" cy="1000800"/>
              <a:chOff x="12600" y="692280"/>
              <a:chExt cx="9092880" cy="1000800"/>
            </a:xfrm>
          </p:grpSpPr>
          <p:sp>
            <p:nvSpPr>
              <p:cNvPr id="133" name="Line 37"/>
              <p:cNvSpPr/>
              <p:nvPr/>
            </p:nvSpPr>
            <p:spPr>
              <a:xfrm flipH="1">
                <a:off x="12600" y="169308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4" name="Line 38"/>
              <p:cNvSpPr/>
              <p:nvPr/>
            </p:nvSpPr>
            <p:spPr>
              <a:xfrm flipH="1">
                <a:off x="12600" y="1323360"/>
                <a:ext cx="909288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5" name="Line 39"/>
              <p:cNvSpPr/>
              <p:nvPr/>
            </p:nvSpPr>
            <p:spPr>
              <a:xfrm flipH="1">
                <a:off x="15840" y="99000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  <p:sp>
            <p:nvSpPr>
              <p:cNvPr id="136" name="Line 40"/>
              <p:cNvSpPr/>
              <p:nvPr/>
            </p:nvSpPr>
            <p:spPr>
              <a:xfrm flipH="1">
                <a:off x="15840" y="692280"/>
                <a:ext cx="9089640" cy="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335338"/>
                  </a:solidFill>
                  <a:latin typeface="Arial"/>
                </a:endParaRPr>
              </a:p>
            </p:txBody>
          </p:sp>
        </p:grpSp>
        <p:sp>
          <p:nvSpPr>
            <p:cNvPr id="137" name="Line 41"/>
            <p:cNvSpPr/>
            <p:nvPr/>
          </p:nvSpPr>
          <p:spPr>
            <a:xfrm flipH="1">
              <a:off x="12240" y="31831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 flipH="1" flipV="1">
              <a:off x="12240" y="2756520"/>
              <a:ext cx="909324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 flipH="1">
              <a:off x="12240" y="2365560"/>
              <a:ext cx="9093240" cy="129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 flipH="1">
              <a:off x="53640" y="2054880"/>
              <a:ext cx="90518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H="1" flipV="1">
              <a:off x="12240" y="1789920"/>
              <a:ext cx="9093240" cy="154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 flipH="1">
              <a:off x="12240" y="1620000"/>
              <a:ext cx="9093240" cy="97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 flipH="1" flipV="1">
              <a:off x="12240" y="1472040"/>
              <a:ext cx="9093240" cy="241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 flipH="1">
              <a:off x="12600" y="1419120"/>
              <a:ext cx="90536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 flipH="1">
              <a:off x="12240" y="1363320"/>
              <a:ext cx="90932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grpSp>
        <p:nvGrpSpPr>
          <p:cNvPr id="146" name="Group 54"/>
          <p:cNvGrpSpPr/>
          <p:nvPr/>
        </p:nvGrpSpPr>
        <p:grpSpPr>
          <a:xfrm>
            <a:off x="360" y="0"/>
            <a:ext cx="9143640" cy="2158920"/>
            <a:chOff x="360" y="0"/>
            <a:chExt cx="9143640" cy="2158920"/>
          </a:xfrm>
        </p:grpSpPr>
        <p:sp>
          <p:nvSpPr>
            <p:cNvPr id="147" name="Freeform 55"/>
            <p:cNvSpPr/>
            <p:nvPr/>
          </p:nvSpPr>
          <p:spPr>
            <a:xfrm flipH="1">
              <a:off x="360" y="0"/>
              <a:ext cx="9142560" cy="2158920"/>
            </a:xfrm>
            <a:prstGeom prst="pie">
              <a:avLst/>
            </a:prstGeom>
            <a:gradFill rotWithShape="0">
              <a:gsLst>
                <a:gs pos="0">
                  <a:srgbClr val="368463"/>
                </a:gs>
                <a:gs pos="100000">
                  <a:srgbClr val="22543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  <p:sp>
          <p:nvSpPr>
            <p:cNvPr id="148" name="Freeform 56"/>
            <p:cNvSpPr/>
            <p:nvPr/>
          </p:nvSpPr>
          <p:spPr>
            <a:xfrm flipH="1">
              <a:off x="12240" y="0"/>
              <a:ext cx="9131400" cy="1752480"/>
            </a:xfrm>
            <a:prstGeom prst="pie">
              <a:avLst/>
            </a:prstGeom>
            <a:gradFill rotWithShape="0">
              <a:gsLst>
                <a:gs pos="0">
                  <a:srgbClr val="22543f"/>
                </a:gs>
                <a:gs pos="100000">
                  <a:srgbClr val="3684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5338"/>
                </a:solidFill>
                <a:latin typeface="Arial"/>
              </a:endParaRPr>
            </a:p>
          </p:txBody>
        </p:sp>
      </p:grpSp>
      <p:pic>
        <p:nvPicPr>
          <p:cNvPr id="149" name="Picture 57" descr="figure07_b"/>
          <p:cNvPicPr/>
          <p:nvPr/>
        </p:nvPicPr>
        <p:blipFill>
          <a:blip r:embed="rId2"/>
          <a:stretch/>
        </p:blipFill>
        <p:spPr>
          <a:xfrm>
            <a:off x="5638680" y="3124080"/>
            <a:ext cx="2448000" cy="204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8" descr="figure07_g"/>
          <p:cNvPicPr/>
          <p:nvPr/>
        </p:nvPicPr>
        <p:blipFill>
          <a:blip r:embed="rId3"/>
          <a:stretch/>
        </p:blipFill>
        <p:spPr>
          <a:xfrm>
            <a:off x="7020000" y="4005360"/>
            <a:ext cx="2124000" cy="1774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9" descr="figure07_o copy"/>
          <p:cNvPicPr/>
          <p:nvPr/>
        </p:nvPicPr>
        <p:blipFill>
          <a:blip r:embed="rId4"/>
          <a:stretch/>
        </p:blipFill>
        <p:spPr>
          <a:xfrm>
            <a:off x="6227640" y="4869000"/>
            <a:ext cx="1619280" cy="1352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1"/>
          <p:cNvSpPr/>
          <p:nvPr/>
        </p:nvSpPr>
        <p:spPr>
          <a:xfrm>
            <a:off x="228600" y="304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32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5800" y="1347840"/>
            <a:ext cx="77583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6846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f86b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3353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3353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3353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338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335338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85720" y="209520"/>
            <a:ext cx="739116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533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D0B5-BCCC-4531-A535-AB42C1426116}" type="slidenum">
              <a:rPr b="0" lang="en-US" sz="1200" spc="-1" strike="noStrike">
                <a:solidFill>
                  <a:srgbClr val="33533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nduk.ru/Encycl/HerbFood/T0045.htm" TargetMode="External"/><Relationship Id="rId2" Type="http://schemas.openxmlformats.org/officeDocument/2006/relationships/hyperlink" Target="http://www.sunduk.ru/Encycl/HerbFood/T0038.htm" TargetMode="External"/><Relationship Id="rId3" Type="http://schemas.openxmlformats.org/officeDocument/2006/relationships/hyperlink" Target="http://www.sunduk.ru/Encycl/HerbFood/T0033.htm" TargetMode="External"/><Relationship Id="rId4" Type="http://schemas.openxmlformats.org/officeDocument/2006/relationships/hyperlink" Target="http://www.sunduk.ru/Encycl/HerbFood/T0043.htm" TargetMode="External"/><Relationship Id="rId5" Type="http://schemas.openxmlformats.org/officeDocument/2006/relationships/hyperlink" Target="http://www.sunduk.ru/Encycl/HerbFood/T0025.htm" TargetMode="External"/><Relationship Id="rId6" Type="http://schemas.openxmlformats.org/officeDocument/2006/relationships/hyperlink" Target="http://www.sunduk.ru/Encycl/HerbFood/T0030.htm" TargetMode="External"/><Relationship Id="rId7" Type="http://schemas.openxmlformats.org/officeDocument/2006/relationships/hyperlink" Target="http://www.sunduk.ru/Encycl/HerbFood/T0034.htm" TargetMode="External"/><Relationship Id="rId8" Type="http://schemas.openxmlformats.org/officeDocument/2006/relationships/hyperlink" Target="http://www.sunduk.ru/Encycl/HerbFood/T0026.htm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2057400" y="762120"/>
            <a:ext cx="617220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326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итамин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5"/>
          <p:cNvSpPr/>
          <p:nvPr/>
        </p:nvSpPr>
        <p:spPr>
          <a:xfrm>
            <a:off x="838080" y="129528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оказывает влияние на рост человека, улучшает состояние кожи, способствует сопротивлению организма инфекции, обеспечивает рост и развитие эпителиальных клеток, входит в состав зрительного пигмента палочек сетчатки глаза - родопсина и зрительного пигмента колбочек - йодопсина. Эти пигменты регулируют темновую адаптацию глаз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 rot="1961400">
            <a:off x="380520" y="396252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3733920" y="4527000"/>
            <a:ext cx="541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аблюдаются конъюнктивиты, характерна сухость роговицы - ксерофтальмия. Отмечается также похудение (вплоть до истощения), у детей - задержка роста. Симптомы избытка витамина А: сонливость, вялость, головная боль, гиперемия лица, тошнота, рвота,                                                 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3429000" y="281952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Недостаток витамина A приводит к ухудшению зрения в сумерках ("куриной слепоте"). Проявления гиповитаминоза А: кожа становится сухой и шероховатой на руках и икрах ног, шелушится, ороговение волосяных фолликулов делает ее шершавой. Ногти сухие, тусклые. Часто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0" y="2209680"/>
            <a:ext cx="3822840" cy="464832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3809880" y="2055600"/>
            <a:ext cx="5334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5338"/>
                </a:solidFill>
                <a:latin typeface="Comic Sans MS"/>
              </a:rPr>
              <a:t>Витамин А обнаружен только в продуктах животного происхождения (рыбий жир, жир молока, сливочное масло, сливки, творог, сыр, яичный желток, жир печени и жир других органов - сердца, мозга). Однако в организме человека (в кишечной стенке и печени) витамин А может образовываться из некоторых пигментов, называемых каротинами, которые широко распространены в растительных продуктах. Наибольшей активностью обладает b-каротин (провитамин А) </a:t>
            </a:r>
            <a:endParaRPr b="0" lang="en-US" sz="2000" spc="-1" strike="noStrike">
              <a:solidFill>
                <a:srgbClr val="335338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6"/>
          <p:cNvSpPr/>
          <p:nvPr/>
        </p:nvSpPr>
        <p:spPr>
          <a:xfrm>
            <a:off x="0" y="3196800"/>
            <a:ext cx="883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читается, что 1 мг b-каротина по эффективности соответствует 0,17 мг витамина А (ретинол). Много содержится каротина в рябине, абрикосах, шиповнике, черной смородине, облепихе, желтых тыквах, арбузах, в красном перце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1"/>
              </a:rPr>
              <a:t>шпин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капусте, ботве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2"/>
              </a:rPr>
              <a:t>сельдерея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3"/>
              </a:rPr>
              <a:t>петруш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4"/>
              </a:rPr>
              <a:t>укроп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5"/>
              </a:rPr>
              <a:t>кресс-салат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6"/>
              </a:rPr>
              <a:t>моркови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7"/>
              </a:rPr>
              <a:t>щавел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</a:t>
            </a:r>
            <a:r>
              <a:rPr b="0" lang="ru-RU" sz="1800" spc="-1" strike="noStrike" u="sng">
                <a:solidFill>
                  <a:srgbClr val="368463"/>
                </a:solidFill>
                <a:uFillTx/>
                <a:latin typeface="Arial"/>
                <a:hlinkClick r:id="rId8"/>
              </a:rPr>
              <a:t>луке</a:t>
            </a: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, зеленом перце, крапиве, одуванчике, клевере. Отмечают, что количество витаминов изменяется в соответствии с окраской продуктов в красновато-желтый цвет: чем интенсивнее эта окраска, тем больше витамина в продукте. Количество витамина в жирах зависит от состава пищи, которой питается животное. Если пища животного богата витаминами или провитаминами, то жир его содержит высокий процент витамина; так, рыбий жир в 100 раз богаче витамином А, чем сливочное масло, потому что растительный и животный планктон, которым питаются рыбы, очень богат витамином А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9"/>
          <a:stretch/>
        </p:blipFill>
        <p:spPr>
          <a:xfrm>
            <a:off x="2514600" y="228600"/>
            <a:ext cx="3429000" cy="304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0" y="37458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Суточная потребность взрослого человека в витамине А (в пересчете на ретинол) - 1 мг, беременных и кормящих женщин - 1,25-1,5 мг, детей первого года жизни - 0,4 мг. Потребность повышается в период развития и роста, в период беременности, а также при диабете и заболеваниях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в течение короткого времени выдерживает высокие температуры. Чувствителен к окислению кислородом воздуха и к ультрафиолетовым лучам. Лучше сохранять витамин А в темном месте. В пищевых веществах витамин А более стоек, даже при нагревани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5338"/>
                </a:solidFill>
                <a:latin typeface="Arial"/>
              </a:rPr>
              <a:t>Витамин А лучше всасывается и усваивается в присутствии жиров. Провитамином А является b-каротин, из которого в организме образуется ретиналь, затем ретинол. Витамин А накапливается в печени. </a:t>
            </a:r>
            <a:endParaRPr b="0" lang="en-US" sz="1800" spc="-1" strike="noStrike">
              <a:solidFill>
                <a:srgbClr val="335338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201080" cy="259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6629400" cy="3513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</cp:lastModifiedBy>
  <dcterms:modified xsi:type="dcterms:W3CDTF">2012-04-06T11:51:4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