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DA58-1D40-4D55-8811-C555D25F9A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годи!!!!! Я ща должен тут бумаШку распринтЮчи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746C-4D4D-41C5-AA69-2F23567F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F42E-B8FE-4045-9F3A-870145FF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4C2D-0A1B-4F5A-95D3-A9997420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D5CD-4C17-4DF1-A9A0-2B5FED342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8A96-F253-43A3-A6F0-8750946A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090D-32CD-4470-B25F-C4530803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C309-574B-4531-A6A6-9604BDF7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0D61-A062-40FB-9586-32FE3FF9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CA7B-15C8-49E8-B649-E19D6F0E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35F9-6F2D-4490-BEBF-6FC5F7FB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C130-2467-4CDC-ACAA-232CDA6A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C5AD-9D2C-4DCC-8461-0252775A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E2F4-F371-4C51-9D08-069296E1BA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a2159"/>
                </a:solidFill>
                <a:latin typeface="Monotype Corsiva"/>
              </a:rPr>
              <a:t>Правописание суффиксов имен прилагательны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300720" y="2349360"/>
            <a:ext cx="1728720" cy="1140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195640" y="2997360"/>
            <a:ext cx="1619280" cy="1095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044720" y="1773360"/>
            <a:ext cx="1655640" cy="137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229280" y="3573360"/>
            <a:ext cx="2647800" cy="1781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1763640" y="4944960"/>
            <a:ext cx="2303640" cy="1363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4067280" y="1844640"/>
            <a:ext cx="1647720" cy="1171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6516720" y="4724280"/>
            <a:ext cx="1871640" cy="1698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324000" y="3789360"/>
            <a:ext cx="172548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85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385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38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38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осстановите правил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Правописание суффиксов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-ив-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-ев-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уффикс          пишется под ударением  (лен    ый, правд    ый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Искл. юродивый, милостивый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уффикс         - без ударения (со    ый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51280" y="3933720"/>
            <a:ext cx="46083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ив                 ив</a:t>
            </a:r>
            <a:r>
              <a:rPr b="0" lang="ru-RU" sz="3800" spc="-1" strike="noStrike">
                <a:solidFill>
                  <a:srgbClr val="ff3399"/>
                </a:solidFill>
                <a:latin typeface="Times New Roman"/>
              </a:rPr>
              <a:t>           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72000" y="3348000"/>
            <a:ext cx="991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-ив-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60840" y="5349960"/>
            <a:ext cx="947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-ев-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9000" y="5349960"/>
            <a:ext cx="1665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ев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гласную в суффикс прилагательных и выделите суффикс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9080" y="2060640"/>
            <a:ext cx="18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ситц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8560" y="2060640"/>
            <a:ext cx="111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8720" y="2654280"/>
            <a:ext cx="237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навязч 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320" y="2664000"/>
            <a:ext cx="145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0320" y="3284640"/>
            <a:ext cx="252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ривет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9400" y="3284640"/>
            <a:ext cx="174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000" y="3933720"/>
            <a:ext cx="255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марганц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8040" y="3933720"/>
            <a:ext cx="169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720" y="4599000"/>
            <a:ext cx="215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оршн  во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240" y="4581360"/>
            <a:ext cx="1501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0880" y="5319720"/>
            <a:ext cx="21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щаве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7480" y="5327640"/>
            <a:ext cx="140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90880" y="2060640"/>
            <a:ext cx="221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забот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7040" y="2060640"/>
            <a:ext cx="145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89080" y="2637000"/>
            <a:ext cx="209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сбивч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85840" y="2637000"/>
            <a:ext cx="136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3284640"/>
            <a:ext cx="215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отрасл  во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7120" y="3284640"/>
            <a:ext cx="1501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58840" y="3933720"/>
            <a:ext cx="245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расчет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71880" y="3933720"/>
            <a:ext cx="1648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39760" y="4581360"/>
            <a:ext cx="178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тю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7080" y="4581360"/>
            <a:ext cx="170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32920" y="5300640"/>
            <a:ext cx="196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мар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15280" y="5300640"/>
            <a:ext cx="121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66"/>
                </a:solidFill>
                <a:latin typeface="Monotype Corsiva"/>
              </a:rPr>
              <a:t>Распределите слова в таблице в зависимости от гласной суффикс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лодц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льц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расн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гн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лод*ви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тан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оздр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лянц*ви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ол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мыш*в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ст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ыж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ел*ви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умач*в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drawingml/2006/table">
            <a:tbl>
              <a:tblPr/>
              <a:tblGrid>
                <a:gridCol w="4570560"/>
                <a:gridCol w="4573440"/>
              </a:tblGrid>
              <a:tr h="105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це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ьце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не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здре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янцеви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е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ыже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одови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но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мышов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сто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лови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мачов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осстановите правил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Times New Roman"/>
              </a:rPr>
              <a:t>Правописание уменьшительных суффиксов прилагательных -еньк-, -оньк-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уффикс "-  ньк" пишется после мягких согласных: бел  нький, мал  ньки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Уменьшительный суффикс "-  ньк" встречается очень редко: мах  нький. В некоторых прилагательных после основ на </a:t>
            </a:r>
            <a:r>
              <a:rPr b="0" lang="ru-RU" sz="3000" spc="-1" strike="noStrike">
                <a:solidFill>
                  <a:srgbClr val="000099"/>
                </a:solidFill>
                <a:latin typeface="Times New Roman"/>
              </a:rPr>
              <a:t>г, к, х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возможно как написание суффикса - "-  ньк" так и суффикса "-   ньк": мяг  нький, мяг  ньки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69440" y="28526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87680" y="3284640"/>
            <a:ext cx="2343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                   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10160" y="37893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97800" y="41752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33800" y="5400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94520" y="54007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56640" y="5400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6680" y="58323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0920" y="1932120"/>
            <a:ext cx="28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елен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2360" y="19162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9080" y="2787480"/>
            <a:ext cx="30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хорош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440" y="27874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440" y="3651120"/>
            <a:ext cx="262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лаб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440" y="3645000"/>
            <a:ext cx="12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0720" y="4452840"/>
            <a:ext cx="23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ух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440" y="44370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86480" y="191628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ал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18160" y="1916280"/>
            <a:ext cx="11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89000" y="2787480"/>
            <a:ext cx="247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ах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9360" y="278136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07000" y="366084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лад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5080" y="3651120"/>
            <a:ext cx="14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09160" y="4452840"/>
            <a:ext cx="28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ветл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18160" y="44370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60000" y="1844640"/>
            <a:ext cx="3262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гречн  вая каш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70160" y="1844640"/>
            <a:ext cx="1332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01080" y="2421000"/>
            <a:ext cx="3873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приветл  вые слов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85320" y="2411280"/>
            <a:ext cx="1861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61440" y="2997360"/>
            <a:ext cx="3291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ситц  вое платье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45320" y="2997360"/>
            <a:ext cx="1140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69080" y="3573360"/>
            <a:ext cx="4964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неповоротл  вый бегемот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27480" y="3573360"/>
            <a:ext cx="2437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85800" y="4221000"/>
            <a:ext cx="4702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талантл  вый художник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55280" y="4221000"/>
            <a:ext cx="1893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72360" y="4869000"/>
            <a:ext cx="3682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вкрадч  вый голос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40400" y="4869000"/>
            <a:ext cx="166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69800" y="5516640"/>
            <a:ext cx="5091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отзывч  вый родственник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08400" y="5516640"/>
            <a:ext cx="166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14160" y="1844640"/>
            <a:ext cx="3585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придирч  вый тон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02720" y="1844640"/>
            <a:ext cx="1999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84000" y="2492280"/>
            <a:ext cx="3382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назойл  вая мух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28640" y="2492280"/>
            <a:ext cx="1683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40720" y="3141720"/>
            <a:ext cx="3908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тюл  вые занавеск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40720" y="3130560"/>
            <a:ext cx="113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97080" y="3770280"/>
            <a:ext cx="4327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милост  вый государь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68360" y="3789360"/>
            <a:ext cx="1683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26160" y="4417920"/>
            <a:ext cx="4394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застенч  вый мальчик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85480" y="4417920"/>
            <a:ext cx="1893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43640" y="5084640"/>
            <a:ext cx="3177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тол  вая крыш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28520" y="5084640"/>
            <a:ext cx="1021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CLASS</cp:lastModifiedBy>
  <dcterms:modified xsi:type="dcterms:W3CDTF">2003-05-02T06:41:17Z</dcterms:modified>
  <cp:revision>129</cp:revision>
  <dc:subject/>
  <dc:title>PowerPoint Presentation</dc:title>
</cp:coreProperties>
</file>