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1708-E44B-42A0-A8F4-DF1E74FDB0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годи!!!!! Я ща должен тут бумаШку распринтЮч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6BB-56B9-4A1C-9B60-96536A2C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447-1FC7-4ACA-81B5-9484A409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C8E-6BC6-4462-8777-4C26F54D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F7D-B963-4E19-AFDD-8F93296A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773-FAAD-4408-A28B-7323B6AE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F2F-A905-437E-B320-FA48FD5C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DDD-3834-41FF-A911-02A453C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FF0-41DA-4ABE-8CF4-0B0D8BA3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D2B-8499-46BE-A262-2FDA637F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79D-08FC-4131-9591-EE16828B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45B-EF73-46AA-AAC8-4969B245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E82-1EB6-4468-B7F4-F3BAA855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7ABA-9E28-4B68-952F-FB201746F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a2159"/>
                </a:solidFill>
                <a:latin typeface="Monotype Corsiva"/>
              </a:rPr>
              <a:t>Правописание суффиксов имен прилагательны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1728720" cy="114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195640" y="2997360"/>
            <a:ext cx="1619280" cy="109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4720" y="1773360"/>
            <a:ext cx="1655640" cy="13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29280" y="3573360"/>
            <a:ext cx="264780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763640" y="4944960"/>
            <a:ext cx="230364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4067280" y="1844640"/>
            <a:ext cx="1647720" cy="117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6516720" y="472428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1725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8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385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описание суффиксов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и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-ев-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 пишется под ударением  (лен    ый, правд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Искл. юродивый, милостивый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уффикс         - без ударения (со    ый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3933720"/>
            <a:ext cx="4608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ив                 ив</a:t>
            </a:r>
            <a:r>
              <a:rPr b="0" lang="ru-RU" sz="3800" spc="-1" strike="noStrike">
                <a:solidFill>
                  <a:srgbClr val="ff3399"/>
                </a:solidFill>
                <a:latin typeface="Times New Roman"/>
              </a:rPr>
              <a:t>      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72000" y="3348000"/>
            <a:ext cx="99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и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0840" y="5349960"/>
            <a:ext cx="94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-ев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9000" y="5349960"/>
            <a:ext cx="1665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е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гласную в суффикс прилагательных и выделите суффикс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9080" y="2060640"/>
            <a:ext cx="18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ит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8560" y="206064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720" y="2654280"/>
            <a:ext cx="23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вязч 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20" y="266400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0320" y="3284640"/>
            <a:ext cx="25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ив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9400" y="3284640"/>
            <a:ext cx="174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000" y="3933720"/>
            <a:ext cx="255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ганц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40" y="393372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720" y="459900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ршн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240" y="458136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0880" y="5319720"/>
            <a:ext cx="21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щаве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7480" y="532764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90880" y="2060640"/>
            <a:ext cx="22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бо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7040" y="2060640"/>
            <a:ext cx="145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9080" y="2637000"/>
            <a:ext cx="209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бивч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85840" y="2637000"/>
            <a:ext cx="136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3284640"/>
            <a:ext cx="215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трасл  в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7120" y="3284640"/>
            <a:ext cx="150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58840" y="3933720"/>
            <a:ext cx="245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расчет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1880" y="3933720"/>
            <a:ext cx="164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9760" y="4581360"/>
            <a:ext cx="178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тю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7080" y="4581360"/>
            <a:ext cx="170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2920" y="53006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марл  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5280" y="530064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66"/>
                </a:solidFill>
                <a:latin typeface="Monotype Corsiva"/>
              </a:rPr>
              <a:t>Распределите слова в таблице в зависимости от гласной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лодц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льц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асн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г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лод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ан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оздр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янц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ол*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мыш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ст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ыж*ва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л*вит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мач*в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0560"/>
                <a:gridCol w="4573440"/>
              </a:tblGrid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ц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ьц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здр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же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д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ово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ыш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това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овит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мачовый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осстановите правил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Правописание уменьшительных суффиксов прилагательных -еньк-, -оньк-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ффикс "-  ньк" пишется после мягких согласных: бел  нький, мал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ительный суффикс "-  ньк" встречается очень редко: мах  нький. В некоторых прилагательных после основ на </a:t>
            </a:r>
            <a:r>
              <a:rPr b="0" lang="ru-RU" sz="3000" spc="-1" strike="noStrike">
                <a:solidFill>
                  <a:srgbClr val="000099"/>
                </a:solidFill>
                <a:latin typeface="Times New Roman"/>
              </a:rPr>
              <a:t>г, к, 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возможно как написание суффикса - "-  ньк" так и суффикса "-   ньк": мяг  нький, мяг  ньки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9440" y="28526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7680" y="3284640"/>
            <a:ext cx="23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                   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10160" y="3789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7800" y="417528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380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4520" y="5400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6640" y="54007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583236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920" y="1932120"/>
            <a:ext cx="28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елен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2360" y="19162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080" y="278748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440" y="27874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440" y="365112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б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440" y="364500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720" y="445284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4437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6480" y="19162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8160" y="19162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9000" y="278748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ах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9360" y="27813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07000" y="366084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ад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5080" y="36511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09160" y="4452840"/>
            <a:ext cx="28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ветл  нь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816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0000" y="1844640"/>
            <a:ext cx="326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гречн  вая ка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70160" y="1844640"/>
            <a:ext cx="133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1080" y="2421000"/>
            <a:ext cx="3873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ветл  вые слов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85320" y="2411280"/>
            <a:ext cx="1861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1440" y="2997360"/>
            <a:ext cx="32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итц  вое плать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5320" y="299736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9080" y="3573360"/>
            <a:ext cx="4964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еповоротл  вый бегемо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7480" y="3573360"/>
            <a:ext cx="2437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85800" y="4221000"/>
            <a:ext cx="470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алантл  вый худож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5280" y="42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2360" y="4869000"/>
            <a:ext cx="3682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крадч  вый голо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0400" y="486900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9800" y="5516640"/>
            <a:ext cx="509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отзывч  вый родственн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8400" y="5516640"/>
            <a:ext cx="1669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4160" y="1844640"/>
            <a:ext cx="358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ридирч  вый то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2720" y="1844640"/>
            <a:ext cx="1999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000" y="2492280"/>
            <a:ext cx="338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зойл  вая мух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8640" y="249228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0720" y="3141720"/>
            <a:ext cx="390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юл  вые занавеск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40720" y="3130560"/>
            <a:ext cx="113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7080" y="3770280"/>
            <a:ext cx="4327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илост  вый государ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789360"/>
            <a:ext cx="1683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6160" y="4417920"/>
            <a:ext cx="439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застенч  вый мальчик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5480" y="441792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640" y="5084640"/>
            <a:ext cx="3177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тол  вая крыш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520" y="5084640"/>
            <a:ext cx="1021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CLASS</cp:lastModifiedBy>
  <dcterms:modified xsi:type="dcterms:W3CDTF">2003-05-02T06:41:17Z</dcterms:modified>
  <cp:revision>129</cp:revision>
  <dc:subject/>
  <dc:title>PowerPoint Presentation</dc:title>
</cp:coreProperties>
</file>