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00AC-074B-40DD-AC58-0D3609C927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оди!!!!! Я ща должен тут бумаШку распринтЮч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4BA-07E0-4915-8FB2-D61624C8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B2F9-C6C6-44A7-BB89-9BE281CD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B59-6FFA-4A1B-B9EC-005CE06D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C29-E4F6-464B-A21E-1A29F133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D69-4B35-45AE-AB09-8F790AEE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6CE-AD8C-46B1-988A-8697BA12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EA5A-6E60-4766-A0D8-00EBAA04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46C-5757-4BCE-AAAC-589F8F09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F9E-8C78-412E-A705-35466AA8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CCCB-8580-4262-AEC6-7332902D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1F86-23F0-4EF0-AB7E-6C08A1A7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5D3-5302-4E0F-9BDC-1D98CF8B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A88B-3C01-4C6B-8EE1-E7126C183D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a2159"/>
                </a:solidFill>
                <a:latin typeface="Monotype Corsiva"/>
              </a:rPr>
              <a:t>Правописание суффиксов имен прилагательны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1728720" cy="1140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195640" y="2997360"/>
            <a:ext cx="1619280" cy="109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44720" y="1773360"/>
            <a:ext cx="1655640" cy="137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29280" y="3573360"/>
            <a:ext cx="2647800" cy="178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763640" y="4944960"/>
            <a:ext cx="2303640" cy="136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4067280" y="1844640"/>
            <a:ext cx="1647720" cy="117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6516720" y="4724280"/>
            <a:ext cx="1871640" cy="169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24000" y="3789360"/>
            <a:ext cx="17254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8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385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равописание суффиксов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и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е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 пишется под ударением  (лен    ый, правд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Искл. юродивый, милостивый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- без ударения (со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3933720"/>
            <a:ext cx="4608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ив                 ив</a:t>
            </a:r>
            <a:r>
              <a:rPr b="0" lang="ru-RU" sz="3800" spc="-1" strike="noStrike">
                <a:solidFill>
                  <a:srgbClr val="ff3399"/>
                </a:solidFill>
                <a:latin typeface="Times New Roman"/>
              </a:rPr>
              <a:t>        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72000" y="3348000"/>
            <a:ext cx="99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и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0840" y="5349960"/>
            <a:ext cx="94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е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9000" y="5349960"/>
            <a:ext cx="1665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ев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гласную в суффикс прилагательных и выделите суффикс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9080" y="206064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ит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8560" y="2060640"/>
            <a:ext cx="111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720" y="2654280"/>
            <a:ext cx="237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авязч 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320" y="266400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0320" y="3284640"/>
            <a:ext cx="25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ив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9400" y="3284640"/>
            <a:ext cx="174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000" y="3933720"/>
            <a:ext cx="255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ган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040" y="393372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720" y="459900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оршн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240" y="458136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0880" y="5319720"/>
            <a:ext cx="21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щаве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7480" y="5327640"/>
            <a:ext cx="140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90880" y="2060640"/>
            <a:ext cx="22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або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7040" y="206064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89080" y="2637000"/>
            <a:ext cx="209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бивч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85840" y="2637000"/>
            <a:ext cx="136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328464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трасл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7120" y="328464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58840" y="3933720"/>
            <a:ext cx="245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асч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1880" y="3933720"/>
            <a:ext cx="164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9760" y="4581360"/>
            <a:ext cx="178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тю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7080" y="4581360"/>
            <a:ext cx="170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32920" y="5300640"/>
            <a:ext cx="196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15280" y="5300640"/>
            <a:ext cx="121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Monotype Corsiva"/>
              </a:rPr>
              <a:t>Распределите слова в таблице в зависимости от гласной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лодц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льц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асн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г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лод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а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оздр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янц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ол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мыш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ст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ыж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л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умач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0560"/>
                <a:gridCol w="4573440"/>
              </a:tblGrid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ц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ьц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н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здр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янце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ж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д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о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ыш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т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мач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Правописание уменьшительных суффиксов прилагательных -еньк-, -оньк-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ффикс "-  ньк" пишется после мягких согласных: бел  нький, мал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еньшительный суффикс "-  ньк" встречается очень редко: мах  нький. В некоторых прилагательных после основ на </a:t>
            </a:r>
            <a:r>
              <a:rPr b="0" lang="ru-RU" sz="3000" spc="-1" strike="noStrike">
                <a:solidFill>
                  <a:srgbClr val="000099"/>
                </a:solidFill>
                <a:latin typeface="Times New Roman"/>
              </a:rPr>
              <a:t>г, к, 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возможно как написание суффикса - "-  ньк" так и суффикса "-   ньк": мяг  нький, мяг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69440" y="2852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7680" y="3284640"/>
            <a:ext cx="234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                   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10160" y="3789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7800" y="4175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380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94520" y="54007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5664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6680" y="5832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920" y="193212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елен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2360" y="19162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080" y="278748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орош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440" y="27874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440" y="365112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б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440" y="364500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0720" y="445284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440" y="4437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6480" y="191628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8160" y="19162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9000" y="2787480"/>
            <a:ext cx="24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9360" y="278136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07000" y="366084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д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5080" y="36511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09160" y="4452840"/>
            <a:ext cx="28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вет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18160" y="4437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0000" y="1844640"/>
            <a:ext cx="326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гречн  вая ка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70160" y="1844640"/>
            <a:ext cx="133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1080" y="2421000"/>
            <a:ext cx="3873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ветл  вые слов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85320" y="2411280"/>
            <a:ext cx="1861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61440" y="2997360"/>
            <a:ext cx="32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ситц  вое платье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45320" y="2997360"/>
            <a:ext cx="114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9080" y="3573360"/>
            <a:ext cx="4964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еповоротл  вый бегемо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27480" y="3573360"/>
            <a:ext cx="243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85800" y="4221000"/>
            <a:ext cx="470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алантл  вый худож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55280" y="422100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72360" y="4869000"/>
            <a:ext cx="3682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вкрадч  вый голо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0400" y="486900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9800" y="5516640"/>
            <a:ext cx="50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отзывч  вый родствен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08400" y="551664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4160" y="1844640"/>
            <a:ext cx="358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дирч  вый тон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2720" y="1844640"/>
            <a:ext cx="199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84000" y="2492280"/>
            <a:ext cx="338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азойл  вая мух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28640" y="249228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0720" y="3141720"/>
            <a:ext cx="3908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юл  вые занавеск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40720" y="3130560"/>
            <a:ext cx="113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97080" y="3770280"/>
            <a:ext cx="4327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милост  вый государ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378936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6160" y="4417920"/>
            <a:ext cx="4394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застенч  вый мальч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85480" y="441792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43640" y="5084640"/>
            <a:ext cx="3177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ол  вая кры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520" y="5084640"/>
            <a:ext cx="1021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CLASS</cp:lastModifiedBy>
  <dcterms:modified xsi:type="dcterms:W3CDTF">2003-05-02T06:41:17Z</dcterms:modified>
  <cp:revision>129</cp:revision>
  <dc:subject/>
  <dc:title>PowerPoint Presentation</dc:title>
</cp:coreProperties>
</file>