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F6A4-9907-4186-968A-E1BB57F7FA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и!!!!! Я ща должен тут бумаШку распринтЮч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9FE6-C950-4736-836A-E9A8AC6C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944-6B9A-41F5-B649-A4AA1F96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4EE-DC42-49E9-94E6-92E59633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F41-8173-40A2-8EBB-68138494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8D7-3EC8-492F-8392-65DAED3D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B08-7B09-40A0-805F-CB133A66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494-C3AD-4BE3-A908-C94D9A10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B4C-F7AE-49F7-BEE3-4B20D356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9D3-FB09-4EEC-8E27-5683C955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DD1-67E6-4E33-9F02-977CD5BC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B0F-3BFF-4D8E-885C-B1FFDC2A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4B48-D619-4EE1-9816-40919160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0AA1-FF5D-4113-B25B-BAA96B80DE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a2159"/>
                </a:solidFill>
                <a:latin typeface="Monotype Corsiva"/>
              </a:rPr>
              <a:t>Правописание суффиксов имен прилагательны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1728720" cy="114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95640" y="2997360"/>
            <a:ext cx="1619280" cy="109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4720" y="1773360"/>
            <a:ext cx="1655640" cy="137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29280" y="3573360"/>
            <a:ext cx="264780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63640" y="4944960"/>
            <a:ext cx="2303640" cy="136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067280" y="1844640"/>
            <a:ext cx="1647720" cy="117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516720" y="4724280"/>
            <a:ext cx="187164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24000" y="3789360"/>
            <a:ext cx="1725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описание суффиксо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и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е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 пишется под ударением  (лен    ый, правд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Искл. юродивый, милостивый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- без ударения (со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933720"/>
            <a:ext cx="460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ив                 ив</a:t>
            </a:r>
            <a:r>
              <a:rPr b="0" lang="ru-RU" sz="3800" spc="-1" strike="noStrike">
                <a:solidFill>
                  <a:srgbClr val="ff3399"/>
                </a:solidFill>
                <a:latin typeface="Times New Roman"/>
              </a:rPr>
              <a:t>      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2000" y="3348000"/>
            <a:ext cx="99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и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0840" y="5349960"/>
            <a:ext cx="94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е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9000" y="5349960"/>
            <a:ext cx="1665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е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гласную в суффикс прилагательных и выделите суффикс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9080" y="20606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ит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560" y="2060640"/>
            <a:ext cx="11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720" y="2654280"/>
            <a:ext cx="237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вязч 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20" y="266400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0320" y="3284640"/>
            <a:ext cx="25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ив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9400" y="3284640"/>
            <a:ext cx="174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000" y="3933720"/>
            <a:ext cx="255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ган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040" y="393372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720" y="459900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ршн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240" y="458136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0880" y="5319720"/>
            <a:ext cx="21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щаве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7480" y="5327640"/>
            <a:ext cx="140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90880" y="2060640"/>
            <a:ext cx="22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бо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7040" y="206064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9080" y="2637000"/>
            <a:ext cx="209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бивч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5840" y="2637000"/>
            <a:ext cx="136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28464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расл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7120" y="328464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58840" y="3933720"/>
            <a:ext cx="245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ч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3933720"/>
            <a:ext cx="164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9760" y="4581360"/>
            <a:ext cx="178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ю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7080" y="4581360"/>
            <a:ext cx="170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2920" y="5300640"/>
            <a:ext cx="196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5280" y="530064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Monotype Corsiva"/>
              </a:rPr>
              <a:t>Распределите слова в таблице в зависимости от гласной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лодц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ц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асн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г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лод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здр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янц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мыш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ст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ыж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л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мач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0560"/>
                <a:gridCol w="4573440"/>
              </a:tblGrid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ц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ц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янце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ж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д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о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ыш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мач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Правописание уменьшительных суффиксов прилагательных -еньк-, -оньк-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ффикс "-  ньк" пишется после мягких согласных: бел  нький, мал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еньшительный суффикс "-  ньк" встречается очень редко: мах  нький. В некоторых прилагательных после основ на </a:t>
            </a: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г, к, 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озможно как написание суффикса - "-  ньк" так и суффикса "-   ньк": мяг  нький, мяг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9440" y="2852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3284640"/>
            <a:ext cx="23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                   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10160" y="3789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800" y="4175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380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4520" y="54007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664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5832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19321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елен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19162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080" y="27874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440" y="27874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440" y="365112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б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440" y="364500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720" y="445284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44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6480" y="19162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8160" y="19162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000" y="278748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9360" y="278136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07000" y="366084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д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5080" y="36511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9160" y="44528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ет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8160" y="4437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844640"/>
            <a:ext cx="326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гречн  вая ка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70160" y="1844640"/>
            <a:ext cx="13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1080" y="2421000"/>
            <a:ext cx="387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ветл  вые слов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85320" y="2411280"/>
            <a:ext cx="1861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1440" y="2997360"/>
            <a:ext cx="32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итц  вое плать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5320" y="299736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9080" y="3573360"/>
            <a:ext cx="49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еповоротл  вый бегемо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27480" y="3573360"/>
            <a:ext cx="243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85800" y="4221000"/>
            <a:ext cx="470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алантл  вый худож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5280" y="42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2360" y="4869000"/>
            <a:ext cx="368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крадч  вый голо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0400" y="486900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9800" y="5516640"/>
            <a:ext cx="50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отзывч  вый родствен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08400" y="551664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4160" y="1844640"/>
            <a:ext cx="358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дирч  вый то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2720" y="1844640"/>
            <a:ext cx="199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000" y="2492280"/>
            <a:ext cx="338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зойл  вая мух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28640" y="249228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720" y="3141720"/>
            <a:ext cx="390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юл  вые занавеск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0720" y="3130560"/>
            <a:ext cx="113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7080" y="3770280"/>
            <a:ext cx="432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илост  вый государ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78936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6160" y="4417920"/>
            <a:ext cx="439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застенч  вый мальч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5480" y="441792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43640" y="5084640"/>
            <a:ext cx="3177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ол  вая кры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520" y="5084640"/>
            <a:ext cx="102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CLASS</cp:lastModifiedBy>
  <dcterms:modified xsi:type="dcterms:W3CDTF">2003-05-02T06:41:17Z</dcterms:modified>
  <cp:revision>129</cp:revision>
  <dc:subject/>
  <dc:title>PowerPoint Presentation</dc:title>
</cp:coreProperties>
</file>