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4.wmf" ContentType="image/x-wmf"/>
  <Override PartName="/ppt/media/image5.jpeg" ContentType="image/jpeg"/>
  <Override PartName="/ppt/media/image6.gif" ContentType="image/gif"/>
  <Override PartName="/ppt/media/image9.wmf" ContentType="image/x-wmf"/>
  <Override PartName="/ppt/media/image11.gif" ContentType="image/gif"/>
  <Override PartName="/ppt/media/image1.gif" ContentType="image/gif"/>
  <Override PartName="/ppt/media/image10.png" ContentType="image/png"/>
  <Override PartName="/ppt/media/image2.gif" ContentType="image/gif"/>
  <Override PartName="/ppt/media/image4.gif" ContentType="image/gif"/>
  <Override PartName="/ppt/media/image7.wmf" ContentType="image/x-wmf"/>
  <Override PartName="/ppt/media/image8.wmf" ContentType="image/x-wmf"/>
  <Override PartName="/ppt/media/image3.jpeg" ContentType="image/jpeg"/>
  <Override PartName="/ppt/media/image12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89B-B67E-412A-9347-C89E42D2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7241-4803-4831-860A-EB6C2C7E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937-5AA2-4F11-8A2D-14C2FEF4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583E-4FCA-41FC-AEDD-D7F302AB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15F4-F7EF-4E26-A8B3-F9675AC1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1884-BFB4-4AFE-98B5-58E4D0C0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7797-EAA6-4DAF-A0F0-AB0A9850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B19D-2299-4469-ADA9-EE91B6A2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4A89-E1AA-4B0B-A1B1-21667CA4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163F-19FA-4233-A58A-072BA00C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6537-28A6-45FA-B0F4-B9E16549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05B6-7259-4077-9074-6F835F38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966C-DB3F-4B78-A15A-2C802DE7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9D04-74E3-459B-AB60-3CA440B8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7453-B023-4502-893C-A1F1BEEA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885D-B916-4F62-A32D-1F918A8A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F2C3-576D-4090-90C7-EA9BD35F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A57-5861-481C-8610-D4D2C5D7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C4A-EA55-4856-9617-4848DD74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3F0-71C7-4ECF-875A-9474A153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705-E06C-4686-9872-22F2215B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D70-244B-4705-B20B-90A411C4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59D-4A64-4925-A92E-00B9E7B4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217-FC71-4711-B8D7-08DE48FF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B711-C967-4BD9-9114-5907798C224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63CA-2DBB-477A-A54B-E84656DF4BE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едложение и текст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има. Морозн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732720" y="4835520"/>
            <a:ext cx="1954080" cy="1681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11280" y="4802040"/>
            <a:ext cx="1728720" cy="1567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Разбор текст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Предложение выражает законченную мысль .Оно может состоять из одного или нескольких слов. Слова в предложении связаны по смыслу. Первое слово в предложение пишется с большой буквы. В конце предложения ставиться точ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читайте предлож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Зима. Морозно. Падает пушистый снег. Побелели крыши домов .Малыши радуются снег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4560" y="1828800"/>
            <a:ext cx="248292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40482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omic Sans MS"/>
              </a:rPr>
              <a:t>Знаки препин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39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1" action="ppaction://hlinksldjump"/>
              </a:rPr>
              <a:t>Восклица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2" action="ppaction://hlinksldjump"/>
              </a:rPr>
              <a:t>(!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3" action="ppaction://hlinksldjump"/>
              </a:rPr>
              <a:t>Вопроси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4" action="ppaction://hlinksldjump"/>
              </a:rPr>
              <a:t>(?)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5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132000" y="2828880"/>
            <a:ext cx="5499360" cy="3745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4280" y="2394720"/>
            <a:ext cx="7866720" cy="1731240"/>
            <a:chOff x="674280" y="2394720"/>
            <a:chExt cx="7866720" cy="1731240"/>
          </a:xfrm>
        </p:grpSpPr>
        <p:cxnSp>
          <p:nvCxnSpPr>
            <p:cNvPr id="164" name="_s23588"/>
            <p:cNvCxnSpPr>
              <a:stCxn id="165" idx="0"/>
              <a:endCxn id="166" idx="2"/>
            </p:cNvCxnSpPr>
            <p:nvPr/>
          </p:nvCxnSpPr>
          <p:spPr>
            <a:xfrm flipV="1" rot="16200000">
              <a:off x="574920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23587"/>
            <p:cNvCxnSpPr>
              <a:stCxn id="168" idx="0"/>
              <a:endCxn id="166" idx="2"/>
            </p:cNvCxnSpPr>
            <p:nvPr/>
          </p:nvCxnSpPr>
          <p:spPr>
            <a:xfrm flipV="1">
              <a:off x="4608000" y="3085920"/>
              <a:ext cx="1080" cy="3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23586"/>
            <p:cNvCxnSpPr>
              <a:stCxn id="170" idx="0"/>
              <a:endCxn id="166" idx="2"/>
            </p:cNvCxnSpPr>
            <p:nvPr/>
          </p:nvCxnSpPr>
          <p:spPr>
            <a:xfrm flipH="1" flipV="1" rot="5400000">
              <a:off x="312156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23582"/>
            <p:cNvSpPr/>
            <p:nvPr/>
          </p:nvSpPr>
          <p:spPr>
            <a:xfrm>
              <a:off x="3724200" y="2394720"/>
              <a:ext cx="1766880" cy="6901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Большая букв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23583"/>
            <p:cNvSpPr/>
            <p:nvPr/>
          </p:nvSpPr>
          <p:spPr>
            <a:xfrm>
              <a:off x="67428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имена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3584"/>
            <p:cNvSpPr/>
            <p:nvPr/>
          </p:nvSpPr>
          <p:spPr>
            <a:xfrm>
              <a:off x="330192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кличках животны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23585"/>
            <p:cNvSpPr/>
            <p:nvPr/>
          </p:nvSpPr>
          <p:spPr>
            <a:xfrm>
              <a:off x="592956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В названиях горо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19640" y="515772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763640" cy="1752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908000" y="4724280"/>
            <a:ext cx="1116360" cy="1752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227640" y="4941720"/>
            <a:ext cx="1820880" cy="1339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7280" y="4149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анкт-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508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45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мка. Пу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429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рия.Евгения.Ри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749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ва или несколько предложений , которые связаны по смыслу , образуют текст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 выстукивает носом деревья . Носом он разбивает и шишки .Дупло дятел долбит тем же носом . Крепкий нос дятла пробивает дырочки на березе. Потом он пьет березовый со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(По Н. Сладкову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940360" y="1413000"/>
          <a:ext cx="1871640" cy="19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413000"/>
                    <a:ext cx="187164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076720" y="3573360"/>
            <a:ext cx="3527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alisto MT"/>
              </a:rPr>
              <a:t>Восклицательный зна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5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В конце предложений ,которые выражают сильное чувство, ставиться восклицательный зна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(!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Да тут только корешки и травки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Лесные корешки и травки дороже любого клада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7380360" y="587700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10800"/>
                </a:moveTo>
                <a:lnTo>
                  <a:pt x="25000" y="3794"/>
                </a:lnTo>
                <a:lnTo>
                  <a:pt x="2500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71640" y="5300640"/>
            <a:ext cx="2160720" cy="1557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92360" y="3716280"/>
            <a:ext cx="25923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entury Schoolbook"/>
              </a:rPr>
              <a:t>Вопросительный зн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4880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 конце предложений , в которых содержитс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опрос , ставиться вопросительный зна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(?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_ Ой! Кто это ? Что вам от нас надо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Где же мои утят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00000" y="5157720"/>
            <a:ext cx="2303640" cy="1150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1617840" cy="10080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7164360" y="6165720"/>
            <a:ext cx="1079640" cy="692280"/>
          </a:xfrm>
          <a:custGeom>
            <a:avLst/>
            <a:gdLst>
              <a:gd name="textAreaLeft" fmla="*/ 44640 w 1079640"/>
              <a:gd name="textAreaRight" fmla="*/ 1035000 w 1079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3680" h="21600">
                <a:moveTo>
                  <a:pt x="0" y="0"/>
                </a:moveTo>
                <a:lnTo>
                  <a:pt x="33680" y="0"/>
                </a:lnTo>
                <a:lnTo>
                  <a:pt x="33680" y="21600"/>
                </a:lnTo>
                <a:lnTo>
                  <a:pt x="0" y="21600"/>
                </a:lnTo>
                <a:close/>
              </a:path>
              <a:path fill="lightenLess" w="33680" h="21600">
                <a:moveTo>
                  <a:pt x="0" y="0"/>
                </a:moveTo>
                <a:lnTo>
                  <a:pt x="33680" y="0"/>
                </a:lnTo>
                <a:lnTo>
                  <a:pt x="32280" y="1400"/>
                </a:lnTo>
                <a:lnTo>
                  <a:pt x="1400" y="1400"/>
                </a:lnTo>
                <a:close/>
              </a:path>
              <a:path fill="darken" w="33680" h="21600">
                <a:moveTo>
                  <a:pt x="33680" y="0"/>
                </a:moveTo>
                <a:lnTo>
                  <a:pt x="33680" y="21600"/>
                </a:lnTo>
                <a:lnTo>
                  <a:pt x="32280" y="20200"/>
                </a:lnTo>
                <a:lnTo>
                  <a:pt x="32280" y="1400"/>
                </a:lnTo>
                <a:close/>
              </a:path>
              <a:path fill="darkenLess" w="33680" h="21600">
                <a:moveTo>
                  <a:pt x="336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80" y="20200"/>
                </a:lnTo>
                <a:close/>
              </a:path>
              <a:path fill="lighten" w="336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80" h="21600">
                <a:moveTo>
                  <a:pt x="9833" y="10800"/>
                </a:moveTo>
                <a:lnTo>
                  <a:pt x="23846" y="3794"/>
                </a:lnTo>
                <a:lnTo>
                  <a:pt x="2384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8:24:13Z</dcterms:created>
  <dc:creator>cnit9</dc:creator>
  <dc:description/>
  <dc:language>en-US</dc:language>
  <cp:lastModifiedBy>cnit9</cp:lastModifiedBy>
  <dcterms:modified xsi:type="dcterms:W3CDTF">2002-09-05T10:06:58Z</dcterms:modified>
  <cp:revision>24</cp:revision>
  <dc:subject/>
  <dc:title>Предложение и текст</dc:title>
</cp:coreProperties>
</file>