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4.wmf" ContentType="image/x-wmf"/>
  <Override PartName="/ppt/media/image5.jpeg" ContentType="image/jpeg"/>
  <Override PartName="/ppt/media/image6.gif" ContentType="image/gif"/>
  <Override PartName="/ppt/media/image9.wmf" ContentType="image/x-wmf"/>
  <Override PartName="/ppt/media/image11.gif" ContentType="image/gif"/>
  <Override PartName="/ppt/media/image1.gif" ContentType="image/gif"/>
  <Override PartName="/ppt/media/image10.png" ContentType="image/png"/>
  <Override PartName="/ppt/media/image2.gif" ContentType="image/gif"/>
  <Override PartName="/ppt/media/image4.gif" ContentType="image/gif"/>
  <Override PartName="/ppt/media/image7.wmf" ContentType="image/x-wmf"/>
  <Override PartName="/ppt/media/image8.wmf" ContentType="image/x-wmf"/>
  <Override PartName="/ppt/media/image3.jpeg" ContentType="image/jpeg"/>
  <Override PartName="/ppt/media/image12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D61C-3CA7-4D7B-BAE3-F39516FF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E36B-24E2-4EC1-9D80-3CF7A416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38B1-5C19-4BEB-B140-DC97996E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D83C-A13A-4144-9902-7834C826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1FF5-ACE7-4E09-BC4A-5B693B9E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51FD-574A-419C-B16C-DD614359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077C-CD4A-4252-BA03-9DC23B80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F047-CEC6-4DFC-A096-91FE9C51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FD8F-378D-445C-B70E-EB2F9CF8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5E58-ADD9-4111-BE62-ED194B4F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4AD3-56B3-4B79-8040-1286076B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91CA-E1CD-4A6A-A8A1-2E692D7B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2EF3-3AD6-4CCF-B1C8-FC8E74F3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190A-037B-40DF-AD15-D373A874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DAA7-E818-4221-993D-8017F29B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04CC-A9D7-44F6-AE17-5F1C6319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0681-1C54-4DF3-A3AD-69402296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E3FA-F305-43C7-BA39-908E678F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EB86-ADBD-4E89-8A15-2AC0C1BF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7D1D-FFC7-4725-8F35-632FB852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A52-14B5-456D-B10C-2E3D74F5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9855-4BDF-4DF6-AA2B-B249D1E6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8D9-E4B1-48CB-A17B-DD03E2AB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24F-756D-4B48-A22D-9B65DE85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AF87-72E3-43DA-8845-7D2DDC171AB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B270-CFFB-431E-B4EA-22C4D406579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едложение и текст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има. Морозн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732720" y="4835520"/>
            <a:ext cx="1954080" cy="1681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11280" y="4802040"/>
            <a:ext cx="1728720" cy="1567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Разбор текст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Предложение выражает законченную мысль .Оно может состоять из одного или нескольких слов. Слова в предложении связаны по смыслу. Первое слово в предложение пишется с большой буквы. В конце предложения ставиться точ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читайте предлож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Зима. Морозно. Падает пушистый снег. Побелели крыши домов .Малыши радуются снег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54560" y="1828800"/>
            <a:ext cx="2482920" cy="1752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40482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omic Sans MS"/>
              </a:rPr>
              <a:t>Знаки препин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39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1" action="ppaction://hlinksldjump"/>
              </a:rPr>
              <a:t>Восклицательный знак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2" action="ppaction://hlinksldjump"/>
              </a:rPr>
              <a:t>(!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3" action="ppaction://hlinksldjump"/>
              </a:rPr>
              <a:t>Вопросительный знак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4" action="ppaction://hlinksldjump"/>
              </a:rPr>
              <a:t>(?)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5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3132000" y="2828880"/>
            <a:ext cx="5499360" cy="3745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дло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4280" y="2394720"/>
            <a:ext cx="7866720" cy="1731240"/>
            <a:chOff x="674280" y="2394720"/>
            <a:chExt cx="7866720" cy="1731240"/>
          </a:xfrm>
        </p:grpSpPr>
        <p:cxnSp>
          <p:nvCxnSpPr>
            <p:cNvPr id="164" name="_s23588"/>
            <p:cNvCxnSpPr>
              <a:stCxn id="165" idx="0"/>
              <a:endCxn id="166" idx="2"/>
            </p:cNvCxnSpPr>
            <p:nvPr/>
          </p:nvCxnSpPr>
          <p:spPr>
            <a:xfrm flipV="1" rot="16200000">
              <a:off x="5749200" y="1945080"/>
              <a:ext cx="346320" cy="2627640"/>
            </a:xfrm>
            <a:prstGeom prst="bentConnector3">
              <a:avLst>
                <a:gd name="adj1" fmla="val 329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23587"/>
            <p:cNvCxnSpPr>
              <a:stCxn id="168" idx="0"/>
              <a:endCxn id="166" idx="2"/>
            </p:cNvCxnSpPr>
            <p:nvPr/>
          </p:nvCxnSpPr>
          <p:spPr>
            <a:xfrm flipV="1">
              <a:off x="4608000" y="3085920"/>
              <a:ext cx="1080" cy="34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23586"/>
            <p:cNvCxnSpPr>
              <a:stCxn id="170" idx="0"/>
              <a:endCxn id="166" idx="2"/>
            </p:cNvCxnSpPr>
            <p:nvPr/>
          </p:nvCxnSpPr>
          <p:spPr>
            <a:xfrm flipH="1" flipV="1" rot="5400000">
              <a:off x="3121560" y="1945080"/>
              <a:ext cx="346320" cy="2627640"/>
            </a:xfrm>
            <a:prstGeom prst="bentConnector3">
              <a:avLst>
                <a:gd name="adj1" fmla="val 329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23582"/>
            <p:cNvSpPr/>
            <p:nvPr/>
          </p:nvSpPr>
          <p:spPr>
            <a:xfrm>
              <a:off x="3724200" y="2394720"/>
              <a:ext cx="1766880" cy="6901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Большая букв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23583"/>
            <p:cNvSpPr/>
            <p:nvPr/>
          </p:nvSpPr>
          <p:spPr>
            <a:xfrm>
              <a:off x="67428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В имена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3584"/>
            <p:cNvSpPr/>
            <p:nvPr/>
          </p:nvSpPr>
          <p:spPr>
            <a:xfrm>
              <a:off x="330192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В кличках животны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23585"/>
            <p:cNvSpPr/>
            <p:nvPr/>
          </p:nvSpPr>
          <p:spPr>
            <a:xfrm>
              <a:off x="592956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В названиях город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19640" y="515772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763640" cy="1752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908000" y="4724280"/>
            <a:ext cx="1116360" cy="1752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227640" y="4941720"/>
            <a:ext cx="1820880" cy="1339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867280" y="4149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анкт-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4508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45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мка. Пуш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429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рия.Евгения.Рим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749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ва или несколько предложений , которые связаны по смыслу , образуют текст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Дяте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Дятел выстукивает носом деревья . Носом он разбивает и шишки .Дупло дятел долбит тем же носом . Крепкий нос дятла пробивает дырочки на березе. Потом он пьет березовый со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(По Н. Сладкову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940360" y="1413000"/>
          <a:ext cx="1871640" cy="19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1413000"/>
                    <a:ext cx="187164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076720" y="3573360"/>
            <a:ext cx="3527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alisto MT"/>
              </a:rPr>
              <a:t>Восклицательный зна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5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В конце предложений ,которые выражают сильное чувство, ставиться восклицательный зна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(!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_ Да тут только корешки и травки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_ Лесные корешки и травки дороже любого клада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7380360" y="5877000"/>
            <a:ext cx="1079280" cy="64764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8" y="10800"/>
                </a:moveTo>
                <a:lnTo>
                  <a:pt x="25000" y="3794"/>
                </a:lnTo>
                <a:lnTo>
                  <a:pt x="2500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71640" y="5300640"/>
            <a:ext cx="2160720" cy="1557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92360" y="3716280"/>
            <a:ext cx="25923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entury Schoolbook"/>
              </a:rPr>
              <a:t>Вопросительный зн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48800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В конце предложений , в которых содержитс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вопрос , ставиться вопросительный зна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(?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_ Ой! Кто это ? Что вам от нас надо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Где же мои утят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00000" y="5157720"/>
            <a:ext cx="2303640" cy="1150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403280" y="3716280"/>
            <a:ext cx="1617840" cy="100800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7164360" y="6165720"/>
            <a:ext cx="1079640" cy="692280"/>
          </a:xfrm>
          <a:custGeom>
            <a:avLst/>
            <a:gdLst>
              <a:gd name="textAreaLeft" fmla="*/ 44640 w 1079640"/>
              <a:gd name="textAreaRight" fmla="*/ 1035000 w 1079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3680" h="21600">
                <a:moveTo>
                  <a:pt x="0" y="0"/>
                </a:moveTo>
                <a:lnTo>
                  <a:pt x="33680" y="0"/>
                </a:lnTo>
                <a:lnTo>
                  <a:pt x="33680" y="21600"/>
                </a:lnTo>
                <a:lnTo>
                  <a:pt x="0" y="21600"/>
                </a:lnTo>
                <a:close/>
              </a:path>
              <a:path fill="lightenLess" w="33680" h="21600">
                <a:moveTo>
                  <a:pt x="0" y="0"/>
                </a:moveTo>
                <a:lnTo>
                  <a:pt x="33680" y="0"/>
                </a:lnTo>
                <a:lnTo>
                  <a:pt x="32280" y="1400"/>
                </a:lnTo>
                <a:lnTo>
                  <a:pt x="1400" y="1400"/>
                </a:lnTo>
                <a:close/>
              </a:path>
              <a:path fill="darken" w="33680" h="21600">
                <a:moveTo>
                  <a:pt x="33680" y="0"/>
                </a:moveTo>
                <a:lnTo>
                  <a:pt x="33680" y="21600"/>
                </a:lnTo>
                <a:lnTo>
                  <a:pt x="32280" y="20200"/>
                </a:lnTo>
                <a:lnTo>
                  <a:pt x="32280" y="1400"/>
                </a:lnTo>
                <a:close/>
              </a:path>
              <a:path fill="darkenLess" w="33680" h="21600">
                <a:moveTo>
                  <a:pt x="336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80" y="20200"/>
                </a:lnTo>
                <a:close/>
              </a:path>
              <a:path fill="lighten" w="336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80" h="21600">
                <a:moveTo>
                  <a:pt x="9833" y="10800"/>
                </a:moveTo>
                <a:lnTo>
                  <a:pt x="23846" y="3794"/>
                </a:lnTo>
                <a:lnTo>
                  <a:pt x="2384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8:24:13Z</dcterms:created>
  <dc:creator>cnit9</dc:creator>
  <dc:description/>
  <dc:language>en-US</dc:language>
  <cp:lastModifiedBy>cnit9</cp:lastModifiedBy>
  <dcterms:modified xsi:type="dcterms:W3CDTF">2002-09-05T10:06:58Z</dcterms:modified>
  <cp:revision>24</cp:revision>
  <dc:subject/>
  <dc:title>Предложение и текст</dc:title>
</cp:coreProperties>
</file>