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4.wmf" ContentType="image/x-wmf"/>
  <Override PartName="/ppt/media/image5.jpeg" ContentType="image/jpeg"/>
  <Override PartName="/ppt/media/image6.gif" ContentType="image/gif"/>
  <Override PartName="/ppt/media/image9.wmf" ContentType="image/x-wmf"/>
  <Override PartName="/ppt/media/image11.gif" ContentType="image/gif"/>
  <Override PartName="/ppt/media/image1.gif" ContentType="image/gif"/>
  <Override PartName="/ppt/media/image10.png" ContentType="image/png"/>
  <Override PartName="/ppt/media/image2.gif" ContentType="image/gif"/>
  <Override PartName="/ppt/media/image4.gif" ContentType="image/gif"/>
  <Override PartName="/ppt/media/image7.wmf" ContentType="image/x-wmf"/>
  <Override PartName="/ppt/media/image8.wmf" ContentType="image/x-wmf"/>
  <Override PartName="/ppt/media/image3.jpeg" ContentType="image/jpeg"/>
  <Override PartName="/ppt/media/image12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79FF-B7BC-4CE6-840A-0FF47ACA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BEB2-AF53-4B3F-ACCE-F04E990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727-5EAA-46B6-B8E2-E4051A53F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7761-5D1A-4ED2-AA53-1525CCDF1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D5A0-3749-4588-810E-602CDC691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0709-64E9-4BC3-968C-66A11625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1AB6-E0F0-442D-A72E-69B2762E9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1716-33AE-4374-84E0-23273421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05553-248C-4EFD-8A92-009B18CEF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206C-B483-4EC4-BA73-793C5E46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FE87-8C11-4842-B627-D887C2426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34D0-AA62-4090-B134-E858F356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2FDA-6B2E-400D-BEA5-CC49AF67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B39F-933A-4742-90A7-53841751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74B4-99A8-4609-ADAD-89F57795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A3B61-4510-46F6-AB8A-5B400CD0B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29D2-1766-4B47-8662-C45A12D2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F589-AA09-4DFA-8DBD-38658E41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3BC-F498-43B6-B669-9CD0E81D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B10-15A2-4ED5-BB89-1EC51B9A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272-A58D-4EB8-AECE-9B7E3A2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F0D-40B1-442F-B4F3-63EB5CA6C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893-FADB-4FA6-91F7-C8983242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3F5-FF09-44D9-BB8F-670B2C0A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3FF10-59C5-461B-AE26-A7FB3B2EDE82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5DDB0-2CE6-43BE-BB2E-5C1A2B164B5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Предложение и текст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има. Морозн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732720" y="4835520"/>
            <a:ext cx="1954080" cy="16812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611280" y="4802040"/>
            <a:ext cx="1728720" cy="156708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Разбор текстов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Предложение выражает законченную мысль .Оно может состоять из одного или нескольких слов. Слова в предложении связаны по смыслу. Первое слово в предложение пишется с большой буквы. В конце предложения ставиться точка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очитайте предложения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80000"/>
              </a:lnSpc>
              <a:spcBef>
                <a:spcPts val="4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dff"/>
                </a:solidFill>
                <a:latin typeface="Comic Sans MS"/>
              </a:rPr>
              <a:t>Зима. Морозно. Падает пушистый снег. Побелели крыши домов .Малыши радуются снегу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254560" y="1828800"/>
            <a:ext cx="2482920" cy="17524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404820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Comic Sans MS"/>
              </a:rPr>
              <a:t>Знаки препин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5398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1" action="ppaction://hlinksldjump"/>
              </a:rPr>
              <a:t>Восклица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2" action="ppaction://hlinksldjump"/>
              </a:rPr>
              <a:t>(!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3" action="ppaction://hlinksldjump"/>
              </a:rPr>
              <a:t>Вопросительный знак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4" action="ppaction://hlinksldjump"/>
              </a:rPr>
              <a:t>(?)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Times New Roman"/>
                <a:hlinkClick r:id="rId5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3132000" y="2828880"/>
            <a:ext cx="5499360" cy="37450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едлож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4280" y="2394720"/>
            <a:ext cx="7866720" cy="1731240"/>
            <a:chOff x="674280" y="2394720"/>
            <a:chExt cx="7866720" cy="1731240"/>
          </a:xfrm>
        </p:grpSpPr>
        <p:cxnSp>
          <p:nvCxnSpPr>
            <p:cNvPr id="164" name="_s23588"/>
            <p:cNvCxnSpPr>
              <a:stCxn id="165" idx="0"/>
              <a:endCxn id="166" idx="2"/>
            </p:cNvCxnSpPr>
            <p:nvPr/>
          </p:nvCxnSpPr>
          <p:spPr>
            <a:xfrm flipV="1" rot="16200000">
              <a:off x="574920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23587"/>
            <p:cNvCxnSpPr>
              <a:stCxn id="168" idx="0"/>
              <a:endCxn id="166" idx="2"/>
            </p:cNvCxnSpPr>
            <p:nvPr/>
          </p:nvCxnSpPr>
          <p:spPr>
            <a:xfrm flipV="1">
              <a:off x="4608000" y="3085920"/>
              <a:ext cx="1080" cy="346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23586"/>
            <p:cNvCxnSpPr>
              <a:stCxn id="170" idx="0"/>
              <a:endCxn id="166" idx="2"/>
            </p:cNvCxnSpPr>
            <p:nvPr/>
          </p:nvCxnSpPr>
          <p:spPr>
            <a:xfrm flipH="1" flipV="1" rot="5400000">
              <a:off x="3121560" y="1945080"/>
              <a:ext cx="346320" cy="2627640"/>
            </a:xfrm>
            <a:prstGeom prst="bentConnector3">
              <a:avLst>
                <a:gd name="adj1" fmla="val 3298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6" name="_s23582"/>
            <p:cNvSpPr/>
            <p:nvPr/>
          </p:nvSpPr>
          <p:spPr>
            <a:xfrm>
              <a:off x="3724200" y="2394720"/>
              <a:ext cx="1766880" cy="69012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Большая буква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23583"/>
            <p:cNvSpPr/>
            <p:nvPr/>
          </p:nvSpPr>
          <p:spPr>
            <a:xfrm>
              <a:off x="67428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имена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23584"/>
            <p:cNvSpPr/>
            <p:nvPr/>
          </p:nvSpPr>
          <p:spPr>
            <a:xfrm>
              <a:off x="330192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Comic Sans MS"/>
                </a:rPr>
                <a:t>В кличках животных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23585"/>
            <p:cNvSpPr/>
            <p:nvPr/>
          </p:nvSpPr>
          <p:spPr>
            <a:xfrm>
              <a:off x="5929560" y="3431880"/>
              <a:ext cx="2611440" cy="694080"/>
            </a:xfrm>
            <a:prstGeom prst="roundRect">
              <a:avLst>
                <a:gd name="adj" fmla="val 16667"/>
              </a:avLst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" rIns="3600" tIns="1800" bIns="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В названиях город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419640" y="5157720"/>
            <a:ext cx="1428480" cy="1067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4797360"/>
            <a:ext cx="1763640" cy="1752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1908000" y="4724280"/>
            <a:ext cx="1116360" cy="17528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6227640" y="4941720"/>
            <a:ext cx="1820880" cy="1339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867280" y="4149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4508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Моск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4508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мка. Пуш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29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рия.Евгения.Ри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кс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7498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ва или несколько предложений , которые связаны по смыслу , образуют текст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Дятел выстукивает носом деревья . Носом он разбивает и шишки .Дупло дятел долбит тем же носом . Крепкий нос дятла пробивает дырочки на березе. Потом он пьет березовый со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(По Н. Сладкову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5940360" y="1413000"/>
          <a:ext cx="1871640" cy="198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1413000"/>
                    <a:ext cx="1871640" cy="198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5076720" y="3573360"/>
            <a:ext cx="3527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703dff"/>
                </a:solidFill>
                <a:latin typeface="Calisto MT"/>
              </a:rPr>
              <a:t>Восклицательный знак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0549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В конце предложений ,которые выражают сильное чувство, ставиться восклицательный знак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(!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Да тут только корешки и травки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_ Лесные корешки и травки дороже любого клада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7380360" y="5877000"/>
            <a:ext cx="1079280" cy="647640"/>
          </a:xfrm>
          <a:custGeom>
            <a:avLst/>
            <a:gdLst>
              <a:gd name="textAreaLeft" fmla="*/ 41760 w 1079280"/>
              <a:gd name="textAreaRight" fmla="*/ 1037520 w 1079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5988" h="21600">
                <a:moveTo>
                  <a:pt x="0" y="0"/>
                </a:moveTo>
                <a:lnTo>
                  <a:pt x="35988" y="0"/>
                </a:lnTo>
                <a:lnTo>
                  <a:pt x="35988" y="21600"/>
                </a:lnTo>
                <a:lnTo>
                  <a:pt x="0" y="21600"/>
                </a:lnTo>
                <a:close/>
              </a:path>
              <a:path fill="lightenLess" w="35988" h="21600">
                <a:moveTo>
                  <a:pt x="0" y="0"/>
                </a:moveTo>
                <a:lnTo>
                  <a:pt x="35988" y="0"/>
                </a:lnTo>
                <a:lnTo>
                  <a:pt x="34588" y="1400"/>
                </a:lnTo>
                <a:lnTo>
                  <a:pt x="1400" y="1400"/>
                </a:lnTo>
                <a:close/>
              </a:path>
              <a:path fill="darken" w="35988" h="21600">
                <a:moveTo>
                  <a:pt x="35988" y="0"/>
                </a:moveTo>
                <a:lnTo>
                  <a:pt x="35988" y="21600"/>
                </a:lnTo>
                <a:lnTo>
                  <a:pt x="34588" y="20200"/>
                </a:lnTo>
                <a:lnTo>
                  <a:pt x="34588" y="1400"/>
                </a:lnTo>
                <a:close/>
              </a:path>
              <a:path fill="darkenLess" w="35988" h="21600">
                <a:moveTo>
                  <a:pt x="359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88" y="20200"/>
                </a:lnTo>
                <a:close/>
              </a:path>
              <a:path fill="lighten" w="359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88" h="21600">
                <a:moveTo>
                  <a:pt x="10988" y="10800"/>
                </a:moveTo>
                <a:lnTo>
                  <a:pt x="25000" y="3794"/>
                </a:lnTo>
                <a:lnTo>
                  <a:pt x="25000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771640" y="5300640"/>
            <a:ext cx="2160720" cy="1557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1692360" y="3716280"/>
            <a:ext cx="25923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entury Schoolbook"/>
              </a:rPr>
              <a:t>Вопросительный знак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48800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 конце предложений , в которых содержитс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Comic Sans MS"/>
              </a:rPr>
              <a:t>вопрос , ставиться вопросительный зн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Comic Sans MS"/>
              </a:rPr>
              <a:t>(?)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_ Ой! Кто это ? Что вам от нас надо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e032"/>
                </a:solidFill>
                <a:latin typeface="Comic Sans MS"/>
              </a:rPr>
              <a:t>Где же мои утята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00000" y="5157720"/>
            <a:ext cx="2303640" cy="115092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1617840" cy="10080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1079640" cy="692280"/>
          </a:xfrm>
          <a:custGeom>
            <a:avLst/>
            <a:gdLst>
              <a:gd name="textAreaLeft" fmla="*/ 44640 w 1079640"/>
              <a:gd name="textAreaRight" fmla="*/ 1035000 w 1079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3680" h="21600">
                <a:moveTo>
                  <a:pt x="0" y="0"/>
                </a:moveTo>
                <a:lnTo>
                  <a:pt x="33680" y="0"/>
                </a:lnTo>
                <a:lnTo>
                  <a:pt x="33680" y="21600"/>
                </a:lnTo>
                <a:lnTo>
                  <a:pt x="0" y="21600"/>
                </a:lnTo>
                <a:close/>
              </a:path>
              <a:path fill="lightenLess" w="33680" h="21600">
                <a:moveTo>
                  <a:pt x="0" y="0"/>
                </a:moveTo>
                <a:lnTo>
                  <a:pt x="33680" y="0"/>
                </a:lnTo>
                <a:lnTo>
                  <a:pt x="32280" y="1400"/>
                </a:lnTo>
                <a:lnTo>
                  <a:pt x="1400" y="1400"/>
                </a:lnTo>
                <a:close/>
              </a:path>
              <a:path fill="darken" w="33680" h="21600">
                <a:moveTo>
                  <a:pt x="33680" y="0"/>
                </a:moveTo>
                <a:lnTo>
                  <a:pt x="33680" y="21600"/>
                </a:lnTo>
                <a:lnTo>
                  <a:pt x="32280" y="20200"/>
                </a:lnTo>
                <a:lnTo>
                  <a:pt x="32280" y="1400"/>
                </a:lnTo>
                <a:close/>
              </a:path>
              <a:path fill="darkenLess" w="33680" h="21600">
                <a:moveTo>
                  <a:pt x="336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80" y="20200"/>
                </a:lnTo>
                <a:close/>
              </a:path>
              <a:path fill="lighten" w="336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80" h="21600">
                <a:moveTo>
                  <a:pt x="9833" y="10800"/>
                </a:moveTo>
                <a:lnTo>
                  <a:pt x="23846" y="3794"/>
                </a:lnTo>
                <a:lnTo>
                  <a:pt x="23846" y="17806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3T08:24:13Z</dcterms:created>
  <dc:creator>cnit9</dc:creator>
  <dc:description/>
  <dc:language>en-US</dc:language>
  <cp:lastModifiedBy>cnit9</cp:lastModifiedBy>
  <dcterms:modified xsi:type="dcterms:W3CDTF">2002-09-05T10:06:58Z</dcterms:modified>
  <cp:revision>24</cp:revision>
  <dc:subject/>
  <dc:title>Предложение и текст</dc:title>
</cp:coreProperties>
</file>