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4.wmf" ContentType="image/x-wmf"/>
  <Override PartName="/ppt/media/image5.jpeg" ContentType="image/jpeg"/>
  <Override PartName="/ppt/media/image6.gif" ContentType="image/gif"/>
  <Override PartName="/ppt/media/image9.wmf" ContentType="image/x-wmf"/>
  <Override PartName="/ppt/media/image11.gif" ContentType="image/gif"/>
  <Override PartName="/ppt/media/image1.gif" ContentType="image/gif"/>
  <Override PartName="/ppt/media/image10.png" ContentType="image/png"/>
  <Override PartName="/ppt/media/image2.gif" ContentType="image/gif"/>
  <Override PartName="/ppt/media/image4.gif" ContentType="image/gif"/>
  <Override PartName="/ppt/media/image7.wmf" ContentType="image/x-wmf"/>
  <Override PartName="/ppt/media/image8.wmf" ContentType="image/x-wmf"/>
  <Override PartName="/ppt/media/image3.jpeg" ContentType="image/jpeg"/>
  <Override PartName="/ppt/media/image12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2DB-6C59-4C1E-AA08-30DA0B87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E51-923C-4588-9931-6D787E88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5DA-369B-426A-A6BC-550CD5C0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1F3-E04A-472A-9C93-2F259A2D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5B49-3B7F-403A-B49B-93B8C742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7801-D20F-44B2-87E9-2A6444E5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56A1-99A1-4D87-BA59-01B6C774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0BBA-C620-48CE-8307-7356E7AB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9DA7-248A-40B0-8A4A-83DB6E09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A666-EE4D-4146-A5AF-E710876F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7522-876D-4498-A2F9-BB9ECEAB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D462-F172-4353-B796-C531AAB8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96DC-E3A3-4916-974F-836EAB85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6341-415E-4E6E-AE4F-AE21CBEC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008E-EB15-40C2-B63C-EF097DB6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F529-6DE8-44EE-B270-55BA0C07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7401-8674-4D18-937E-A8137B69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E0F-1625-4396-8860-0D3AC29A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B262-CC7E-4DCE-9E1F-8A30A5EC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1E21-35AA-4DB3-AFAC-0F919638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A750-0A45-401C-8E1B-AB587B07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7B0-8115-4831-AEA5-AC363048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465-5B7F-40EC-8345-78546886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52E-9B25-4D12-A572-FCC5C077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ABF5-7EA2-454B-8084-E38E1BDDD4F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8076-2331-4F6C-B819-F664DA036C0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едложение и текст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има. Морозн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732720" y="4835520"/>
            <a:ext cx="1954080" cy="1681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11280" y="4802040"/>
            <a:ext cx="1728720" cy="1567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Разбор текст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Предложение выражает законченную мысль .Оно может состоять из одного или нескольких слов. Слова в предложении связаны по смыслу. Первое слово в предложение пишется с большой буквы. В конце предложения ставиться точ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читайте предлож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Зима. Морозно. Падает пушистый снег. Побелели крыши домов .Малыши радуются снег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4560" y="1828800"/>
            <a:ext cx="248292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40482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omic Sans MS"/>
              </a:rPr>
              <a:t>Знаки препин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39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1" action="ppaction://hlinksldjump"/>
              </a:rPr>
              <a:t>Восклица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2" action="ppaction://hlinksldjump"/>
              </a:rPr>
              <a:t>(!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3" action="ppaction://hlinksldjump"/>
              </a:rPr>
              <a:t>Вопроси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4" action="ppaction://hlinksldjump"/>
              </a:rPr>
              <a:t>(?)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5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132000" y="2828880"/>
            <a:ext cx="5499360" cy="3745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4280" y="2394720"/>
            <a:ext cx="7866720" cy="1731240"/>
            <a:chOff x="674280" y="2394720"/>
            <a:chExt cx="7866720" cy="1731240"/>
          </a:xfrm>
        </p:grpSpPr>
        <p:cxnSp>
          <p:nvCxnSpPr>
            <p:cNvPr id="164" name="_s23588"/>
            <p:cNvCxnSpPr>
              <a:stCxn id="165" idx="0"/>
              <a:endCxn id="166" idx="2"/>
            </p:cNvCxnSpPr>
            <p:nvPr/>
          </p:nvCxnSpPr>
          <p:spPr>
            <a:xfrm flipV="1" rot="16200000">
              <a:off x="574920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23587"/>
            <p:cNvCxnSpPr>
              <a:stCxn id="168" idx="0"/>
              <a:endCxn id="166" idx="2"/>
            </p:cNvCxnSpPr>
            <p:nvPr/>
          </p:nvCxnSpPr>
          <p:spPr>
            <a:xfrm flipV="1">
              <a:off x="4608000" y="3085920"/>
              <a:ext cx="1080" cy="3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23586"/>
            <p:cNvCxnSpPr>
              <a:stCxn id="170" idx="0"/>
              <a:endCxn id="166" idx="2"/>
            </p:cNvCxnSpPr>
            <p:nvPr/>
          </p:nvCxnSpPr>
          <p:spPr>
            <a:xfrm flipH="1" flipV="1" rot="5400000">
              <a:off x="312156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23582"/>
            <p:cNvSpPr/>
            <p:nvPr/>
          </p:nvSpPr>
          <p:spPr>
            <a:xfrm>
              <a:off x="3724200" y="2394720"/>
              <a:ext cx="1766880" cy="6901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Большая букв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23583"/>
            <p:cNvSpPr/>
            <p:nvPr/>
          </p:nvSpPr>
          <p:spPr>
            <a:xfrm>
              <a:off x="67428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имена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3584"/>
            <p:cNvSpPr/>
            <p:nvPr/>
          </p:nvSpPr>
          <p:spPr>
            <a:xfrm>
              <a:off x="330192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кличках животны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23585"/>
            <p:cNvSpPr/>
            <p:nvPr/>
          </p:nvSpPr>
          <p:spPr>
            <a:xfrm>
              <a:off x="592956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В названиях горо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19640" y="515772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763640" cy="1752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908000" y="4724280"/>
            <a:ext cx="1116360" cy="1752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227640" y="4941720"/>
            <a:ext cx="1820880" cy="1339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7280" y="4149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анкт-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508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45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мка. Пу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429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рия.Евгения.Ри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749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ва или несколько предложений , которые связаны по смыслу , образуют текст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 выстукивает носом деревья . Носом он разбивает и шишки .Дупло дятел долбит тем же носом . Крепкий нос дятла пробивает дырочки на березе. Потом он пьет березовый со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(По Н. Сладкову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940360" y="1413000"/>
          <a:ext cx="1871640" cy="19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413000"/>
                    <a:ext cx="187164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076720" y="3573360"/>
            <a:ext cx="3527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alisto MT"/>
              </a:rPr>
              <a:t>Восклицательный зна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5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В конце предложений ,которые выражают сильное чувство, ставиться восклицательный зна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(!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Да тут только корешки и травки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Лесные корешки и травки дороже любого клада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7380360" y="587700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10800"/>
                </a:moveTo>
                <a:lnTo>
                  <a:pt x="25000" y="3794"/>
                </a:lnTo>
                <a:lnTo>
                  <a:pt x="2500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71640" y="5300640"/>
            <a:ext cx="2160720" cy="1557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92360" y="3716280"/>
            <a:ext cx="25923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entury Schoolbook"/>
              </a:rPr>
              <a:t>Вопросительный зн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4880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 конце предложений , в которых содержитс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опрос , ставиться вопросительный зна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(?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_ Ой! Кто это ? Что вам от нас надо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Где же мои утят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00000" y="5157720"/>
            <a:ext cx="2303640" cy="1150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1617840" cy="10080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7164360" y="6165720"/>
            <a:ext cx="1079640" cy="692280"/>
          </a:xfrm>
          <a:custGeom>
            <a:avLst/>
            <a:gdLst>
              <a:gd name="textAreaLeft" fmla="*/ 44640 w 1079640"/>
              <a:gd name="textAreaRight" fmla="*/ 1035000 w 1079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3680" h="21600">
                <a:moveTo>
                  <a:pt x="0" y="0"/>
                </a:moveTo>
                <a:lnTo>
                  <a:pt x="33680" y="0"/>
                </a:lnTo>
                <a:lnTo>
                  <a:pt x="33680" y="21600"/>
                </a:lnTo>
                <a:lnTo>
                  <a:pt x="0" y="21600"/>
                </a:lnTo>
                <a:close/>
              </a:path>
              <a:path fill="lightenLess" w="33680" h="21600">
                <a:moveTo>
                  <a:pt x="0" y="0"/>
                </a:moveTo>
                <a:lnTo>
                  <a:pt x="33680" y="0"/>
                </a:lnTo>
                <a:lnTo>
                  <a:pt x="32280" y="1400"/>
                </a:lnTo>
                <a:lnTo>
                  <a:pt x="1400" y="1400"/>
                </a:lnTo>
                <a:close/>
              </a:path>
              <a:path fill="darken" w="33680" h="21600">
                <a:moveTo>
                  <a:pt x="33680" y="0"/>
                </a:moveTo>
                <a:lnTo>
                  <a:pt x="33680" y="21600"/>
                </a:lnTo>
                <a:lnTo>
                  <a:pt x="32280" y="20200"/>
                </a:lnTo>
                <a:lnTo>
                  <a:pt x="32280" y="1400"/>
                </a:lnTo>
                <a:close/>
              </a:path>
              <a:path fill="darkenLess" w="33680" h="21600">
                <a:moveTo>
                  <a:pt x="336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80" y="20200"/>
                </a:lnTo>
                <a:close/>
              </a:path>
              <a:path fill="lighten" w="336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80" h="21600">
                <a:moveTo>
                  <a:pt x="9833" y="10800"/>
                </a:moveTo>
                <a:lnTo>
                  <a:pt x="23846" y="3794"/>
                </a:lnTo>
                <a:lnTo>
                  <a:pt x="2384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8:24:13Z</dcterms:created>
  <dc:creator>cnit9</dc:creator>
  <dc:description/>
  <dc:language>en-US</dc:language>
  <cp:lastModifiedBy>cnit9</cp:lastModifiedBy>
  <dcterms:modified xsi:type="dcterms:W3CDTF">2002-09-05T10:06:58Z</dcterms:modified>
  <cp:revision>24</cp:revision>
  <dc:subject/>
  <dc:title>Предложение и текст</dc:title>
</cp:coreProperties>
</file>