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4.gif" ContentType="image/gif"/>
  <Override PartName="/ppt/media/image7.wmf" ContentType="image/x-wmf"/>
  <Override PartName="/ppt/media/image8.wmf" ContentType="image/x-wmf"/>
  <Override PartName="/ppt/media/image3.jpeg" ContentType="image/jpeg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591-8F71-444E-A91E-A48B8307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718-DDE9-4FA6-A923-D55C6DD4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8FF-6A18-44D5-A8BD-F3EF1A27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53D-E4CC-48E7-A45F-0168CA7C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8CAB-0345-4516-9970-DF97736F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0B9F-0BD8-4DB9-A3D8-DAD35FA6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72EA-0497-45CE-914D-C197ED07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A7B7-25DD-4506-995F-71B02DC8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332F-1C2C-46FF-8958-9FC08791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0963-BFE1-4E49-83FE-471E780A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3E03-F8BA-4B7A-BD19-39162097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C9E-4CCB-4B70-8C9E-16804A11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DE7E-AAC1-4FA4-9F84-8A2F21D4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F0CD-1F2A-4A11-97DC-EA1B6D4B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5F5B-F184-41BF-97B4-A8198192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0AD0-8AC4-42B0-B8B9-6CF5CF48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12A2-EAC4-440B-83AF-721DB258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259-13EB-4C15-B985-94205E35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C4FA-9859-4201-A390-463D2BAD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B7D-468B-42CF-97A8-ACAC2DEF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B07-C8B0-4E0F-A8DF-2AC217CD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47E-FE13-43A5-B119-98D73F60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6E5-FDE6-4198-9753-50574117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61A-C291-4C5F-934D-922D3072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66D7-84F2-49C5-AB84-26F78E17C3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4500-B8B5-48B2-BA3F-234B442250E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едложение и текст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има. Морозн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32720" y="4835520"/>
            <a:ext cx="1954080" cy="168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1280" y="4802040"/>
            <a:ext cx="1728720" cy="1567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азбор тек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редложение выражает законченную мысль .Оно может состоять из одного или нескольких слов. Слова в предложении связаны по смыслу. Первое слово в предложение пишется с большой буквы. В конце предложения ставиться точ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читайте предло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Зима. Морозно. Падает пушистый снег. Побелели крыши домов .Малыши радуются снег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4560" y="1828800"/>
            <a:ext cx="248292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0482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Знаки препин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39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1" action="ppaction://hlinksldjump"/>
              </a:rPr>
              <a:t>Восклица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2" action="ppaction://hlinksldjump"/>
              </a:rPr>
              <a:t>(!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3" action="ppaction://hlinksldjump"/>
              </a:rPr>
              <a:t>Вопроси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4" action="ppaction://hlinksldjump"/>
              </a:rPr>
              <a:t>(?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5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132000" y="2828880"/>
            <a:ext cx="549936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4280" y="2394720"/>
            <a:ext cx="7866720" cy="1731240"/>
            <a:chOff x="674280" y="2394720"/>
            <a:chExt cx="7866720" cy="1731240"/>
          </a:xfrm>
        </p:grpSpPr>
        <p:cxnSp>
          <p:nvCxnSpPr>
            <p:cNvPr id="164" name="_s23588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74920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3587"/>
            <p:cNvCxnSpPr>
              <a:stCxn id="168" idx="0"/>
              <a:endCxn id="166" idx="2"/>
            </p:cNvCxnSpPr>
            <p:nvPr/>
          </p:nvCxnSpPr>
          <p:spPr>
            <a:xfrm flipV="1">
              <a:off x="4608000" y="3085920"/>
              <a:ext cx="1080" cy="3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23586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312156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23582"/>
            <p:cNvSpPr/>
            <p:nvPr/>
          </p:nvSpPr>
          <p:spPr>
            <a:xfrm>
              <a:off x="3724200" y="2394720"/>
              <a:ext cx="1766880" cy="6901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Большая букв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3583"/>
            <p:cNvSpPr/>
            <p:nvPr/>
          </p:nvSpPr>
          <p:spPr>
            <a:xfrm>
              <a:off x="67428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имена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3584"/>
            <p:cNvSpPr/>
            <p:nvPr/>
          </p:nvSpPr>
          <p:spPr>
            <a:xfrm>
              <a:off x="330192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кличках живот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3585"/>
            <p:cNvSpPr/>
            <p:nvPr/>
          </p:nvSpPr>
          <p:spPr>
            <a:xfrm>
              <a:off x="592956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В названиях го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19640" y="515772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763640" cy="1752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08000" y="4724280"/>
            <a:ext cx="1116360" cy="1752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227640" y="4941720"/>
            <a:ext cx="1820880" cy="1339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4149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5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мка. Пу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29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рия.Евгения.Ри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74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ва или несколько предложений , которые связаны по смыслу , образуют текст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 выстукивает носом деревья . Носом он разбивает и шишки .Дупло дятел долбит тем же носом . Крепкий нос дятла пробивает дырочки на березе. Потом он пьет березовый со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(По Н. Сладков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940360" y="1413000"/>
          <a:ext cx="18716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413000"/>
                    <a:ext cx="18716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3527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alisto MT"/>
              </a:rPr>
              <a:t>Восклицательный зна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5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В конце предложений ,которые выражают сильное чувство, ставиться восклицательный зна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!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Да тут только корешки и травки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Лесные корешки и травки дороже любого клада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380360" y="587700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71640" y="5300640"/>
            <a:ext cx="2160720" cy="1557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92360" y="3716280"/>
            <a:ext cx="2592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entury Schoolbook"/>
              </a:rPr>
              <a:t>Вопросительный 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488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 конце предложений , в которых содержи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опрос , ставиться вопросительный зна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(?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_ Ой! Кто это ? Что вам от нас надо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Где же мои утят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5157720"/>
            <a:ext cx="2303640" cy="115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1617840" cy="10080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1079640" cy="69228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3680" h="21600">
                <a:moveTo>
                  <a:pt x="0" y="0"/>
                </a:moveTo>
                <a:lnTo>
                  <a:pt x="33680" y="0"/>
                </a:lnTo>
                <a:lnTo>
                  <a:pt x="33680" y="21600"/>
                </a:lnTo>
                <a:lnTo>
                  <a:pt x="0" y="21600"/>
                </a:lnTo>
                <a:close/>
              </a:path>
              <a:path fill="lightenLess" w="33680" h="21600">
                <a:moveTo>
                  <a:pt x="0" y="0"/>
                </a:moveTo>
                <a:lnTo>
                  <a:pt x="33680" y="0"/>
                </a:lnTo>
                <a:lnTo>
                  <a:pt x="32280" y="1400"/>
                </a:lnTo>
                <a:lnTo>
                  <a:pt x="1400" y="1400"/>
                </a:lnTo>
                <a:close/>
              </a:path>
              <a:path fill="darken" w="33680" h="21600">
                <a:moveTo>
                  <a:pt x="33680" y="0"/>
                </a:moveTo>
                <a:lnTo>
                  <a:pt x="33680" y="21600"/>
                </a:lnTo>
                <a:lnTo>
                  <a:pt x="32280" y="20200"/>
                </a:lnTo>
                <a:lnTo>
                  <a:pt x="32280" y="1400"/>
                </a:lnTo>
                <a:close/>
              </a:path>
              <a:path fill="darkenLess" w="33680" h="21600">
                <a:moveTo>
                  <a:pt x="336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80" y="20200"/>
                </a:lnTo>
                <a:close/>
              </a:path>
              <a:path fill="lighten" w="336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80" h="21600">
                <a:moveTo>
                  <a:pt x="9833" y="10800"/>
                </a:moveTo>
                <a:lnTo>
                  <a:pt x="23846" y="3794"/>
                </a:lnTo>
                <a:lnTo>
                  <a:pt x="2384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8:24:13Z</dcterms:created>
  <dc:creator>cnit9</dc:creator>
  <dc:description/>
  <dc:language>en-US</dc:language>
  <cp:lastModifiedBy>cnit9</cp:lastModifiedBy>
  <dcterms:modified xsi:type="dcterms:W3CDTF">2002-09-05T10:06:58Z</dcterms:modified>
  <cp:revision>24</cp:revision>
  <dc:subject/>
  <dc:title>Предложение и текст</dc:title>
</cp:coreProperties>
</file>