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4.wmf" ContentType="image/x-wmf"/>
  <Override PartName="/ppt/media/image5.jpeg" ContentType="image/jpeg"/>
  <Override PartName="/ppt/media/image6.gif" ContentType="image/gif"/>
  <Override PartName="/ppt/media/image9.wmf" ContentType="image/x-wmf"/>
  <Override PartName="/ppt/media/image11.gif" ContentType="image/gif"/>
  <Override PartName="/ppt/media/image1.gif" ContentType="image/gif"/>
  <Override PartName="/ppt/media/image10.png" ContentType="image/png"/>
  <Override PartName="/ppt/media/image2.gif" ContentType="image/gif"/>
  <Override PartName="/ppt/media/image4.gif" ContentType="image/gif"/>
  <Override PartName="/ppt/media/image7.wmf" ContentType="image/x-wmf"/>
  <Override PartName="/ppt/media/image8.wmf" ContentType="image/x-wmf"/>
  <Override PartName="/ppt/media/image3.jpeg" ContentType="image/jpeg"/>
  <Override PartName="/ppt/media/image12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4F94-FBDF-47A2-8EFC-71818949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1524-E5F4-479F-845E-A5DF97B8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0555-02EE-4E94-ACB4-906CBF7F6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FC5B-C7FC-4659-8C0D-71279A45C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1BC0-9CDD-4148-8BC7-6D6F6AF4D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DCA0-CDCB-4D41-BE11-DB5DF1B3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79AA2-2289-4BD5-801F-34C4FBA8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A724-2EDA-453B-AC0A-6997A11D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A876-2C19-49AA-B7F6-66095A71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0460-6F80-44C7-B53B-F2948EAB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3582-1AC4-4CC8-BBE6-8AACE118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FF54-A49C-4B88-A665-DF1EC542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B632-143D-4FBE-BFAD-153F82A5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4931-069A-4B70-8BB3-1307E785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22CB-E762-4268-9478-0102AE5D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BF64-6286-4992-B323-DA9FA4E7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DEFE-168F-4FFB-9D80-54666B532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FBB5-E678-4773-96F2-00BB2103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4BA9-5553-4097-B87D-334ED8AA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EF9F-1175-4BDA-8601-0C02408B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6912-331E-427C-B58C-45F2B752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3B23-3EF4-4D19-9CE4-58B5521B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1F85-A0A6-45AD-A69C-65D98ABE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2C4E-92ED-4129-93C2-2BC5FC15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E38C-A780-45E7-984A-3F4A7491EE6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B3AF-F217-4801-A68D-550DB4B31AC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едложение и текст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има. Морозн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732720" y="4835520"/>
            <a:ext cx="1954080" cy="1681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11280" y="4802040"/>
            <a:ext cx="1728720" cy="15670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Разбор текст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Предложение выражает законченную мысль .Оно может состоять из одного или нескольких слов. Слова в предложении связаны по смыслу. Первое слово в предложение пишется с большой буквы. В конце предложения ставиться точ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очитайте предлож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Зима. Морозно. Падает пушистый снег. Побелели крыши домов .Малыши радуются снег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254560" y="1828800"/>
            <a:ext cx="2482920" cy="1752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643280" y="3716280"/>
            <a:ext cx="40482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Comic Sans MS"/>
              </a:rPr>
              <a:t>Знаки препин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5398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1" action="ppaction://hlinksldjump"/>
              </a:rPr>
              <a:t>Восклицательный знак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2" action="ppaction://hlinksldjump"/>
              </a:rPr>
              <a:t>(!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3" action="ppaction://hlinksldjump"/>
              </a:rPr>
              <a:t>Вопросительный знак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4" action="ppaction://hlinksldjump"/>
              </a:rPr>
              <a:t>(?)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5" action="ppaction://hlinksldjump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3132000" y="2828880"/>
            <a:ext cx="5499360" cy="3745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едлож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4280" y="2394720"/>
            <a:ext cx="7866720" cy="1731240"/>
            <a:chOff x="674280" y="2394720"/>
            <a:chExt cx="7866720" cy="1731240"/>
          </a:xfrm>
        </p:grpSpPr>
        <p:cxnSp>
          <p:nvCxnSpPr>
            <p:cNvPr id="164" name="_s23588"/>
            <p:cNvCxnSpPr>
              <a:stCxn id="165" idx="0"/>
              <a:endCxn id="166" idx="2"/>
            </p:cNvCxnSpPr>
            <p:nvPr/>
          </p:nvCxnSpPr>
          <p:spPr>
            <a:xfrm flipV="1" rot="16200000">
              <a:off x="5749200" y="1945080"/>
              <a:ext cx="346320" cy="2627640"/>
            </a:xfrm>
            <a:prstGeom prst="bentConnector3">
              <a:avLst>
                <a:gd name="adj1" fmla="val 329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23587"/>
            <p:cNvCxnSpPr>
              <a:stCxn id="168" idx="0"/>
              <a:endCxn id="166" idx="2"/>
            </p:cNvCxnSpPr>
            <p:nvPr/>
          </p:nvCxnSpPr>
          <p:spPr>
            <a:xfrm flipV="1">
              <a:off x="4608000" y="3085920"/>
              <a:ext cx="1080" cy="346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23586"/>
            <p:cNvCxnSpPr>
              <a:stCxn id="170" idx="0"/>
              <a:endCxn id="166" idx="2"/>
            </p:cNvCxnSpPr>
            <p:nvPr/>
          </p:nvCxnSpPr>
          <p:spPr>
            <a:xfrm flipH="1" flipV="1" rot="5400000">
              <a:off x="3121560" y="1945080"/>
              <a:ext cx="346320" cy="2627640"/>
            </a:xfrm>
            <a:prstGeom prst="bentConnector3">
              <a:avLst>
                <a:gd name="adj1" fmla="val 329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6" name="_s23582"/>
            <p:cNvSpPr/>
            <p:nvPr/>
          </p:nvSpPr>
          <p:spPr>
            <a:xfrm>
              <a:off x="3724200" y="2394720"/>
              <a:ext cx="1766880" cy="6901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Большая букв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23583"/>
            <p:cNvSpPr/>
            <p:nvPr/>
          </p:nvSpPr>
          <p:spPr>
            <a:xfrm>
              <a:off x="674280" y="3431880"/>
              <a:ext cx="2611440" cy="6940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В именах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23584"/>
            <p:cNvSpPr/>
            <p:nvPr/>
          </p:nvSpPr>
          <p:spPr>
            <a:xfrm>
              <a:off x="3301920" y="3431880"/>
              <a:ext cx="2611440" cy="6940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В кличках животных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23585"/>
            <p:cNvSpPr/>
            <p:nvPr/>
          </p:nvSpPr>
          <p:spPr>
            <a:xfrm>
              <a:off x="5929560" y="3431880"/>
              <a:ext cx="2611440" cy="6940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В названиях город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419640" y="5157720"/>
            <a:ext cx="1428480" cy="1067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763640" cy="17528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908000" y="4724280"/>
            <a:ext cx="1116360" cy="17528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6227640" y="4941720"/>
            <a:ext cx="1820880" cy="1339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867280" y="4149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анкт-Петербур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2000" y="4508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ос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64000" y="450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мка. Пуш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71640" y="429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ария.Евгения.Рим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ек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749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ва или несколько предложений , которые связаны по смыслу , образуют текст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Дяте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Дятел выстукивает носом деревья . Носом он разбивает и шишки .Дупло дятел долбит тем же носом . Крепкий нос дятла пробивает дырочки на березе. Потом он пьет березовый со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. </a:t>
            </a:r>
            <a:r>
              <a:rPr b="0" lang="en-US" sz="2000" spc="-1" strike="noStrike">
                <a:solidFill>
                  <a:srgbClr val="20e032"/>
                </a:solidFill>
                <a:latin typeface="Comic Sans MS"/>
              </a:rPr>
              <a:t>(По Н. Сладкову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940360" y="1413000"/>
          <a:ext cx="1871640" cy="198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1413000"/>
                    <a:ext cx="1871640" cy="19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076720" y="3573360"/>
            <a:ext cx="35276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03dff"/>
                </a:solidFill>
                <a:latin typeface="Calisto MT"/>
              </a:rPr>
              <a:t>Восклицательный зна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0549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В конце предложений ,которые выражают сильное чувство, ставиться восклицательный зна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(!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_ Да тут только корешки и травки 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_ Лесные корешки и травки дороже любого клада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7380360" y="5877000"/>
            <a:ext cx="1079280" cy="647640"/>
          </a:xfrm>
          <a:custGeom>
            <a:avLst/>
            <a:gdLst>
              <a:gd name="textAreaLeft" fmla="*/ 41760 w 1079280"/>
              <a:gd name="textAreaRight" fmla="*/ 1037520 w 107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8" h="21600">
                <a:moveTo>
                  <a:pt x="10988" y="10800"/>
                </a:moveTo>
                <a:lnTo>
                  <a:pt x="25000" y="3794"/>
                </a:lnTo>
                <a:lnTo>
                  <a:pt x="2500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771640" y="5300640"/>
            <a:ext cx="2160720" cy="1557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692360" y="3716280"/>
            <a:ext cx="259236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entury Schoolbook"/>
              </a:rPr>
              <a:t>Вопросительный зна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48800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В конце предложений , в которых содержитс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вопрос , ставиться вопросительный зна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(?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e032"/>
                </a:solidFill>
                <a:latin typeface="Comic Sans MS"/>
              </a:rPr>
              <a:t>_ Ой! Кто это ? Что вам от нас надо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e032"/>
                </a:solidFill>
                <a:latin typeface="Comic Sans MS"/>
              </a:rPr>
              <a:t>Где же мои утята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00000" y="5157720"/>
            <a:ext cx="2303640" cy="1150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403280" y="3716280"/>
            <a:ext cx="1617840" cy="100800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7164360" y="6165720"/>
            <a:ext cx="1079640" cy="692280"/>
          </a:xfrm>
          <a:custGeom>
            <a:avLst/>
            <a:gdLst>
              <a:gd name="textAreaLeft" fmla="*/ 44640 w 1079640"/>
              <a:gd name="textAreaRight" fmla="*/ 1035000 w 1079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3680" h="21600">
                <a:moveTo>
                  <a:pt x="0" y="0"/>
                </a:moveTo>
                <a:lnTo>
                  <a:pt x="33680" y="0"/>
                </a:lnTo>
                <a:lnTo>
                  <a:pt x="33680" y="21600"/>
                </a:lnTo>
                <a:lnTo>
                  <a:pt x="0" y="21600"/>
                </a:lnTo>
                <a:close/>
              </a:path>
              <a:path fill="lightenLess" w="33680" h="21600">
                <a:moveTo>
                  <a:pt x="0" y="0"/>
                </a:moveTo>
                <a:lnTo>
                  <a:pt x="33680" y="0"/>
                </a:lnTo>
                <a:lnTo>
                  <a:pt x="32280" y="1400"/>
                </a:lnTo>
                <a:lnTo>
                  <a:pt x="1400" y="1400"/>
                </a:lnTo>
                <a:close/>
              </a:path>
              <a:path fill="darken" w="33680" h="21600">
                <a:moveTo>
                  <a:pt x="33680" y="0"/>
                </a:moveTo>
                <a:lnTo>
                  <a:pt x="33680" y="21600"/>
                </a:lnTo>
                <a:lnTo>
                  <a:pt x="32280" y="20200"/>
                </a:lnTo>
                <a:lnTo>
                  <a:pt x="32280" y="1400"/>
                </a:lnTo>
                <a:close/>
              </a:path>
              <a:path fill="darkenLess" w="33680" h="21600">
                <a:moveTo>
                  <a:pt x="336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80" y="20200"/>
                </a:lnTo>
                <a:close/>
              </a:path>
              <a:path fill="lighten" w="336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80" h="21600">
                <a:moveTo>
                  <a:pt x="9833" y="10800"/>
                </a:moveTo>
                <a:lnTo>
                  <a:pt x="23846" y="3794"/>
                </a:lnTo>
                <a:lnTo>
                  <a:pt x="23846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08:24:13Z</dcterms:created>
  <dc:creator>cnit9</dc:creator>
  <dc:description/>
  <dc:language>en-US</dc:language>
  <cp:lastModifiedBy>cnit9</cp:lastModifiedBy>
  <dcterms:modified xsi:type="dcterms:W3CDTF">2002-09-05T10:06:58Z</dcterms:modified>
  <cp:revision>24</cp:revision>
  <dc:subject/>
  <dc:title>Предложение и текст</dc:title>
</cp:coreProperties>
</file>