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C48C-DC47-40F5-BF4B-83005050D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DAD7-560C-4CA3-B559-D89BF779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CFF5-DCF7-44AA-8B27-CAFEC86E4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247C-7D85-47C5-8838-7892B6053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D76F-8DDE-45A4-B68A-BC858228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4995-373C-425A-85DA-5DF7C115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4556-B018-4E57-8A83-2A93C19C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D6CF-F96F-4725-8A79-B9F31D6A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4C0E-6694-49B6-B962-AC0CC3D6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D29E-FD55-4B77-8E72-43F146C1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DD00-EF9E-48BB-85DF-AE89226B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7D9B-819F-4219-957C-A9C95D4A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9A07-82CA-411A-83C9-FA76449652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97d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042920" y="333360"/>
            <a:ext cx="741672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dc36e4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Экология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dc36e4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dc36e4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ечи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dc36e4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433320" y="5157720"/>
            <a:ext cx="404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МОУ СОШ №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г.Ростова-на-Д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Учитель Мотайло Ирина Фёд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855000" y="3429000"/>
            <a:ext cx="80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итературные нормы русского язы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547640" y="2133720"/>
            <a:ext cx="61214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ряду не все слова являются синоним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зы, оковы, пу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ображение, фантазия, вымы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сердие, одолжение, усл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олм, пригорок, возвыш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6"/>
          <p:cNvSpPr txBox="1"/>
          <p:nvPr/>
        </p:nvSpPr>
        <p:spPr>
          <a:xfrm>
            <a:off x="539640" y="549360"/>
            <a:ext cx="20862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50" autoRev="1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1" dur="250" autoRev="1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2" dur="250" autoRev="1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900000" y="1844640"/>
            <a:ext cx="66247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ая пара слов не является антоним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дколесье, чащ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изнерадостный, уныл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ицемерный, двоедуш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кономерный, случай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8"/>
          <p:cNvSpPr txBox="1"/>
          <p:nvPr/>
        </p:nvSpPr>
        <p:spPr>
          <a:xfrm>
            <a:off x="468360" y="260280"/>
            <a:ext cx="220968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 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3" dur="250" autoRev="1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4" dur="250" autoRev="1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5" dur="250" autoRev="1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1187280" y="1744560"/>
            <a:ext cx="7561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равьте лексические ошиб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тобы быть грамотным и обладать большим     жаргоном     слов, нужно читать кни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ма сказала, чтобы я надел свитер, но я наперерез отказал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Летом ребята нашего класса обратно будут участвовать в экспеди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6"/>
          <p:cNvSpPr txBox="1"/>
          <p:nvPr/>
        </p:nvSpPr>
        <p:spPr>
          <a:xfrm>
            <a:off x="611280" y="333360"/>
            <a:ext cx="20858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fb9e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1405440" y="1695600"/>
            <a:ext cx="629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ьте словосочетания со слов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ринять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редпринять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нить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нести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ынести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ынашивать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6"/>
          <p:cNvSpPr txBox="1"/>
          <p:nvPr/>
        </p:nvSpPr>
        <p:spPr>
          <a:xfrm>
            <a:off x="539640" y="476280"/>
            <a:ext cx="20862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3348000" y="2997360"/>
            <a:ext cx="1584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1"/>
          <p:cNvSpPr/>
          <p:nvPr/>
        </p:nvSpPr>
        <p:spPr>
          <a:xfrm flipV="1">
            <a:off x="3635280" y="349992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 flipV="1">
            <a:off x="3780000" y="3068640"/>
            <a:ext cx="1223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3"/>
          <p:cNvSpPr/>
          <p:nvPr/>
        </p:nvSpPr>
        <p:spPr>
          <a:xfrm>
            <a:off x="2916360" y="4941720"/>
            <a:ext cx="2160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4"/>
          <p:cNvSpPr/>
          <p:nvPr/>
        </p:nvSpPr>
        <p:spPr>
          <a:xfrm>
            <a:off x="3780000" y="558972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"/>
          <p:cNvSpPr/>
          <p:nvPr/>
        </p:nvSpPr>
        <p:spPr>
          <a:xfrm flipV="1">
            <a:off x="3132000" y="4869000"/>
            <a:ext cx="1944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7"/>
          <p:cNvSpPr/>
          <p:nvPr/>
        </p:nvSpPr>
        <p:spPr>
          <a:xfrm>
            <a:off x="468360" y="2708280"/>
            <a:ext cx="7705800" cy="341784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332000" y="1414800"/>
            <a:ext cx="6397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ьте словосочетания со словами, чтобы был понятно их знач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абонент, абонемен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вражеский, враждеб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военный, воинский;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гарантийный, гарантирован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двойной, двойствен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доверчивый, довери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6"/>
          <p:cNvSpPr txBox="1"/>
          <p:nvPr/>
        </p:nvSpPr>
        <p:spPr>
          <a:xfrm>
            <a:off x="468360" y="260280"/>
            <a:ext cx="20858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7"/>
          <p:cNvSpPr/>
          <p:nvPr/>
        </p:nvSpPr>
        <p:spPr>
          <a:xfrm>
            <a:off x="755640" y="2276640"/>
            <a:ext cx="7272360" cy="4581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476360" y="1722240"/>
            <a:ext cx="6553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изнесите слова, правильно ставя удар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- намерение, одновременный, тотчас, ходатайство, цемент, столяр, звонишь, закупоренный, квартал, договор, танцовщица, кухонный, мизерный, приняла. понял, поняла, досуг, эксперт, уведом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6"/>
          <p:cNvSpPr txBox="1"/>
          <p:nvPr/>
        </p:nvSpPr>
        <p:spPr>
          <a:xfrm>
            <a:off x="468360" y="620640"/>
            <a:ext cx="20858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826920" y="89460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равьте ошибки в предложениях с деепричастными оборот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ушая музыку Скрябина, нас не покидает ощущение искренности худож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два овладев грамотой, в нашу жизнь на третьем году обучения вошел      английский язы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увствуется ширь, взглянув на Вол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Подъезжая к станции, у меня слетела шля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льчик гладил собаку, виляя хвос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6"/>
          <p:cNvSpPr txBox="1"/>
          <p:nvPr/>
        </p:nvSpPr>
        <p:spPr>
          <a:xfrm>
            <a:off x="611280" y="0"/>
            <a:ext cx="20858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324000" y="1648800"/>
            <a:ext cx="8297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равьте ошибки в употреблении однородных членов пред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Он мечтал о поездке в Москву, учиться, работать, быть полезным людя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После выхода в свет комедии Фонвизина недорослями стали называть молодых людей, не получивших образования и которые стремились к   празд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том ученики нашего класса не только побывали в Новгороде, но и в Михайловс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6"/>
          <p:cNvSpPr txBox="1"/>
          <p:nvPr/>
        </p:nvSpPr>
        <p:spPr>
          <a:xfrm>
            <a:off x="611280" y="404640"/>
            <a:ext cx="22096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 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684360" y="1302840"/>
            <a:ext cx="7920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равьте ошибки в построении предлож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 Обращаясь к дружине, князь Игорь сказал, что «хочу поломать копье о  конец поля половецког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втор «Слова…» упрекает князей в разорении земли Русской, что «вы своими крамолами начали наводить поганых на землю Русскую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В Киеве Святослав осуждает поход Игоря, говоря, что «бесславно в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долели, без славы пролили кровь поганы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11280" y="8254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7"/>
          <p:cNvSpPr txBox="1"/>
          <p:nvPr/>
        </p:nvSpPr>
        <p:spPr>
          <a:xfrm>
            <a:off x="826920" y="0"/>
            <a:ext cx="2467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 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de"/>
            </a:gs>
            <a:gs pos="100000">
              <a:srgbClr val="e0a32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pic0278_1024"/>
          <p:cNvPicPr/>
          <p:nvPr/>
        </p:nvPicPr>
        <p:blipFill>
          <a:blip r:embed="rId1"/>
          <a:stretch/>
        </p:blipFill>
        <p:spPr>
          <a:xfrm>
            <a:off x="-1440" y="0"/>
            <a:ext cx="9145440" cy="4753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1476360" y="5589720"/>
            <a:ext cx="69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.Е.Репин «Бурлаки на Волг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1042920" y="307404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j0233990"/>
          <p:cNvPicPr/>
          <p:nvPr/>
        </p:nvPicPr>
        <p:blipFill>
          <a:blip r:embed="rId1"/>
          <a:stretch/>
        </p:blipFill>
        <p:spPr>
          <a:xfrm>
            <a:off x="0" y="0"/>
            <a:ext cx="5400720" cy="4608360"/>
          </a:xfrm>
          <a:prstGeom prst="rect">
            <a:avLst/>
          </a:prstGeom>
          <a:ln w="0">
            <a:noFill/>
          </a:ln>
        </p:spPr>
      </p:pic>
      <p:sp>
        <p:nvSpPr>
          <p:cNvPr id="46" name="WordArt 10"/>
          <p:cNvSpPr txBox="1"/>
          <p:nvPr/>
        </p:nvSpPr>
        <p:spPr>
          <a:xfrm>
            <a:off x="0" y="4869000"/>
            <a:ext cx="889308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словаре В.Даля 250 000 сл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179280" y="193680"/>
            <a:ext cx="8785440" cy="67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ш товарищ написал сочинение по картине И.Е.Репина «Бурлаки» и попросил вас отредактировать текс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лядя на картину, мы сожалеем бурлакам. Они шли, низко понурив головы. Лица бурлаков выражают недовольствие. Одеты они в рваные лохмоть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урлаки идут медленно. У них встречаются препятствия. Они ненавидят эту работу, но должны были как-то прокормить себя, поэтому нанялись тащить баржу. Выражение лиц бурлаков было прискорб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пин своей картиной показал о тяжелом труде бурлаков. Смотря на эту картину, у нас рождается жалость к бурлакам. Кто смотрит на эту картину, тот с грустью понимает, как плохо жилось бурлакам в то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755640" y="2277360"/>
            <a:ext cx="896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жавеет золото, и истлевает стал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ошится мрамор. К смерти в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т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го прочнее на земле  - печа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долговечней – Царственное сл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 Ахмат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a01111"/>
          <p:cNvPicPr/>
          <p:nvPr/>
        </p:nvPicPr>
        <p:blipFill>
          <a:blip r:embed="rId2"/>
          <a:stretch/>
        </p:blipFill>
        <p:spPr>
          <a:xfrm>
            <a:off x="0" y="0"/>
            <a:ext cx="2050920" cy="30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3a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4687920" y="907920"/>
            <a:ext cx="4456080" cy="5153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397080" y="669960"/>
            <a:ext cx="5594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вас люби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вь еще, быть мож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уше моей угасла не совс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пусть она вас больше не тревож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не хочу печалить вас ничем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С.Пушк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3a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5"/>
          <p:cNvGraphicFramePr/>
          <p:nvPr/>
        </p:nvGraphicFramePr>
        <p:xfrm>
          <a:off x="0" y="0"/>
          <a:ext cx="4314960" cy="44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31496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6"/>
          <p:cNvSpPr/>
          <p:nvPr/>
        </p:nvSpPr>
        <p:spPr>
          <a:xfrm>
            <a:off x="4643280" y="836640"/>
            <a:ext cx="4032360" cy="56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пробуй, м – 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пробуй, джага – джа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пробуй, а –а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е это надо, на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ять мне кажется, что круж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я го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й мармелад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 не пра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ременная пес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99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395280" y="1268280"/>
            <a:ext cx="84596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ределите значение сло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вы избавите человечеств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 половины его заблужд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. Декар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33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900000" y="1839960"/>
            <a:ext cx="684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ряду значение одного из  слов сформулировано невер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. Цензура – надзор за печатью и средствами массовой информ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.Триумф – победа, торжество, успе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 Делегат – выборный представи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 Экспорт – ввоз товара в страну для прода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684360" y="549360"/>
            <a:ext cx="20858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3" dur="250" autoRev="1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4" dur="250" autoRev="1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" dur="250" autoRev="1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1116000" y="2115360"/>
            <a:ext cx="7128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е из перечисленных слов имеет значение «не имеющий недостатков, безупречный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зумитель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ликолеп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  Потрясаю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 Безукоризнен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1187280" y="907920"/>
            <a:ext cx="2086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2" dur="250" autoRev="1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3" dur="250" autoRev="1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" dur="250" autoRev="1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684360" y="1283400"/>
            <a:ext cx="748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предложении вместо слова «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дстави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 нужно употребить слово «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доставить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тот дом представляет из себя нечто похожее на зам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Актер умел представить пение солов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м нужно срочно представить отчет о командиров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Я представил вам самостоятельно решать эти вопро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6"/>
          <p:cNvSpPr txBox="1"/>
          <p:nvPr/>
        </p:nvSpPr>
        <p:spPr>
          <a:xfrm>
            <a:off x="826920" y="333360"/>
            <a:ext cx="2086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500"/>
                            </p:stCondLst>
                            <p:childTnLst>
                              <p:par>
                                <p:cTn id="16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8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500"/>
                            </p:stCondLst>
                            <p:childTnLst>
                              <p:par>
                                <p:cTn id="17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" dur="1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" dur="250" autoRev="1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7" dur="250" autoRev="1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" dur="250" autoRev="1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1:46:41Z</dcterms:created>
  <dc:creator>ALEX</dc:creator>
  <dc:description/>
  <dc:language>en-US</dc:language>
  <cp:lastModifiedBy>Александр</cp:lastModifiedBy>
  <dcterms:modified xsi:type="dcterms:W3CDTF">2011-09-06T08:33:43Z</dcterms:modified>
  <cp:revision>21</cp:revision>
  <dc:subject/>
  <dc:title>Слайд 1</dc:title>
</cp:coreProperties>
</file>