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FBC-494A-45D7-917B-B69568A1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0CBC-D9A7-4BA3-B184-3AD64304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9F6-E02B-46D6-B68E-575D99B9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7A76-F4B2-4D41-B28B-1FF830BD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914C-2FBB-4E7F-B047-6243B8E5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117-DA64-4A2C-8298-D538DA85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37B-BBD3-4D12-B093-35147116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944-DAD5-4419-B935-E906A47C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5B1-DD8F-4DC3-9185-D86274FE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A37-667C-400D-9F0A-6700C657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752-4542-47EC-B3D9-06C87F49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F7F-AED1-4E01-8FFE-F825A103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F8E0-5A74-4F91-A1FB-8E928A6BC0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7d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042920" y="333360"/>
            <a:ext cx="7416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кология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ч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33320" y="5157720"/>
            <a:ext cx="40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МОУ СОШ №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г.Ростова-на-Д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читель Мотайло Ирина Фё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855000" y="3429000"/>
            <a:ext cx="80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ые нормы русск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547640" y="2133720"/>
            <a:ext cx="6121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не все слова являются син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зы, оковы, п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ображение, фантазия, вымы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ердие, одолжение, усл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лм, пригорок, возвыш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539640" y="549360"/>
            <a:ext cx="2086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900000" y="1844640"/>
            <a:ext cx="66247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ая пара слов не является ант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дколесье, чащ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знерадостный, уны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цемерный, двоедуш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омерный, случай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468360" y="260280"/>
            <a:ext cx="22096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5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1187280" y="1744560"/>
            <a:ext cx="756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лексические ошиб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бы быть грамотным и обладать большим     жаргоном     слов, нужно читать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ма сказала, чтобы я надел свитер, но я наперерез отказ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Летом ребята нашего класса обратно будут участвовать в экспед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611280" y="33336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b9e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405440" y="1695600"/>
            <a:ext cx="629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инять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едпринять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ить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нести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ести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ашивать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539640" y="476280"/>
            <a:ext cx="20862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3348000" y="2997360"/>
            <a:ext cx="158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 flipV="1">
            <a:off x="3635280" y="349992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V="1">
            <a:off x="3780000" y="3068640"/>
            <a:ext cx="122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2916360" y="4941720"/>
            <a:ext cx="2160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3780000" y="5589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 flipV="1">
            <a:off x="3132000" y="4869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7"/>
          <p:cNvSpPr/>
          <p:nvPr/>
        </p:nvSpPr>
        <p:spPr>
          <a:xfrm>
            <a:off x="468360" y="2708280"/>
            <a:ext cx="7705800" cy="34178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332000" y="1414800"/>
            <a:ext cx="6397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, чтобы был понятно их знач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абонент, абоне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ражеский, враждеб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оенный, воинский;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гарантийный, гарантирова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войной, двойств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оверчивый, довер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468360" y="260280"/>
            <a:ext cx="2085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7"/>
          <p:cNvSpPr/>
          <p:nvPr/>
        </p:nvSpPr>
        <p:spPr>
          <a:xfrm>
            <a:off x="755640" y="2276640"/>
            <a:ext cx="7272360" cy="4581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476360" y="1722240"/>
            <a:ext cx="655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изнесите слова, правильно ставя удар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намерение, одновременный, тотчас, ходатайство, цемент, столяр, звонишь, закупоренный, квартал, договор, танцовщица, кухонный, мизерный, приняла. понял, поняла, досуг, эксперт, уведом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468360" y="620640"/>
            <a:ext cx="20858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26920" y="89460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редложениях с деепричастными оборо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ушая музыку Скрябина, нас не покидает ощущение искренности худож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ва овладев грамотой, в нашу жизнь на третьем году обучения вошел      английски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увствуется ширь, взглянув на Вол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Подъезжая к станции, у меня слетела шля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льчик гладил собаку, виляя хво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611280" y="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24000" y="1648800"/>
            <a:ext cx="8297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употреблении однородных членов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Он мечтал о поездке в Москву, учиться, работать, быть полезным люд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После выхода в свет комедии Фонвизина недорослями стали называть молодых людей, не получивших образования и которые стремились к   празд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том ученики нашего класса не только побывали в Новгороде, но и в Михайловс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611280" y="404640"/>
            <a:ext cx="2209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84360" y="1302840"/>
            <a:ext cx="792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остроении предлож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 Обращаясь к дружине, князь Игорь сказал, что «хочу поломать копье о  конец поля половецк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тор «Слова…» упрекает князей в разорении земли Русской, что «вы своими крамолами начали наводить поганых на землю Русскую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В Киеве Святослав осуждает поход Игоря, говоря, что «бесславно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олели, без славы пролили кровь поганы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11280" y="8254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826920" y="0"/>
            <a:ext cx="246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de"/>
            </a:gs>
            <a:gs pos="100000">
              <a:srgbClr val="e0a3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ic0278_1024"/>
          <p:cNvPicPr/>
          <p:nvPr/>
        </p:nvPicPr>
        <p:blipFill>
          <a:blip r:embed="rId1"/>
          <a:stretch/>
        </p:blipFill>
        <p:spPr>
          <a:xfrm>
            <a:off x="-1440" y="0"/>
            <a:ext cx="9145440" cy="475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476360" y="558972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Е.Репин «Бурлаки на Волг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042920" y="307404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j0233990"/>
          <p:cNvPicPr/>
          <p:nvPr/>
        </p:nvPicPr>
        <p:blipFill>
          <a:blip r:embed="rId1"/>
          <a:stretch/>
        </p:blipFill>
        <p:spPr>
          <a:xfrm>
            <a:off x="0" y="0"/>
            <a:ext cx="5400720" cy="4608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10"/>
          <p:cNvSpPr txBox="1"/>
          <p:nvPr/>
        </p:nvSpPr>
        <p:spPr>
          <a:xfrm>
            <a:off x="0" y="4869000"/>
            <a:ext cx="889308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словаре В.Даля 250 000 с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79280" y="193680"/>
            <a:ext cx="8785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товарищ написал сочинение по картине И.Е.Репина «Бурлаки» и попросил вас отредактировать тек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ядя на картину, мы сожалеем бурлакам. Они шли, низко понурив головы. Лица бурлаков выражают недовольствие. Одеты они в рваные лохмот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урлаки идут медленно. У них встречаются препятствия. Они ненавидят эту работу, но должны были как-то прокормить себя, поэтому нанялись тащить баржу. Выражение лиц бурлаков было прискорб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пин своей картиной показал о тяжелом труде бурлаков. Смотря на эту картину, у нас рождается жалость к бурлакам. Кто смотрит на эту картину, тот с грустью понимает, как плохо жилось бурлакам в то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755640" y="2277360"/>
            <a:ext cx="89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жавеет золото, и истлевает ста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ошится мрамор. К смерти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т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 прочнее на земле  - печ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долговечней – Царственное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Ахм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01111"/>
          <p:cNvPicPr/>
          <p:nvPr/>
        </p:nvPicPr>
        <p:blipFill>
          <a:blip r:embed="rId2"/>
          <a:stretch/>
        </p:blipFill>
        <p:spPr>
          <a:xfrm>
            <a:off x="0" y="0"/>
            <a:ext cx="205092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3a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687920" y="907920"/>
            <a:ext cx="445608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97080" y="669960"/>
            <a:ext cx="5594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ас люб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 еще, быть мож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уше моей угасла не сов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усть она вас больше не трево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не хочу печалить вас ничем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3a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5"/>
          <p:cNvGraphicFramePr/>
          <p:nvPr/>
        </p:nvGraphicFramePr>
        <p:xfrm>
          <a:off x="0" y="0"/>
          <a:ext cx="431496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1496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6"/>
          <p:cNvSpPr/>
          <p:nvPr/>
        </p:nvSpPr>
        <p:spPr>
          <a:xfrm>
            <a:off x="4643280" y="836640"/>
            <a:ext cx="4032360" cy="56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м – 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джага – дж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а –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 это надо, н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ять мне кажется, что круж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я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й мармелад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не пра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ременная пес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95280" y="1268280"/>
            <a:ext cx="8459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ите значение сл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вы избавите человече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 половины его заблужд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. Дека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33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900000" y="1839960"/>
            <a:ext cx="68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значение одного из  слов сформулировано невер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 Цензура – надзор за печатью и средствами массовой информ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Триумф – победа, торжество,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Делегат – выборный представ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Экспорт – ввоз товара в страну для прода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684360" y="549360"/>
            <a:ext cx="20858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116000" y="2115360"/>
            <a:ext cx="71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из перечисленных слов имеет значение «не имеющий недостатков, безупречный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умите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ликолеп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 Потрясаю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Безукоризн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1187280" y="90792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2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3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684360" y="1283400"/>
            <a:ext cx="748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предложении вместо слова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стави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нужно употребить слово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оставить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т дом представляет из себя нечто похожее на зам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Актер умел представить пение сол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м нужно срочно представить отчет о командиров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Я представил вам самостоятельно решать эти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826920" y="33336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1:46:41Z</dcterms:created>
  <dc:creator>ALEX</dc:creator>
  <dc:description/>
  <dc:language>en-US</dc:language>
  <cp:lastModifiedBy>Александр</cp:lastModifiedBy>
  <dcterms:modified xsi:type="dcterms:W3CDTF">2011-09-06T08:33:43Z</dcterms:modified>
  <cp:revision>21</cp:revision>
  <dc:subject/>
  <dc:title>Слайд 1</dc:title>
</cp:coreProperties>
</file>