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7EB-3DF0-4CC1-A942-F1291269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07D-3F4A-4AF7-B742-8B7C44C0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2CF-1E46-4A6A-BEBD-CF59F344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124-08FC-450A-891F-DC6C4BBE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EFE-051A-4846-B385-6D82D9F8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5B7-47BF-4CE7-8B6E-E588C9D2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3562-6A10-4955-9620-66300987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297-B5DE-4440-B5D2-10CD4DCD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CE1-8C82-4BA6-B0D4-B91AD7BC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C9B-DB18-442E-888C-2A294903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C5A-B19E-42C0-91F8-2D87A598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68A-88BB-436A-A1E7-151E32DE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A308-4ED2-4F92-804B-58E7D6D4F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7d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42920" y="333360"/>
            <a:ext cx="741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ч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33320" y="5157720"/>
            <a:ext cx="40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ОУ СОШ №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г.Ростова-на-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читель Мотайло Ирина Фё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55000" y="3429000"/>
            <a:ext cx="80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ые нормы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547640" y="2133720"/>
            <a:ext cx="6121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не все слова являются син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ы, оковы, п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ображение, фантазия, вымы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ердие, одолжение, ус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лм, пригорок, возвыш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539640" y="549360"/>
            <a:ext cx="2086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900000" y="1844640"/>
            <a:ext cx="6624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пара слов не является ант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дколесье, ча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знерадостный, уны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цемерный, двоедуш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омерный, случай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468360" y="260280"/>
            <a:ext cx="22096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187280" y="1744560"/>
            <a:ext cx="756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лексические ошиб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бы быть грамотным и обладать большим     жаргоном     слов, нужно читать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ма сказала, чтобы я надел свитер, но я наперерез отказ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Летом ребята нашего класса обратно будут участвовать в экспед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611280" y="33336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b9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405440" y="1695600"/>
            <a:ext cx="629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инять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едпринять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ть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нести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ести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ашивать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39640" y="476280"/>
            <a:ext cx="20862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3348000" y="299736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3635280" y="349992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3780000" y="3068640"/>
            <a:ext cx="122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2916360" y="4941720"/>
            <a:ext cx="21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780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3132000" y="4869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7"/>
          <p:cNvSpPr/>
          <p:nvPr/>
        </p:nvSpPr>
        <p:spPr>
          <a:xfrm>
            <a:off x="468360" y="2708280"/>
            <a:ext cx="7705800" cy="3417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332000" y="1414800"/>
            <a:ext cx="6397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, чтобы был понятно их 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абонент, абоне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ражеский, враждеб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оенный, воинский;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гарантийный, гарантирова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войной, двойств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оверчивый, довер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468360" y="260280"/>
            <a:ext cx="2085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7"/>
          <p:cNvSpPr/>
          <p:nvPr/>
        </p:nvSpPr>
        <p:spPr>
          <a:xfrm>
            <a:off x="755640" y="2276640"/>
            <a:ext cx="7272360" cy="458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476360" y="172224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несите слова, правильно ставя удар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намерение, одновременный, тотчас, ходатайство, цемент, столяр, звонишь, закупоренный, квартал, договор, танцовщица, кухонный, мизерный, приняла. понял, поняла, досуг, эксперт, уведом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468360" y="620640"/>
            <a:ext cx="2085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26920" y="8946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редложениях с деепричастными оборо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шая музыку Скрябина, нас не покидает ощущение искренности худож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ва овладев грамотой, в нашу жизнь на третьем году обучения вошел      английски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увствуется ширь, взглянув на Вол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одъезжая к станции, у меня слетела шля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ьчик гладил собаку, виляя хво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611280" y="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24000" y="1648800"/>
            <a:ext cx="829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употреблении однородных членов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н мечтал о поездке в Москву, учиться, работать, быть полезным люд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После выхода в свет комедии Фонвизина недорослями стали называть молодых людей, не получивших образования и которые стремились к   празд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ом ученики нашего класса не только побывали в Новгороде, но и в Михайлов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611280" y="404640"/>
            <a:ext cx="2209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4360" y="130284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остроении предло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Обращаясь к дружине, князь Игорь сказал, что «хочу поломать копье о  конец поля половец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тор «Слова…» упрекает князей в разорении земли Русской, что «вы своими крамолами начали наводить поганых на землю Русску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 Киеве Святослав осуждает поход Игоря, говоря, что «бесславно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олели, без славы пролили кровь поган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8254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826920" y="0"/>
            <a:ext cx="246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de"/>
            </a:gs>
            <a:gs pos="100000">
              <a:srgbClr val="e0a3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ic0278_1024"/>
          <p:cNvPicPr/>
          <p:nvPr/>
        </p:nvPicPr>
        <p:blipFill>
          <a:blip r:embed="rId1"/>
          <a:stretch/>
        </p:blipFill>
        <p:spPr>
          <a:xfrm>
            <a:off x="-1440" y="0"/>
            <a:ext cx="9145440" cy="475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76360" y="558972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Е.Репин «Бурлаки на Волг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042920" y="307404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j0233990"/>
          <p:cNvPicPr/>
          <p:nvPr/>
        </p:nvPicPr>
        <p:blipFill>
          <a:blip r:embed="rId1"/>
          <a:stretch/>
        </p:blipFill>
        <p:spPr>
          <a:xfrm>
            <a:off x="0" y="0"/>
            <a:ext cx="540072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0"/>
          <p:cNvSpPr txBox="1"/>
          <p:nvPr/>
        </p:nvSpPr>
        <p:spPr>
          <a:xfrm>
            <a:off x="0" y="4869000"/>
            <a:ext cx="88930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словаре В.Даля 250 000 с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79280" y="193680"/>
            <a:ext cx="8785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товарищ написал сочинение по картине И.Е.Репина «Бурлаки» и попросил вас отредактировать 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ядя на картину, мы сожалеем бурлакам. Они шли, низко понурив головы. Лица бурлаков выражают недовольствие. Одеты они в рваные лохмо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рлаки идут медленно. У них встречаются препятствия. Они ненавидят эту работу, но должны были как-то прокормить себя, поэтому нанялись тащить баржу. Выражение лиц бурлаков было прискорб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пин своей картиной показал о тяжелом труде бурлаков. Смотря на эту картину, у нас рождается жалость к бурлакам. Кто смотрит на эту картину, тот с грустью понимает, как плохо жилось бурлакам в то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755640" y="227736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жавеет золото, и истлевает ст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ошится мрамор. К смерти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прочнее на земле  - печ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олговечней – Царственн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Ахм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01111"/>
          <p:cNvPicPr/>
          <p:nvPr/>
        </p:nvPicPr>
        <p:blipFill>
          <a:blip r:embed="rId2"/>
          <a:stretch/>
        </p:blipFill>
        <p:spPr>
          <a:xfrm>
            <a:off x="0" y="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3a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687920" y="907920"/>
            <a:ext cx="445608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97080" y="669960"/>
            <a:ext cx="559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ас люб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еще, быть мож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уше моей угасла не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усть она вас больше не трево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не хочу печалить вас ниче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3a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5"/>
          <p:cNvGraphicFramePr/>
          <p:nvPr/>
        </p:nvGraphicFramePr>
        <p:xfrm>
          <a:off x="0" y="0"/>
          <a:ext cx="431496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1496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6"/>
          <p:cNvSpPr/>
          <p:nvPr/>
        </p:nvSpPr>
        <p:spPr>
          <a:xfrm>
            <a:off x="4643280" y="836640"/>
            <a:ext cx="403236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м – 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джага – дж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а –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это надо,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ять мне кажется, что кру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й мармела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не пра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ая пес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95280" y="1268280"/>
            <a:ext cx="8459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значение сл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вы избавите челове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половины его заблуж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. Дека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900000" y="1839960"/>
            <a:ext cx="68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значение одного из  слов сформулировано невер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Цензура – надзор за печатью и средствами массовой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Триумф – победа, торжество,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Делегат – выборный представ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Экспорт – ввоз товара в страну для прод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684360" y="549360"/>
            <a:ext cx="20858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16000" y="2115360"/>
            <a:ext cx="71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из перечисленных слов имеет значение «не имеющий недостатков, безупречный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умите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колеп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 Потрясаю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Безукоризн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87280" y="90792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4360" y="128340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предложении вместо слова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стави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нужно употребить слово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оставить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дом представляет из себя нечто похожее на зам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Актер умел представить пение сол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м нужно срочно представить отчет о командиров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Я представил вам самостоятельно решать эти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826920" y="33336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46:41Z</dcterms:created>
  <dc:creator>ALEX</dc:creator>
  <dc:description/>
  <dc:language>en-US</dc:language>
  <cp:lastModifiedBy>Александр</cp:lastModifiedBy>
  <dcterms:modified xsi:type="dcterms:W3CDTF">2011-09-06T08:33:43Z</dcterms:modified>
  <cp:revision>21</cp:revision>
  <dc:subject/>
  <dc:title>Слайд 1</dc:title>
</cp:coreProperties>
</file>