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3.wmf" ContentType="image/x-wmf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18B2-9BA8-4D53-B912-BEBDAB67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27BA-A269-4C66-9942-5EF7383B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ED0C-726B-4EF1-9AB8-E1A870B05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9110-A790-4C86-BE9A-19CB2E4D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9663-8ECA-4FB8-8800-8F48349A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70E8-BB6E-4B24-B465-B3A2BFD3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217D-D596-4664-A8A2-965D7C5E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7FF-8525-4919-8AAA-C354A90E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AD26-A3CA-47B4-907F-1792B379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18B0-6296-4C8F-9955-577B4AA3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1C84-3AE4-4EE2-92F6-B3810B91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86A4-4EFE-46E0-90D8-406E19AA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1753-9CEA-4434-A78B-DE62022D62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tmn.fio.ru/works/97x/305/41.htm" TargetMode="External"/><Relationship Id="rId2" Type="http://schemas.openxmlformats.org/officeDocument/2006/relationships/hyperlink" Target="http://www.encsite.info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20840" y="-19080"/>
            <a:ext cx="8242200" cy="1171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00720" y="1356840"/>
            <a:ext cx="4286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Урок русского языка в 6 класс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Выполнила: учитель МОУ «Ванновская СОШ №4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Никифорова Светлана Викторо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3" descr="J0295069.WMF"/>
          <p:cNvPicPr/>
          <p:nvPr/>
        </p:nvPicPr>
        <p:blipFill>
          <a:blip r:embed="rId2"/>
          <a:stretch/>
        </p:blipFill>
        <p:spPr>
          <a:xfrm>
            <a:off x="642960" y="2286000"/>
            <a:ext cx="45687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142920" y="142920"/>
            <a:ext cx="900108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спомните фразеологические обороты, начало которых дано в 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до самому отвечать за свои поступки, а не прятаться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На садовом участке ребята работали дружно, старались не ударит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Бросились искать приезжего. а его и след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У Сережи с Мишей дружба крепкая: их водой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Ты всегда преувеличиваешь, делаешь из мухи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Мы его расспрашиваем, а он словно воды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. Обиделся Петя на замечания товарищей, надулся как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35712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пределите, есть ли фразеологизмы 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едложен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рач назначил больному прием лекарства через час по чайной ложк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евочка болела, и мама носила ее на рук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457560"/>
            <a:ext cx="8643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Какие предложения содержат ошибки в употреблении фразеологизмов? Исправьте ошибки и запишите исправленные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ася красиво, как курица лапой, написал заглави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Женя остановилась, до глубины души восхищенная чудесной музык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тенок был очень некрасивым, глаз не оторват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дружно работали сложа рук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с другом долго спорили, но в конце концов нашли общий язы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лягушки дух захватило от страшной высот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Яшка сломя голову останови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142920" y="243720"/>
            <a:ext cx="8858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Прочитайте предложения. Замените подчеркнутые слова фразеологизмами. Что изменилось? Предложения запиши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ера Сергеевна объясняла решение задачи, но Пет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е слуш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ра узнала, что поездка откладывается,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агрустил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ирилл целый ден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ездельнич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догадывались, что он нас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бманыва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ого сентября Уля проснулас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чень ра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85480" y="285840"/>
            <a:ext cx="83725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фера употребления фразеологизм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Овал 3"/>
          <p:cNvSpPr/>
          <p:nvPr/>
        </p:nvSpPr>
        <p:spPr>
          <a:xfrm>
            <a:off x="2571840" y="1000080"/>
            <a:ext cx="3857400" cy="1928880"/>
          </a:xfrm>
          <a:prstGeom prst="ellipse">
            <a:avLst/>
          </a:prstGeom>
          <a:solidFill>
            <a:srgbClr val="ffb8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3143160" y="164304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или реч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Шестиугольник 5"/>
          <p:cNvSpPr/>
          <p:nvPr/>
        </p:nvSpPr>
        <p:spPr>
          <a:xfrm>
            <a:off x="142920" y="3429000"/>
            <a:ext cx="2786040" cy="242892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71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Шестиугольник 6"/>
          <p:cNvSpPr/>
          <p:nvPr/>
        </p:nvSpPr>
        <p:spPr>
          <a:xfrm>
            <a:off x="3286080" y="3429000"/>
            <a:ext cx="2500200" cy="214308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Шестиугольник 7"/>
          <p:cNvSpPr/>
          <p:nvPr/>
        </p:nvSpPr>
        <p:spPr>
          <a:xfrm>
            <a:off x="6143760" y="3357720"/>
            <a:ext cx="2714400" cy="235728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f71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10"/>
          <p:cNvCxnSpPr/>
          <p:nvPr/>
        </p:nvCxnSpPr>
        <p:spPr>
          <a:xfrm flipH="1">
            <a:off x="1571040" y="2570760"/>
            <a:ext cx="1215000" cy="786600"/>
          </a:xfrm>
          <a:prstGeom prst="straightConnector1">
            <a:avLst/>
          </a:prstGeom>
          <a:ln w="38160">
            <a:solidFill>
              <a:srgbClr val="ab0043"/>
            </a:solidFill>
            <a:miter/>
            <a:tailEnd len="med" type="arrow" w="med"/>
          </a:ln>
        </p:spPr>
      </p:cxnSp>
      <p:cxnSp>
        <p:nvCxnSpPr>
          <p:cNvPr id="94" name="Прямая со стрелкой 11"/>
          <p:cNvCxnSpPr/>
          <p:nvPr/>
        </p:nvCxnSpPr>
        <p:spPr>
          <a:xfrm flipH="1">
            <a:off x="4427280" y="2857320"/>
            <a:ext cx="2160" cy="500760"/>
          </a:xfrm>
          <a:prstGeom prst="straightConnector1">
            <a:avLst/>
          </a:prstGeom>
          <a:ln w="38160">
            <a:solidFill>
              <a:srgbClr val="bf1e62"/>
            </a:solidFill>
            <a:miter/>
            <a:tailEnd len="med" type="arrow" w="med"/>
          </a:ln>
        </p:spPr>
      </p:cxnSp>
      <p:cxnSp>
        <p:nvCxnSpPr>
          <p:cNvPr id="95" name="Прямая со стрелкой 13"/>
          <p:cNvCxnSpPr/>
          <p:nvPr/>
        </p:nvCxnSpPr>
        <p:spPr>
          <a:xfrm>
            <a:off x="6357600" y="2428560"/>
            <a:ext cx="1072440" cy="857880"/>
          </a:xfrm>
          <a:prstGeom prst="straightConnector1">
            <a:avLst/>
          </a:prstGeom>
          <a:ln w="38160">
            <a:solidFill>
              <a:srgbClr val="bf1e62"/>
            </a:solidFill>
            <a:miter/>
            <a:tailEnd len="med" type="arrow" w="med"/>
          </a:ln>
        </p:spPr>
      </p:cxnSp>
      <p:sp>
        <p:nvSpPr>
          <p:cNvPr id="96" name="TextBox 15"/>
          <p:cNvSpPr/>
          <p:nvPr/>
        </p:nvSpPr>
        <p:spPr>
          <a:xfrm>
            <a:off x="357120" y="4143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ниж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3500280" y="400068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гово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6215040" y="42148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блици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20" descr="HH00623_.WMF"/>
          <p:cNvPicPr/>
          <p:nvPr/>
        </p:nvPicPr>
        <p:blipFill>
          <a:blip r:embed="rId1"/>
          <a:stretch/>
        </p:blipFill>
        <p:spPr>
          <a:xfrm>
            <a:off x="6715080" y="4786200"/>
            <a:ext cx="1357200" cy="7588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1" descr="HH00546_.WMF"/>
          <p:cNvPicPr/>
          <p:nvPr/>
        </p:nvPicPr>
        <p:blipFill>
          <a:blip r:embed="rId2"/>
          <a:stretch/>
        </p:blipFill>
        <p:spPr>
          <a:xfrm>
            <a:off x="1071720" y="4786200"/>
            <a:ext cx="928440" cy="9493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22" descr="J0292278.WMF"/>
          <p:cNvPicPr/>
          <p:nvPr/>
        </p:nvPicPr>
        <p:blipFill>
          <a:blip r:embed="rId3"/>
          <a:stretch/>
        </p:blipFill>
        <p:spPr>
          <a:xfrm>
            <a:off x="3643200" y="4500720"/>
            <a:ext cx="1644840" cy="9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155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213840"/>
            <a:ext cx="82296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Распределить фразеологизмы по сфе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употребления: разговорный,книжны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ублицистиче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дить за нос, ломать голову, слож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ужие, сдержать слово, карточный доми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года в год, краеугольный камень, лом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лову, кривить душой, гадать на кофей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уще, дамоклов меч, под открытым неб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42560" y="213840"/>
            <a:ext cx="900108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Книжный: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сложить оружие, карточный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домик, дамоклов меч, краеугольный камень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Публицистический: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сдержать слово, под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открытым небом, из года в год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Разговорный: в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одить за нос, ломать голову,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кривить душой, гадать на кофейной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гуще,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2876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Откуда берутся фразеологиз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Овальная выноска 3"/>
          <p:cNvSpPr/>
          <p:nvPr/>
        </p:nvSpPr>
        <p:spPr>
          <a:xfrm>
            <a:off x="214200" y="642960"/>
            <a:ext cx="3571920" cy="20718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d7e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ьная выноска 4"/>
          <p:cNvSpPr/>
          <p:nvPr/>
        </p:nvSpPr>
        <p:spPr>
          <a:xfrm>
            <a:off x="3143160" y="2000160"/>
            <a:ext cx="3857760" cy="2500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ьная выноска 5"/>
          <p:cNvSpPr/>
          <p:nvPr/>
        </p:nvSpPr>
        <p:spPr>
          <a:xfrm>
            <a:off x="142920" y="3643200"/>
            <a:ext cx="4000320" cy="27860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ьная выноска 6"/>
          <p:cNvSpPr/>
          <p:nvPr/>
        </p:nvSpPr>
        <p:spPr>
          <a:xfrm>
            <a:off x="5643720" y="571680"/>
            <a:ext cx="3500280" cy="19285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ьная выноска 7"/>
          <p:cNvSpPr/>
          <p:nvPr/>
        </p:nvSpPr>
        <p:spPr>
          <a:xfrm>
            <a:off x="5143680" y="3857760"/>
            <a:ext cx="3857400" cy="26431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d51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500040" y="928800"/>
            <a:ext cx="328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сконно рус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атывать удочки,     расправлять кры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5929200" y="785880"/>
            <a:ext cx="32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тарославян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зеницу о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т мира 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3643200" y="2286000"/>
            <a:ext cx="350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з разных професс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гущать крас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д кон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ести к общему знамена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785880" y="3929040"/>
            <a:ext cx="357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рыл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лова из миф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хиллесова пя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ть Ариад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моклов ме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6000840" y="4500720"/>
            <a:ext cx="257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рылатые слова и выражения, созданные писате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лый ко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частливые часов не наблюд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28760" y="35712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Прочитайте. На сколько групп можно распределить фразеологизмы? Какие это группы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Сломя голову, и дело с концом, во всю прыть, и след простыл, дело в шляпе, поминай как зва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I – сломя голову, во всю прыть; II – и дело с концом, дело в шляпе; III – и след простыл, поминай как звали.)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Улыбающееся лицо 5"/>
          <p:cNvSpPr/>
          <p:nvPr/>
        </p:nvSpPr>
        <p:spPr>
          <a:xfrm>
            <a:off x="357120" y="3357720"/>
            <a:ext cx="8215560" cy="314316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3"/>
          <p:cNvSpPr/>
          <p:nvPr/>
        </p:nvSpPr>
        <p:spPr>
          <a:xfrm>
            <a:off x="285840" y="500040"/>
            <a:ext cx="8501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Замените подчеркнутые слова фразеологизмами. Что изменилось? Предложения запиши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. Вера Сергеевна объясняла решение задачи, но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тя не слушал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. Ира узнала, что поездка откладывается, и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грустил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. Кирилл целый день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ездельничал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. Мы догадывались, что он нас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манывает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. Первого сентября Уля проснулась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чень ран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равочный материал: повесить нос, водить за нос, ни свет ни заря,  бить баклуши, пропустить мимо ушей.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429000" y="214200"/>
            <a:ext cx="5572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59720" indent="-345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Цели урок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познакомить учащихся с фразеологизмам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учить употреблять в речи фразеологизмы с целью ее обогащен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учить находить фразеологизмы в текст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Рисунок 3" descr="SY01253_.WMF"/>
          <p:cNvPicPr/>
          <p:nvPr/>
        </p:nvPicPr>
        <p:blipFill>
          <a:blip r:embed="rId1"/>
          <a:stretch/>
        </p:blipFill>
        <p:spPr>
          <a:xfrm>
            <a:off x="0" y="1857240"/>
            <a:ext cx="44388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357120" y="172440"/>
            <a:ext cx="85010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Прочитайте текст. Кто больше найдет фразеологизмов в текс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й самый близкий друг Шурик любил, оказывается, считать ворон, бить баклуши и гонять лодыря. Дома он, как о том были наслышаны все в квартале, палец о палец не ударял, чтобы помочь бабушке. Как его только ни корили вернувшиеся с работы родители, что ему ни выговаривали, а ему все нипочем. В один из вечеров мы, приятели Шурика, услышали, что на его месте мы давно бы сквозь землю провалились и что мучили бы нас угрызения совести. А этому, что ни толку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 одно ухо влетает, в другое вылетает. И таким он, оказывается, был и когда от горшка два вершка только составлял, и теперь, вымахавши с коломенскую версту. Все с него как с гуся вода, все ему что об стенку горо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т, мать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заключил однажды отец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я больше не намерен бросать слова на ветер и сидеть сложа ру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он потянулся за ремнем на стене, чтобы Шурику всыпать по первое число, задать баню, снять с него стружку и в конце концов показать, где раки зимуют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Э.А.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таньян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Найдите в тексте фразеологизмы, которые имеют одинаковое значение? Назовите их. Каково их знач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28760" y="-3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Спасибо за урок!!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 сегодня не переливали из пустого в порожнее, а работали не покладая рук. И хоть к концу урока мы немного устали, но не вышли из себя, а взяли себя в руки и продолжили работу. И в классе не было ни одного, кто бы смотрел на работу одноклассников                   сквозь пальц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Рисунок 3" descr="http://nsc.1september.ru/2004/24/16.gif"/>
          <p:cNvPicPr/>
          <p:nvPr/>
        </p:nvPicPr>
        <p:blipFill>
          <a:blip r:embed="rId1"/>
          <a:stretch/>
        </p:blipFill>
        <p:spPr>
          <a:xfrm>
            <a:off x="285840" y="3429000"/>
            <a:ext cx="2071440" cy="32623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http://nsc.1september.ru/2004/24/17.gif"/>
          <p:cNvPicPr/>
          <p:nvPr/>
        </p:nvPicPr>
        <p:blipFill>
          <a:blip r:embed="rId2"/>
          <a:stretch/>
        </p:blipFill>
        <p:spPr>
          <a:xfrm>
            <a:off x="6357960" y="3071880"/>
            <a:ext cx="2610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42840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7bbfd"/>
                </a:solidFill>
                <a:uFillTx/>
                <a:latin typeface="Book Antiqua"/>
                <a:hlinkClick r:id="rId1"/>
              </a:rPr>
              <a:t>http://tmn.fio.ru/works/97x/305/41.ht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ob.1september.ru/2001/09/11.htm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7bbfd"/>
                </a:solidFill>
                <a:uFillTx/>
                <a:latin typeface="Book Antiqua"/>
                <a:hlinkClick r:id="rId2"/>
              </a:rPr>
              <a:t>http://www.encsite.info/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бровин М.И. Словарь «Русские фразеологизмы в картинках» – М.: Русский язык, 1981 г.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ль В.Словарь «Пословицы и поговорки» – М.: Просвещение, 1957 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21384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Фразеологизм –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то устойчивое  неделимое сочетание слов , которое можно заменить синонимом, одним слов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7030a0"/>
                </a:solidFill>
                <a:latin typeface="Book Antiqua"/>
              </a:rPr>
              <a:t>Phrasis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выражени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7030a0"/>
                </a:solidFill>
                <a:latin typeface="Book Antiqua"/>
              </a:rPr>
              <a:t>Logos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учени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4256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Лексическое  значение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меет вес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разеологизм в цел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разеологизмы – это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сред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выразительности язы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, он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елают нашу речь эмоционально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ыразительной и ярко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«Море по колено»"/>
          <p:cNvPicPr/>
          <p:nvPr/>
        </p:nvPicPr>
        <p:blipFill>
          <a:blip r:embed="rId1"/>
          <a:stretch/>
        </p:blipFill>
        <p:spPr>
          <a:xfrm>
            <a:off x="142920" y="142920"/>
            <a:ext cx="3143160" cy="4214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0" y="4575600"/>
            <a:ext cx="32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Море по колено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что не страш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8" descr="«Мухи не обидит»"/>
          <p:cNvPicPr/>
          <p:nvPr/>
        </p:nvPicPr>
        <p:blipFill>
          <a:blip r:embed="rId2"/>
          <a:stretch/>
        </p:blipFill>
        <p:spPr>
          <a:xfrm>
            <a:off x="6143760" y="142920"/>
            <a:ext cx="2743200" cy="3000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4357800" y="307224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Мухи не обидит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кроткий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0" descr="«Как две капли воды»"/>
          <p:cNvPicPr/>
          <p:nvPr/>
        </p:nvPicPr>
        <p:blipFill>
          <a:blip r:embed="rId3"/>
          <a:stretch/>
        </p:blipFill>
        <p:spPr>
          <a:xfrm>
            <a:off x="2643120" y="3429000"/>
            <a:ext cx="3633840" cy="2786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2071800" y="621540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Как две капли воды»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очень похожи друг на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Улыбающееся лицо 13"/>
          <p:cNvSpPr/>
          <p:nvPr/>
        </p:nvSpPr>
        <p:spPr>
          <a:xfrm>
            <a:off x="357120" y="5000760"/>
            <a:ext cx="2500560" cy="114300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лыбающееся лицо 14"/>
          <p:cNvSpPr/>
          <p:nvPr/>
        </p:nvSpPr>
        <p:spPr>
          <a:xfrm>
            <a:off x="5072040" y="5715000"/>
            <a:ext cx="3429000" cy="100008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Улыбающееся лицо 15"/>
          <p:cNvSpPr/>
          <p:nvPr/>
        </p:nvSpPr>
        <p:spPr>
          <a:xfrm>
            <a:off x="6643800" y="2928960"/>
            <a:ext cx="2500200" cy="114300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«Тянуть кота за хвост»"/>
          <p:cNvPicPr/>
          <p:nvPr/>
        </p:nvPicPr>
        <p:blipFill>
          <a:blip r:embed="rId1"/>
          <a:stretch/>
        </p:blipFill>
        <p:spPr>
          <a:xfrm>
            <a:off x="500040" y="142920"/>
            <a:ext cx="4000680" cy="2428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2575440"/>
            <a:ext cx="528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Тянуть кота за хвост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долго затягивать какое-либо решение или 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6" descr="«Не разлей вода»"/>
          <p:cNvPicPr/>
          <p:nvPr/>
        </p:nvPicPr>
        <p:blipFill>
          <a:blip r:embed="rId2"/>
          <a:stretch/>
        </p:blipFill>
        <p:spPr>
          <a:xfrm>
            <a:off x="5429160" y="142920"/>
            <a:ext cx="3467160" cy="47721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4857840" y="500256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Не разлей вода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ужные ребя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8" descr="«Витать в облаках»"/>
          <p:cNvPicPr/>
          <p:nvPr/>
        </p:nvPicPr>
        <p:blipFill>
          <a:blip r:embed="rId3"/>
          <a:stretch/>
        </p:blipFill>
        <p:spPr>
          <a:xfrm>
            <a:off x="428760" y="3714840"/>
            <a:ext cx="4214520" cy="2428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285840" y="6215400"/>
            <a:ext cx="38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Витать в облаках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меч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142920" y="3000240"/>
            <a:ext cx="4929120" cy="50004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3143160" y="6215040"/>
            <a:ext cx="1714680" cy="42876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2"/>
          <p:cNvSpPr/>
          <p:nvPr/>
        </p:nvSpPr>
        <p:spPr>
          <a:xfrm>
            <a:off x="5929200" y="5357880"/>
            <a:ext cx="1928880" cy="64296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«Плясать под чужую дудку»"/>
          <p:cNvPicPr/>
          <p:nvPr/>
        </p:nvPicPr>
        <p:blipFill>
          <a:blip r:embed="rId1"/>
          <a:stretch/>
        </p:blipFill>
        <p:spPr>
          <a:xfrm>
            <a:off x="142920" y="142920"/>
            <a:ext cx="4357800" cy="24289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-142920" y="2504520"/>
            <a:ext cx="52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Плясать под чужую дудку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беспрекословно выполнять волю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5" descr="«Сесть на шею»"/>
          <p:cNvPicPr/>
          <p:nvPr/>
        </p:nvPicPr>
        <p:blipFill>
          <a:blip r:embed="rId2"/>
          <a:stretch/>
        </p:blipFill>
        <p:spPr>
          <a:xfrm>
            <a:off x="5000760" y="0"/>
            <a:ext cx="3876480" cy="5643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5357880" y="566208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Сесть на шею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ыть обузой для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8" descr="«Водить за нос»"/>
          <p:cNvPicPr/>
          <p:nvPr/>
        </p:nvPicPr>
        <p:blipFill>
          <a:blip r:embed="rId3"/>
          <a:stretch/>
        </p:blipFill>
        <p:spPr>
          <a:xfrm>
            <a:off x="428760" y="3286080"/>
            <a:ext cx="3929040" cy="27860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0" y="621612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Водить за нос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обманы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5286240" y="6143760"/>
            <a:ext cx="3643560" cy="5713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1"/>
          <p:cNvSpPr/>
          <p:nvPr/>
        </p:nvSpPr>
        <p:spPr>
          <a:xfrm>
            <a:off x="2786040" y="6286680"/>
            <a:ext cx="1785960" cy="3571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2"/>
          <p:cNvSpPr/>
          <p:nvPr/>
        </p:nvSpPr>
        <p:spPr>
          <a:xfrm>
            <a:off x="285840" y="2928960"/>
            <a:ext cx="4357440" cy="3571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4"/>
          <p:cNvSpPr/>
          <p:nvPr/>
        </p:nvSpPr>
        <p:spPr>
          <a:xfrm>
            <a:off x="428760" y="214200"/>
            <a:ext cx="84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удожник-иностранец продолжает изучать русский язык. Но во фразеологизмах он никак не может разобраться. Назовите фразеологизмы, которые здесь им изображены. Когда они употребляются? Составьте с ними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5" descr="http://tmn.fio.ru/works/97x/305/kroc.gif"/>
          <p:cNvPicPr/>
          <p:nvPr/>
        </p:nvPicPr>
        <p:blipFill>
          <a:blip r:embed="rId1"/>
          <a:stretch/>
        </p:blipFill>
        <p:spPr>
          <a:xfrm>
            <a:off x="0" y="1785960"/>
            <a:ext cx="3643200" cy="3214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http://tmn.fio.ru/works/97x/305/basm1.gif"/>
          <p:cNvPicPr/>
          <p:nvPr/>
        </p:nvPicPr>
        <p:blipFill>
          <a:blip r:embed="rId2"/>
          <a:stretch/>
        </p:blipFill>
        <p:spPr>
          <a:xfrm>
            <a:off x="5786280" y="1643040"/>
            <a:ext cx="3071880" cy="26431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http://tmn.fio.ru/works/97x/305/bik.gif"/>
          <p:cNvPicPr/>
          <p:nvPr/>
        </p:nvPicPr>
        <p:blipFill>
          <a:blip r:embed="rId3"/>
          <a:stretch/>
        </p:blipFill>
        <p:spPr>
          <a:xfrm>
            <a:off x="3714840" y="4081320"/>
            <a:ext cx="395280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http://tmn.fio.ru/works/97x/305/zvezda.jpg"/>
          <p:cNvPicPr/>
          <p:nvPr/>
        </p:nvPicPr>
        <p:blipFill>
          <a:blip r:embed="rId1"/>
          <a:stretch/>
        </p:blipFill>
        <p:spPr>
          <a:xfrm>
            <a:off x="285840" y="142920"/>
            <a:ext cx="3000240" cy="4429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http://tmn.fio.ru/works/97x/305/butilka.gif"/>
          <p:cNvPicPr/>
          <p:nvPr/>
        </p:nvPicPr>
        <p:blipFill>
          <a:blip r:embed="rId2"/>
          <a:stretch/>
        </p:blipFill>
        <p:spPr>
          <a:xfrm>
            <a:off x="6786720" y="1071720"/>
            <a:ext cx="2143080" cy="4572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http://tmn.fio.ru/works/97x/305/lis.gif"/>
          <p:cNvPicPr/>
          <p:nvPr/>
        </p:nvPicPr>
        <p:blipFill>
          <a:blip r:embed="rId3"/>
          <a:stretch/>
        </p:blipFill>
        <p:spPr>
          <a:xfrm>
            <a:off x="3643200" y="357120"/>
            <a:ext cx="281016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tele"/>
          <p:cNvPicPr/>
          <p:nvPr/>
        </p:nvPicPr>
        <p:blipFill>
          <a:blip r:embed="rId4"/>
          <a:stretch/>
        </p:blipFill>
        <p:spPr>
          <a:xfrm>
            <a:off x="2714760" y="4071960"/>
            <a:ext cx="38098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5:39:27Z</dcterms:created>
  <dc:creator>Никита</dc:creator>
  <dc:description/>
  <dc:language>en-US</dc:language>
  <cp:lastModifiedBy>Никита</cp:lastModifiedBy>
  <dcterms:modified xsi:type="dcterms:W3CDTF">2008-10-10T16:46:49Z</dcterms:modified>
  <cp:revision>30</cp:revision>
  <dc:subject/>
  <dc:title>Фразеология</dc:title>
</cp:coreProperties>
</file>