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wmf" ContentType="image/x-wmf"/>
  <Override PartName="/ppt/media/image3.wmf" ContentType="image/x-wmf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1E99-57BB-48CB-9670-957818EF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BCF-D334-4E7C-9FFC-ADB475FB6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973-D367-44F5-BE5C-BC7977AE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7A60-8EEE-43A7-98FC-7620431F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692-7F65-4C39-BA19-C52406FF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772-D4E8-4B47-A64E-5E963A42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48C-525F-4F68-B0DB-A54836B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6FB-EACF-4C7A-9A32-5A981064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6192-6543-44E2-BBCE-028EB11C6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DCA-4FBE-4CCC-8F38-9B2ED19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8D5D-84C2-4795-BDD7-CCAF64C2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EB8-695F-46B5-8D6E-205B3B8C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DC02-0A0D-4896-82C8-9926F5F03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tmn.fio.ru/works/97x/305/41.htm" TargetMode="External"/><Relationship Id="rId2" Type="http://schemas.openxmlformats.org/officeDocument/2006/relationships/hyperlink" Target="http://www.encsite.inf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420840" y="-19080"/>
            <a:ext cx="8242200" cy="1171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00720" y="1356840"/>
            <a:ext cx="4286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Урок русского языка в 6 клас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Выполнила: учитель МОУ «Ванновская СОШ №4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Никифорова Светлана Викторо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3" descr="J0295069.WMF"/>
          <p:cNvPicPr/>
          <p:nvPr/>
        </p:nvPicPr>
        <p:blipFill>
          <a:blip r:embed="rId2"/>
          <a:stretch/>
        </p:blipFill>
        <p:spPr>
          <a:xfrm>
            <a:off x="642960" y="2286000"/>
            <a:ext cx="4568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3"/>
          <p:cNvSpPr/>
          <p:nvPr/>
        </p:nvSpPr>
        <p:spPr>
          <a:xfrm>
            <a:off x="142920" y="142920"/>
            <a:ext cx="9001080" cy="58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Вспомните фразеологические обороты, начало которых дано в тек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до самому отвечать за свои поступки, а не прятаться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На садовом участке ребята работали дружно, старались не ударит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Бросились искать приезжего. а его и след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У Сережи с Мишей дружба крепкая: их водой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Ты всегда преувеличиваешь, делаешь из мухи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Мы его расспрашиваем, а он словно воды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. Обиделся Петя на замечания товарищей, надулся как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712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пределите, есть ли фразеологизмы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едложени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рач назначил больному прием лекарства через час по чайной лож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вочка болела, и мама носила ее на рук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57560"/>
            <a:ext cx="8643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Какие предложения содержат ошибки в употреблении фразеологизмов? Исправьте ошибки и запишите исправленные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ся красиво, как курица лапой, написал заглави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Женя остановилась, до глубины души восхищенная чудесной музыко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енок был очень некрасивым, глаз не оторват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ружно работали сложа ру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другом долго спорили, но в конце концов нашли общий язы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 лягушки дух захватило от страшной высоты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шка сломя голову останови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"/>
          <p:cNvSpPr/>
          <p:nvPr/>
        </p:nvSpPr>
        <p:spPr>
          <a:xfrm>
            <a:off x="142920" y="2437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Прочитайте предложения. Замените подчеркнутые слова фразеологизмами. Что изменилось? Предложения запиши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а Сергеевна объясняла решение задачи, но Пет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не слуш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Ира узнала, что поездка откладывается, и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загруст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ирилл целый ден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ездельнич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догадывались, что он нас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маныв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го сентября Уля проснулась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чень ра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5480" y="285840"/>
            <a:ext cx="837252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фера употребления фразеологизм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Овал 3"/>
          <p:cNvSpPr/>
          <p:nvPr/>
        </p:nvSpPr>
        <p:spPr>
          <a:xfrm>
            <a:off x="2571840" y="1000080"/>
            <a:ext cx="3857400" cy="1928880"/>
          </a:xfrm>
          <a:prstGeom prst="ellipse">
            <a:avLst/>
          </a:prstGeom>
          <a:solidFill>
            <a:srgbClr val="ffb8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143160" y="164304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или реч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Шестиугольник 5"/>
          <p:cNvSpPr/>
          <p:nvPr/>
        </p:nvSpPr>
        <p:spPr>
          <a:xfrm>
            <a:off x="142920" y="3429000"/>
            <a:ext cx="2786040" cy="242892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Шестиугольник 6"/>
          <p:cNvSpPr/>
          <p:nvPr/>
        </p:nvSpPr>
        <p:spPr>
          <a:xfrm>
            <a:off x="3286080" y="3429000"/>
            <a:ext cx="2500200" cy="2143080"/>
          </a:xfrm>
          <a:prstGeom prst="hexagon">
            <a:avLst>
              <a:gd name="adj" fmla="val 25001"/>
              <a:gd name="vf" fmla="val 115470"/>
            </a:avLst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Шестиугольник 7"/>
          <p:cNvSpPr/>
          <p:nvPr/>
        </p:nvSpPr>
        <p:spPr>
          <a:xfrm>
            <a:off x="6143760" y="3357720"/>
            <a:ext cx="2714400" cy="23572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ff71e5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10"/>
          <p:cNvCxnSpPr/>
          <p:nvPr/>
        </p:nvCxnSpPr>
        <p:spPr>
          <a:xfrm flipH="1">
            <a:off x="1571040" y="2570760"/>
            <a:ext cx="1215000" cy="786600"/>
          </a:xfrm>
          <a:prstGeom prst="straightConnector1">
            <a:avLst/>
          </a:prstGeom>
          <a:ln w="38160">
            <a:solidFill>
              <a:srgbClr val="ab0043"/>
            </a:solidFill>
            <a:miter/>
            <a:tailEnd len="med" type="arrow" w="med"/>
          </a:ln>
        </p:spPr>
      </p:cxnSp>
      <p:cxnSp>
        <p:nvCxnSpPr>
          <p:cNvPr id="94" name="Прямая со стрелкой 11"/>
          <p:cNvCxnSpPr/>
          <p:nvPr/>
        </p:nvCxnSpPr>
        <p:spPr>
          <a:xfrm flipH="1">
            <a:off x="4427280" y="2857320"/>
            <a:ext cx="2160" cy="50076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cxnSp>
        <p:nvCxnSpPr>
          <p:cNvPr id="95" name="Прямая со стрелкой 13"/>
          <p:cNvCxnSpPr/>
          <p:nvPr/>
        </p:nvCxnSpPr>
        <p:spPr>
          <a:xfrm>
            <a:off x="6357600" y="2428560"/>
            <a:ext cx="1072440" cy="857880"/>
          </a:xfrm>
          <a:prstGeom prst="straightConnector1">
            <a:avLst/>
          </a:prstGeom>
          <a:ln w="38160">
            <a:solidFill>
              <a:srgbClr val="bf1e62"/>
            </a:solidFill>
            <a:miter/>
            <a:tailEnd len="med" type="arrow" w="med"/>
          </a:ln>
        </p:spPr>
      </p:cxnSp>
      <p:sp>
        <p:nvSpPr>
          <p:cNvPr id="96" name="TextBox 15"/>
          <p:cNvSpPr/>
          <p:nvPr/>
        </p:nvSpPr>
        <p:spPr>
          <a:xfrm>
            <a:off x="357120" y="4143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ни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3500280" y="400068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гово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7"/>
          <p:cNvSpPr/>
          <p:nvPr/>
        </p:nvSpPr>
        <p:spPr>
          <a:xfrm>
            <a:off x="6215040" y="421488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блиц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0" descr="HH00623_.WMF"/>
          <p:cNvPicPr/>
          <p:nvPr/>
        </p:nvPicPr>
        <p:blipFill>
          <a:blip r:embed="rId1"/>
          <a:stretch/>
        </p:blipFill>
        <p:spPr>
          <a:xfrm>
            <a:off x="6715080" y="4786200"/>
            <a:ext cx="1357200" cy="7588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21" descr="HH00546_.WMF"/>
          <p:cNvPicPr/>
          <p:nvPr/>
        </p:nvPicPr>
        <p:blipFill>
          <a:blip r:embed="rId2"/>
          <a:stretch/>
        </p:blipFill>
        <p:spPr>
          <a:xfrm>
            <a:off x="1071720" y="4786200"/>
            <a:ext cx="928440" cy="9493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22" descr="J0292278.WMF"/>
          <p:cNvPicPr/>
          <p:nvPr/>
        </p:nvPicPr>
        <p:blipFill>
          <a:blip r:embed="rId3"/>
          <a:stretch/>
        </p:blipFill>
        <p:spPr>
          <a:xfrm>
            <a:off x="3643200" y="4500720"/>
            <a:ext cx="16448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15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115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3840"/>
            <a:ext cx="822960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Распределить фразеологизмы по сфе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употребления: разговорный,книжный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ублицис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дить за нос, ломать голову, сложи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ужие, сдержать слово, карточный доми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года в год, краеугольный камень, лома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лову, кривить душой, гадать на кофейн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уще, дамоклов меч, под открытым неб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" y="213840"/>
            <a:ext cx="9001080" cy="60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Книжны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ложить оружие, карточны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домик, дамоклов меч, краеугольный камень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Публицистический: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сдержать слово, под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ткрытым небом, из года в год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030a0"/>
                </a:solidFill>
                <a:latin typeface="Times New Roman"/>
              </a:rPr>
              <a:t>Разговорный: в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одить за нос, ломать голову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кривить душой, гадать на кофейной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гуще,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Откуда берутся фразеологиз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Овальная выноска 3"/>
          <p:cNvSpPr/>
          <p:nvPr/>
        </p:nvSpPr>
        <p:spPr>
          <a:xfrm>
            <a:off x="214200" y="642960"/>
            <a:ext cx="3571920" cy="20718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d7e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ьная выноска 4"/>
          <p:cNvSpPr/>
          <p:nvPr/>
        </p:nvSpPr>
        <p:spPr>
          <a:xfrm>
            <a:off x="3143160" y="2000160"/>
            <a:ext cx="3857760" cy="2500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ьная выноска 5"/>
          <p:cNvSpPr/>
          <p:nvPr/>
        </p:nvSpPr>
        <p:spPr>
          <a:xfrm>
            <a:off x="142920" y="3643200"/>
            <a:ext cx="4000320" cy="278604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ьная выноска 6"/>
          <p:cNvSpPr/>
          <p:nvPr/>
        </p:nvSpPr>
        <p:spPr>
          <a:xfrm>
            <a:off x="5643720" y="571680"/>
            <a:ext cx="3500280" cy="19285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ьная выноска 7"/>
          <p:cNvSpPr/>
          <p:nvPr/>
        </p:nvSpPr>
        <p:spPr>
          <a:xfrm>
            <a:off x="5143680" y="3857760"/>
            <a:ext cx="3857400" cy="26431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51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500040" y="928800"/>
            <a:ext cx="3286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конно рус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атывать удочки,     расправлять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5929200" y="78588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тарославян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зеницу ок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т мира 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3643200" y="2286000"/>
            <a:ext cx="350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Из разных професс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гущать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д кон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к общему знаменат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785880" y="392904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Крыл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ва из миф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хиллесова пя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ть Ариад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моклов ме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6000840" y="4500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рылатые слова и выражения, созданные писате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ый кор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600" spc="-1" strike="noStrike">
                <a:solidFill>
                  <a:srgbClr val="c00000"/>
                </a:solidFill>
                <a:latin typeface="Times New Roman"/>
              </a:rPr>
              <a:t>Прочитайте. На сколько групп можно распределить фразеологизмы? Какие это группы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ломя голову, и дело с концом, во всю прыть, и след простыл, дело в шляпе, поминай как зв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I – сломя голову, во всю прыть; II – и дело с концом, дело в шляпе; III – и след простыл, поминай как звали.)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Улыбающееся лицо 5"/>
          <p:cNvSpPr/>
          <p:nvPr/>
        </p:nvSpPr>
        <p:spPr>
          <a:xfrm>
            <a:off x="357120" y="3357720"/>
            <a:ext cx="8215560" cy="314316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285840" y="500040"/>
            <a:ext cx="8501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мените подчеркнутые слова фразеологизмами. Что изменилось? Предложения запиши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. Вера Сергеевна объясняла решение задачи, н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тя не слушал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. Ира узнала, что поездка откладывается, и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грустил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. Кирилл целый ден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бездельнича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. Мы догадывались, что он нас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маныва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. Первого сентября Уля проснулась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чень ран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равочный материал: повесить нос, водить за нос, ни свет ни заря,  бить баклуши, пропустить мимо ушей.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429000" y="214200"/>
            <a:ext cx="5572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познакомить учащихся с фразеологизмам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употреблять в речи фразеологизмы с целью ее обогащ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901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005f"/>
                </a:solidFill>
                <a:latin typeface="Times New Roman"/>
              </a:rPr>
              <a:t>учить находить фразеологизмы в текст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Рисунок 3" descr="SY01253_.WMF"/>
          <p:cNvPicPr/>
          <p:nvPr/>
        </p:nvPicPr>
        <p:blipFill>
          <a:blip r:embed="rId1"/>
          <a:stretch/>
        </p:blipFill>
        <p:spPr>
          <a:xfrm>
            <a:off x="0" y="1857240"/>
            <a:ext cx="44388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357120" y="172440"/>
            <a:ext cx="85010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Прочитайте текст. Кто больше найдет фразеологизмов в текс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й самый близкий друг Шурик любил, оказывается, считать ворон, бить баклуши и гонять лодыря. Дома он, как о том были наслышаны все в квартале, палец о палец не ударял, чтобы помочь бабушке. Как его только ни корили вернувшиеся с работы родители, что ему ни выговаривали, а ему все нипочем. В один из вечеров мы, приятели Шурика, услышали, что на его месте мы давно бы сквозь землю провалились и что мучили бы нас угрызения совести. А этому, что ни толку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одно ухо влетает, в другое вылетает. И таким он, оказывается, был и когда от горшка два вершка только составлял, и теперь, вымахавши с коломенскую версту. Все с него как с гуся вода, все ему что об стенку горо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, мат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заключил однажды отец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я больше не намерен бросать слова на ветер и сидеть сложа ру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н потянулся за ремнем на стене, чтобы Шурику всыпать по первое число, задать баню, снять с него стружку и в конце концов показать, где раки зимуют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Э.А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танья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Найдите в тексте фразеологизмы, которые имеют одинаковое значение? Назовите их. Каково их знач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28760" y="-3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Спасибо за урок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ы сегодня не переливали из пустого в порожнее, а работали не покладая рук. И хоть к концу урока мы немного устали, но не вышли из себя, а взяли себя в руки и продолжили работу. И в классе не было ни одного, кто бы смотрел на работу одноклассников                   сквозь паль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Рисунок 3" descr="http://nsc.1september.ru/2004/24/16.gif"/>
          <p:cNvPicPr/>
          <p:nvPr/>
        </p:nvPicPr>
        <p:blipFill>
          <a:blip r:embed="rId1"/>
          <a:stretch/>
        </p:blipFill>
        <p:spPr>
          <a:xfrm>
            <a:off x="285840" y="3429000"/>
            <a:ext cx="2071440" cy="326232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http://nsc.1september.ru/2004/24/17.gif"/>
          <p:cNvPicPr/>
          <p:nvPr/>
        </p:nvPicPr>
        <p:blipFill>
          <a:blip r:embed="rId2"/>
          <a:stretch/>
        </p:blipFill>
        <p:spPr>
          <a:xfrm>
            <a:off x="6357960" y="3071880"/>
            <a:ext cx="2610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7200" y="428400"/>
            <a:ext cx="8229600" cy="58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1"/>
              </a:rPr>
              <a:t>http://tmn.fio.ru/works/97x/305/41.ht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dob.1september.ru/2001/09/11.ht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Book Antiqua"/>
                <a:hlinkClick r:id="rId2"/>
              </a:rPr>
              <a:t>http://www.encsite.info/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ровин М.И. Словарь «Русские фразеологизмы в картинках» – М.: Русский язык, 1981 г.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ль В.Словарь «Пословицы и поговорки» – М.: Просвещение, 1957 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21384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Фразеологизм –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это устойчивое  неделимое сочетание слов , которое можно заменить синонимом, одним слов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Phrasi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выраж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7030a0"/>
                </a:solidFill>
                <a:latin typeface="Book Antiqua"/>
              </a:rPr>
              <a:t>Logos 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учени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425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Лексическое  значение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меет вес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 в цел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Фразеологизмы – это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средств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выразительности язы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, он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лают нашу речь эмоционально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ыразительной и ярко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5" descr="«Море по колено»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"/>
          <p:cNvSpPr/>
          <p:nvPr/>
        </p:nvSpPr>
        <p:spPr>
          <a:xfrm>
            <a:off x="0" y="457560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ичто не страш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8" descr="«Мухи не обидит»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4357800" y="307224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кроткий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0" descr="«Как две капли воды»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2071800" y="62154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чень похожи друг на дру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3"/>
          <p:cNvSpPr/>
          <p:nvPr/>
        </p:nvSpPr>
        <p:spPr>
          <a:xfrm>
            <a:off x="357120" y="5000760"/>
            <a:ext cx="250056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4"/>
          <p:cNvSpPr/>
          <p:nvPr/>
        </p:nvSpPr>
        <p:spPr>
          <a:xfrm>
            <a:off x="5072040" y="5715000"/>
            <a:ext cx="3429000" cy="100008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лыбающееся лицо 15"/>
          <p:cNvSpPr/>
          <p:nvPr/>
        </p:nvSpPr>
        <p:spPr>
          <a:xfrm>
            <a:off x="6643800" y="2928960"/>
            <a:ext cx="2500200" cy="1143000"/>
          </a:xfrm>
          <a:prstGeom prst="smileyFace">
            <a:avLst>
              <a:gd name="adj" fmla="val 9282"/>
            </a:avLst>
          </a:prstGeom>
          <a:solidFill>
            <a:srgbClr val="c3dd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4" descr="«Тянуть кота за хвост»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0" y="257544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6" descr="«Не разлей вода»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857840" y="500256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жны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«Витать в облаках»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285840" y="621540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меч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1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2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f1b2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«Плясать под чужую дудку»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"/>
          <p:cNvSpPr/>
          <p:nvPr/>
        </p:nvSpPr>
        <p:spPr>
          <a:xfrm>
            <a:off x="-142920" y="2504520"/>
            <a:ext cx="52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Плясать под чужую дудку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беспрекословно выполнять волю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5" descr="«Сесть на шею»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357880" y="5662080"/>
            <a:ext cx="350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Сесть на шею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ыть обузой дл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8" descr="«Водить за нос»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6216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«Водить за нос»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обманы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5286240" y="6143760"/>
            <a:ext cx="3643560" cy="5713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1"/>
          <p:cNvSpPr/>
          <p:nvPr/>
        </p:nvSpPr>
        <p:spPr>
          <a:xfrm>
            <a:off x="2786040" y="6286680"/>
            <a:ext cx="178596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2"/>
          <p:cNvSpPr/>
          <p:nvPr/>
        </p:nvSpPr>
        <p:spPr>
          <a:xfrm>
            <a:off x="285840" y="2928960"/>
            <a:ext cx="4357440" cy="357120"/>
          </a:xfrm>
          <a:prstGeom prst="rect">
            <a:avLst/>
          </a:prstGeom>
          <a:solidFill>
            <a:srgbClr val="ffc7d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4"/>
          <p:cNvSpPr/>
          <p:nvPr/>
        </p:nvSpPr>
        <p:spPr>
          <a:xfrm>
            <a:off x="428760" y="214200"/>
            <a:ext cx="84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удожник-иностранец продолжает изучать русский язык. Но во фразеологизмах он никак не может разобраться. Назовите фразеологизмы, которые здесь им изображены. Когда они употребляются? Составьте с ними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http://tmn.fio.ru/works/97x/305/kroc.gif"/>
          <p:cNvPicPr/>
          <p:nvPr/>
        </p:nvPicPr>
        <p:blipFill>
          <a:blip r:embed="rId1"/>
          <a:stretch/>
        </p:blipFill>
        <p:spPr>
          <a:xfrm>
            <a:off x="0" y="1785960"/>
            <a:ext cx="3643200" cy="32148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6" descr="http://tmn.fio.ru/works/97x/305/basm1.gif"/>
          <p:cNvPicPr/>
          <p:nvPr/>
        </p:nvPicPr>
        <p:blipFill>
          <a:blip r:embed="rId2"/>
          <a:stretch/>
        </p:blipFill>
        <p:spPr>
          <a:xfrm>
            <a:off x="5786280" y="164304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7" descr="http://tmn.fio.ru/works/97x/305/bik.gif"/>
          <p:cNvPicPr/>
          <p:nvPr/>
        </p:nvPicPr>
        <p:blipFill>
          <a:blip r:embed="rId3"/>
          <a:stretch/>
        </p:blipFill>
        <p:spPr>
          <a:xfrm>
            <a:off x="3714840" y="4081320"/>
            <a:ext cx="39528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http://tmn.fio.ru/works/97x/305/zvezda.jpg"/>
          <p:cNvPicPr/>
          <p:nvPr/>
        </p:nvPicPr>
        <p:blipFill>
          <a:blip r:embed="rId1"/>
          <a:stretch/>
        </p:blipFill>
        <p:spPr>
          <a:xfrm>
            <a:off x="285840" y="142920"/>
            <a:ext cx="3000240" cy="4429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http://tmn.fio.ru/works/97x/305/butilka.gif"/>
          <p:cNvPicPr/>
          <p:nvPr/>
        </p:nvPicPr>
        <p:blipFill>
          <a:blip r:embed="rId2"/>
          <a:stretch/>
        </p:blipFill>
        <p:spPr>
          <a:xfrm>
            <a:off x="6786720" y="1071720"/>
            <a:ext cx="2143080" cy="45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http://tmn.fio.ru/works/97x/305/lis.gif"/>
          <p:cNvPicPr/>
          <p:nvPr/>
        </p:nvPicPr>
        <p:blipFill>
          <a:blip r:embed="rId3"/>
          <a:stretch/>
        </p:blipFill>
        <p:spPr>
          <a:xfrm>
            <a:off x="3643200" y="357120"/>
            <a:ext cx="2810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tele"/>
          <p:cNvPicPr/>
          <p:nvPr/>
        </p:nvPicPr>
        <p:blipFill>
          <a:blip r:embed="rId4"/>
          <a:stretch/>
        </p:blipFill>
        <p:spPr>
          <a:xfrm>
            <a:off x="2714760" y="4071960"/>
            <a:ext cx="380988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15:39:27Z</dcterms:created>
  <dc:creator>Никита</dc:creator>
  <dc:description/>
  <dc:language>en-US</dc:language>
  <cp:lastModifiedBy>Никита</cp:lastModifiedBy>
  <dcterms:modified xsi:type="dcterms:W3CDTF">2008-10-10T16:46:49Z</dcterms:modified>
  <cp:revision>30</cp:revision>
  <dc:subject/>
  <dc:title>Фразеология</dc:title>
</cp:coreProperties>
</file>