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B1AD-0B19-492E-8B08-5D029444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ED9-BF59-47C8-AD72-1F017928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B98D-1244-4E41-9A1F-E061B971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5B0-A349-425C-8129-BA8B06F2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4F9E-DEB7-4FC1-81A0-6C4CD1AC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1F86-121D-40F4-B6C7-BE20625A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3B57-1566-478B-8391-5A532792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0A10-381C-484C-913C-34AC4E01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2D2-5A0E-40E1-A25E-BA027749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0556-8C2E-4158-877E-02ADB83B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293-2D12-4DC2-A871-0594C2CD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31F-2DDA-4DFB-9157-443FDC82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01D3-0A17-4CCB-B4F8-3AB2ECBE9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268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Monotype Corsiva"/>
              </a:rPr>
              <a:t>Правописание гласных в корне сло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404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Monotype Corsiva"/>
              </a:rPr>
              <a:t>Класс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43640" y="2565360"/>
            <a:ext cx="223524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67280" y="3284640"/>
            <a:ext cx="1865160" cy="244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0920" y="2421000"/>
            <a:ext cx="3457440" cy="2895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59280" y="620640"/>
            <a:ext cx="3444840" cy="51847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11280" y="620640"/>
            <a:ext cx="3457440" cy="518472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79280" y="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К следующим толкованиям слов подберите в приведённом ниже списке соответствующие терм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48428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аткий, немногословный, чёткий в изложени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98900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, мыслительная способность, умственное начало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человеке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78136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гнетатель, мучитель, деспот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335772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ладающий большой внутренней культуро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39337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граничение в правах, лишение равноправ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443700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енародный опрос, голосование для решения важного государственного вопрос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530064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тавлять свою кандидатуру для голосован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00000" y="476280"/>
            <a:ext cx="691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Чередующиеся гласные в корн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7964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Гласная выбирается в зависимости о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2637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3cbd"/>
                </a:solidFill>
                <a:latin typeface="Arial"/>
              </a:rPr>
              <a:t>2) наличия или отсутствия      А после</a:t>
            </a:r>
            <a:r>
              <a:rPr b="1" lang="en-US" sz="2000" spc="-1" strike="noStrike">
                <a:solidFill>
                  <a:srgbClr val="d23cbd"/>
                </a:solidFill>
                <a:latin typeface="Arial"/>
              </a:rPr>
              <a:t>             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) уда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4005360"/>
            <a:ext cx="34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3) последнего согласного в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3737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4) зна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2276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01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95008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321300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43700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50920" y="3357720"/>
            <a:ext cx="145800" cy="142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94920" y="3357720"/>
            <a:ext cx="144360" cy="142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 rot="14212800">
            <a:off x="1399680" y="3427560"/>
            <a:ext cx="1193040" cy="12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9017" swAng="5360561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9017" swAng="5360561"/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14212800">
            <a:off x="2272680" y="4427640"/>
            <a:ext cx="1193040" cy="124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9017" swAng="5360561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9017" swAng="5360561"/>
              </a:path>
            </a:pathLst>
          </a:cu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89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76720" y="476280"/>
            <a:ext cx="3605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люч к упр. 49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1341360"/>
            <a:ext cx="8964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Заг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еть – заг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;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           по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иться – 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ыб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ать – выб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у;                           пред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ать – пред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ж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опри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аться – сопри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нуться;   вы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ить – вы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б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ящий – б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ающий;               об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нуть – про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ну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ыч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ь – выч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ать;                          у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 – 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няться – у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ень;                          выс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ивать – выс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ч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оз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ять – з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и;                                     подн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маться – подн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я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подж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атель – подж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ё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lum contrast="18000"/>
          </a:blip>
          <a:srcRect l="2770" t="20007" r="35685" b="23994"/>
          <a:stretch/>
        </p:blipFill>
        <p:spPr>
          <a:xfrm>
            <a:off x="1403280" y="189000"/>
            <a:ext cx="1068480" cy="100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333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55640" y="260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равописание гласных в кор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836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Впишите в пустые графы таблицы подзаголовки. Подкрепите своими примерами каждое положение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1628640"/>
          <a:ext cx="8785440" cy="5086440"/>
        </p:xfrm>
        <a:graphic>
          <a:graphicData uri="http://schemas.openxmlformats.org/drawingml/2006/table">
            <a:tbl>
              <a:tblPr/>
              <a:tblGrid>
                <a:gridCol w="1513080"/>
                <a:gridCol w="1655640"/>
                <a:gridCol w="1224000"/>
                <a:gridCol w="1295280"/>
                <a:gridCol w="1441440"/>
                <a:gridCol w="1656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веряемые безударные глас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нетение – гнё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ляденье – взгляд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цед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тали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ор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е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н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ыга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ре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ут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са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тир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чет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чет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ст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к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кач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кач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трас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в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а выр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акну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мокаем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0" y="189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26920" y="47628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341360"/>
            <a:ext cx="6120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, 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. 54 (по заданию) стр. 3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ст на стр. 44-46, с 20 по 3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читать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18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4620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 Narrow"/>
              </a:rPr>
              <a:t>Спишите словообразовательное гнездо, вставляя нужны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04000" y="3573360"/>
            <a:ext cx="23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249228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249228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1413000"/>
            <a:ext cx="0" cy="1368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7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155736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03640" y="1557360"/>
            <a:ext cx="574920" cy="71280"/>
          </a:xfrm>
          <a:prstGeom prst="rightArrow">
            <a:avLst>
              <a:gd name="adj1" fmla="val 50000"/>
              <a:gd name="adj2" fmla="val 20164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1268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421000"/>
            <a:ext cx="432000" cy="71280"/>
          </a:xfrm>
          <a:prstGeom prst="rightArrow">
            <a:avLst>
              <a:gd name="adj1" fmla="val 50000"/>
              <a:gd name="adj2" fmla="val 151515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04000" y="220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оце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4292640"/>
            <a:ext cx="82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Прикоснуться,      расстелить,        разби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900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42900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Arial Narrow"/>
              </a:rPr>
              <a:t>Сделайте морфемный разбор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9640" y="476280"/>
            <a:ext cx="784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роверяемые безударные гласные в кор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341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Чтобы не ошибиться в написании безударной гласной в корне, необходим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56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выяснить лексическое значение слова (или кор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364500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3357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определить, проверяется безударная гласная ударением или она непроверяемая, не является ли она чередующей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2200" y="779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86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Выбрать способ проверки гласной в кор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8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92360" y="476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Анализ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197000"/>
            <a:ext cx="78487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ставьте пропущенные бук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Укажите признаки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Определите его тему, основную мыс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ыделите микро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8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404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5640" y="189000"/>
            <a:ext cx="39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Из истории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90792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с неполногласи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старославян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907920"/>
            <a:ext cx="280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с полногласием -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древнерус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2205000"/>
            <a:ext cx="5905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342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3933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365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86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373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2637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805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89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187560"/>
            <a:ext cx="7993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!!!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виду, что в качестве проверочных сл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ельз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ть глаг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суффиксами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-ЫВА, -ИВА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как в них происходит чередование |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–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О||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781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1230400">
            <a:off x="2700360" y="2923920"/>
            <a:ext cx="1368360" cy="144360"/>
          </a:xfrm>
          <a:prstGeom prst="rightArrow">
            <a:avLst>
              <a:gd name="adj1" fmla="val 30880"/>
              <a:gd name="adj2" fmla="val 158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2349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350028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515772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1230400">
            <a:off x="2987280" y="5084280"/>
            <a:ext cx="1368360" cy="144720"/>
          </a:xfrm>
          <a:prstGeom prst="rightArrow">
            <a:avLst>
              <a:gd name="adj1" fmla="val 30880"/>
              <a:gd name="adj2" fmla="val 1577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855000">
            <a:off x="2916360" y="5876640"/>
            <a:ext cx="1368360" cy="144360"/>
          </a:xfrm>
          <a:prstGeom prst="rightArrow">
            <a:avLst>
              <a:gd name="adj1" fmla="val 30880"/>
              <a:gd name="adj2" fmla="val 158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4724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56000" y="5734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2637000"/>
            <a:ext cx="1008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59280" y="2636640"/>
            <a:ext cx="576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276720" y="5589360"/>
            <a:ext cx="576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5516640"/>
            <a:ext cx="719280" cy="792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731400">
            <a:off x="2771280" y="3644640"/>
            <a:ext cx="1368720" cy="144360"/>
          </a:xfrm>
          <a:prstGeom prst="rightArrow">
            <a:avLst>
              <a:gd name="adj1" fmla="val 30880"/>
              <a:gd name="adj2" fmla="val 1581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89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55640" y="620640"/>
            <a:ext cx="784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епроверяемые безударные гласные в корн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557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Написание безударных гласных, не проверяемых ударением, определяется по орфографическому слова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924280"/>
            <a:ext cx="889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…стибюль,  акк…мп…немент,  об…я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в…ждение,  возр…жать,  ди…пазон,  пан…рам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…риферия,  ув…ртюра,  эксп…ри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пр…визация,  к…мб…незон,  экстрав…гант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 rot="276600">
            <a:off x="3205080" y="71280"/>
            <a:ext cx="432108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 биографии слов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197000"/>
            <a:ext cx="43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Орфография слова есть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биография слова.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                   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133720"/>
            <a:ext cx="63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Вставьте буквы,  определите лексическое значение слов, в случае затруднения, обратитесь к этимологическому словар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284640"/>
            <a:ext cx="684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О б.. я н и 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О б.. н я н и 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250920" y="404640"/>
            <a:ext cx="1942920" cy="230364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00360" y="393372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5229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773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.И.Срезн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788000" y="1268280"/>
            <a:ext cx="4064040" cy="4824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22200" y="1268280"/>
            <a:ext cx="4105440" cy="4824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187280" y="189000"/>
            <a:ext cx="20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Дал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765000"/>
            <a:ext cx="4105080" cy="3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Владимир  Иванович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32360" y="189000"/>
            <a:ext cx="367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Срезнев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8000" y="782640"/>
            <a:ext cx="403380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Измаил  Иванович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519880" y="6237360"/>
            <a:ext cx="2581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12 - 1880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82800" y="6237360"/>
            <a:ext cx="2581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1 - 187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9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6:00:01Z</dcterms:created>
  <dc:creator>Юра</dc:creator>
  <dc:description/>
  <dc:language>en-US</dc:language>
  <cp:lastModifiedBy>Юра</cp:lastModifiedBy>
  <dcterms:modified xsi:type="dcterms:W3CDTF">2008-01-18T19:02:47Z</dcterms:modified>
  <cp:revision>43</cp:revision>
  <dc:subject/>
  <dc:title>Слайд 1</dc:title>
</cp:coreProperties>
</file>