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47A-EE94-4941-8198-24EA31C0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865-C947-4CC3-B7A6-E4D7FE18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BFD-A838-4E1C-93D2-0D7E9152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2856-B1CB-466E-8C96-5CF8D9410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DD13-96E5-4133-A190-60F0831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567-D08D-4C2F-BB36-461D6D16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4E0C-2FF0-4E03-AFAF-DD675E96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B73-8DCF-4B91-A150-B1B287E8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9222-540B-41FC-90D0-BE716D1D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691-66B5-40C4-AA88-E068F3CE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3269-9445-4F1B-98AE-2EBAC0AA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E451-2CC8-414D-B17F-660E434F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7E62-3C31-4707-95A4-3B0501026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26828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Monotype Corsiva"/>
              </a:rPr>
              <a:t>Правописание гласных в корне слов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40464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Monotype Corsiva"/>
              </a:rPr>
              <a:t>Классная рабо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43640" y="2565360"/>
            <a:ext cx="223524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1865160" cy="2449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34574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59280" y="620640"/>
            <a:ext cx="3444840" cy="518472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11280" y="620640"/>
            <a:ext cx="3457440" cy="5184720"/>
          </a:xfrm>
          <a:prstGeom prst="rect">
            <a:avLst/>
          </a:prstGeom>
          <a:ln w="28440">
            <a:solidFill>
              <a:srgbClr val="993300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179280" y="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260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К следующим толкованиям слов подберите в приведённом ниже списке соответствующие терм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14842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аткий, немногословный, чёткий в изложении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9280" y="19890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, мыслительная способность, умственное начало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человеке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781360"/>
            <a:ext cx="73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гнетатель, мучитель, деспот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335772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ладающий большой внутренней культурой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393372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граничение в правах, лишение равноправ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280" y="443700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сенародный опрос, голосование для решения важного государственного вопроса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530064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ставлять свою кандидатуру для голосования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00000" y="476280"/>
            <a:ext cx="6912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Чередующиеся гласные в корн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7964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5050"/>
                </a:solidFill>
                <a:latin typeface="Arial"/>
              </a:rPr>
              <a:t>Гласная выбирается в зависимости от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37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3cbd"/>
                </a:solidFill>
                <a:latin typeface="Arial"/>
              </a:rPr>
              <a:t>2) наличия или отсутствия      А после</a:t>
            </a:r>
            <a:r>
              <a:rPr b="1" lang="en-US" sz="2000" spc="-1" strike="noStrike">
                <a:solidFill>
                  <a:srgbClr val="d23cbd"/>
                </a:solidFill>
                <a:latin typeface="Arial"/>
              </a:rPr>
              <a:t> 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844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) удар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400536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3) последнего согласного в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537372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4) знач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276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3860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5013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59500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987640" y="3213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443700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250920" y="3357720"/>
            <a:ext cx="14580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94920" y="3357720"/>
            <a:ext cx="144360" cy="142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 rot="14212800">
            <a:off x="1399680" y="3427560"/>
            <a:ext cx="1193040" cy="124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14212800">
            <a:off x="2272680" y="4427640"/>
            <a:ext cx="1193040" cy="124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64" y="199"/>
                </a:moveTo>
                <a:arcTo wR="10800" hR="10800" stAng="-4739017" swAng="5360561"/>
                <a:lnTo>
                  <a:pt x="10800" y="10800"/>
                </a:lnTo>
                <a:close/>
              </a:path>
              <a:path fill="none" w="21600" h="21600">
                <a:moveTo>
                  <a:pt x="12864" y="199"/>
                </a:moveTo>
                <a:arcTo wR="10800" hR="10800" stAng="-4739017" swAng="5360561"/>
              </a:path>
            </a:pathLst>
          </a:custGeom>
          <a:noFill/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276720" y="476280"/>
            <a:ext cx="36050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Ключ к упр. 49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1341360"/>
            <a:ext cx="8964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еть – заг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;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               по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и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ать – выб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у;                          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ь – пред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ж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аться – сопри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нуться;  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ить – вы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ящий – б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ающий;               об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 – пром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ну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сть – выч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ать;                          у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 – кл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ня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няться – ур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вень;                         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кивать – выск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ч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о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ять – з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ри;                                    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маться – подн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я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и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атель – подж</a:t>
            </a: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ё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>
            <a:lum contrast="18000"/>
          </a:blip>
          <a:srcRect l="2770" t="20007" r="35685" b="23994"/>
          <a:stretch/>
        </p:blipFill>
        <p:spPr>
          <a:xfrm>
            <a:off x="1403280" y="189000"/>
            <a:ext cx="1068480" cy="100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333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65564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Правописание гласных в кор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836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00"/>
                </a:solidFill>
                <a:latin typeface="Times New Roman"/>
              </a:rPr>
              <a:t>Впишите в пустые графы таблицы подзаголовки. Подкрепите своими примерами каждое положение табл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79280" y="1628640"/>
          <a:ext cx="8785440" cy="5086440"/>
        </p:xfrm>
        <a:graphic>
          <a:graphicData uri="http://schemas.openxmlformats.org/drawingml/2006/table">
            <a:tbl>
              <a:tblPr/>
              <a:tblGrid>
                <a:gridCol w="1513080"/>
                <a:gridCol w="1655640"/>
                <a:gridCol w="1224000"/>
                <a:gridCol w="1295280"/>
                <a:gridCol w="1441440"/>
                <a:gridCol w="16560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веряемые безударные глас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нетение – гнёт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ляденье – взгля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цед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т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спери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горе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ворец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выга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заре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утв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са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тир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оче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ст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как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кач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отрас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исл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остовщ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на выр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макну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омокаем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ять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0" y="189000"/>
            <a:ext cx="14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26920" y="47628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Comic Sans MS"/>
              </a:rPr>
              <a:t>Домашнее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9640" y="1341360"/>
            <a:ext cx="61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, у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. 54 (по заданию) стр. 3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ст на стр. 44-46, с 20 по 3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ть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18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620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 Narrow"/>
              </a:rPr>
              <a:t>Спишите словообразовательное гнездо, вставляя нужные сл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04000" y="3573360"/>
            <a:ext cx="23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51280" y="2492280"/>
            <a:ext cx="576360" cy="71640"/>
          </a:xfrm>
          <a:prstGeom prst="rightArrow">
            <a:avLst>
              <a:gd name="adj1" fmla="val 50000"/>
              <a:gd name="adj2" fmla="val 20113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1413000"/>
            <a:ext cx="0" cy="1368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1773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1557360"/>
            <a:ext cx="576360" cy="71280"/>
          </a:xfrm>
          <a:prstGeom prst="rightArrow">
            <a:avLst>
              <a:gd name="adj1" fmla="val 50000"/>
              <a:gd name="adj2" fmla="val 202146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03640" y="1557360"/>
            <a:ext cx="574920" cy="71280"/>
          </a:xfrm>
          <a:prstGeom prst="rightArrow">
            <a:avLst>
              <a:gd name="adj1" fmla="val 50000"/>
              <a:gd name="adj2" fmla="val 201641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268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421000"/>
            <a:ext cx="432000" cy="71280"/>
          </a:xfrm>
          <a:prstGeom prst="rightArrow">
            <a:avLst>
              <a:gd name="adj1" fmla="val 50000"/>
              <a:gd name="adj2" fmla="val 151515"/>
            </a:avLst>
          </a:prstGeom>
          <a:solidFill>
            <a:srgbClr val="bbe0e3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оцен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4292640"/>
            <a:ext cx="82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Прикоснуться,      расстелить,        разби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6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42900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Arial Narrow"/>
              </a:rPr>
              <a:t>Сделайте морфемный разбор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39640" y="476280"/>
            <a:ext cx="7848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Проверяемые безударные гласные в корн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Times New Roman"/>
              </a:rPr>
              <a:t>Чтобы не ошибиться в написании безударной гласной в корне,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2565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выяснить лексическое значение слова (или корн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3645000"/>
            <a:ext cx="51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определить, проверяется безударная гласная ударением или она непроверяемая, не является ли она чередующей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92200" y="7792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6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Выбрать способ проверки гласной в кор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8900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92360" y="476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Monotype Corsiva"/>
              </a:rPr>
              <a:t>Анали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197000"/>
            <a:ext cx="784872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ставьте пропущенные букв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Укажите признаки тек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Определите его тему, основную мыс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66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Выделите микро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89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0920" y="40464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5640" y="189000"/>
            <a:ext cx="395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99"/>
                </a:solidFill>
                <a:latin typeface="Monotype Corsiva"/>
              </a:rPr>
              <a:t>Из истории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907920"/>
            <a:ext cx="32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неполногласие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старославян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907920"/>
            <a:ext cx="280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лова с полногласием -</a:t>
            </a:r>
            <a:r>
              <a:rPr b="1" lang="en-US" sz="2400" spc="-1" strike="noStrike">
                <a:solidFill>
                  <a:srgbClr val="ff5050"/>
                </a:solidFill>
                <a:latin typeface="Comic Sans MS"/>
              </a:rPr>
              <a:t>древнерус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2205000"/>
            <a:ext cx="590544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т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р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en-US" sz="2000" spc="-1" strike="noStrike">
                <a:solidFill>
                  <a:srgbClr val="990099"/>
                </a:solidFill>
                <a:latin typeface="Arial"/>
              </a:rPr>
              <a:t>л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2997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393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365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373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2637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80536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187560"/>
            <a:ext cx="7993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Times New Roman"/>
              </a:rPr>
              <a:t>!!!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виду, что в качестве проверочных сл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нельз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овать глаг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 суффиксами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-ЫВА, -ИВ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 как в них происходит чередование |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– </a:t>
            </a: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  <a:ea typeface="Times New Roman"/>
              </a:rPr>
              <a:t>О||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278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21230400">
            <a:off x="2700360" y="292392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234936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500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157720"/>
            <a:ext cx="273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21230400">
            <a:off x="2987280" y="5084280"/>
            <a:ext cx="1368360" cy="144720"/>
          </a:xfrm>
          <a:prstGeom prst="rightArrow">
            <a:avLst>
              <a:gd name="adj1" fmla="val 30880"/>
              <a:gd name="adj2" fmla="val 1577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855000">
            <a:off x="2916360" y="5876640"/>
            <a:ext cx="1368360" cy="144360"/>
          </a:xfrm>
          <a:prstGeom prst="rightArrow">
            <a:avLst>
              <a:gd name="adj1" fmla="val 30880"/>
              <a:gd name="adj2" fmla="val 15815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4724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56000" y="5734080"/>
            <a:ext cx="41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бр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ы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2637000"/>
            <a:ext cx="1008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059280" y="263664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276720" y="5589360"/>
            <a:ext cx="576000" cy="647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516640"/>
            <a:ext cx="719280" cy="792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731400">
            <a:off x="2771280" y="3644640"/>
            <a:ext cx="1368720" cy="144360"/>
          </a:xfrm>
          <a:prstGeom prst="rightArrow">
            <a:avLst>
              <a:gd name="adj1" fmla="val 30880"/>
              <a:gd name="adj2" fmla="val 1581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89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755640" y="620640"/>
            <a:ext cx="7848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Непроверяемые безударные гласные в корне сло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55736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Написание безударных гласных, не проверяемых ударением, определяется по орфографическому словар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2924280"/>
            <a:ext cx="889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…стибюль,  акк…мп…немент,  об…ян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в…ждение,  возр…жать,  ди…пазон,  пан…ра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п…риферия,  ув…ртюра,  эксп…ри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пр…визация,  к…мб…незон,  экстрав…гант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89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 rot="276600">
            <a:off x="3205080" y="71280"/>
            <a:ext cx="4321080" cy="11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биографии слов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35280" y="1197000"/>
            <a:ext cx="439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</a:t>
            </a: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Орфография слова есть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биография слова.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latin typeface="Times New Roman"/>
              </a:rPr>
              <a:t>                  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133720"/>
            <a:ext cx="633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Arial"/>
              </a:rPr>
              <a:t>Вставьте буквы,  определите лексическое значение слов, в случае затруднения, обратитесь к этимологическому словар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3284640"/>
            <a:ext cx="6840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99"/>
                </a:solidFill>
                <a:latin typeface="Arial"/>
              </a:rPr>
              <a:t>О б.. н я н и 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250920" y="404640"/>
            <a:ext cx="1942920" cy="2303640"/>
          </a:xfrm>
          <a:prstGeom prst="rect">
            <a:avLst/>
          </a:prstGeom>
          <a:ln w="19080">
            <a:solidFill>
              <a:srgbClr val="003399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2700360" y="3933720"/>
            <a:ext cx="525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5229360"/>
            <a:ext cx="54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77336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.И.Срезне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788000" y="1268280"/>
            <a:ext cx="40640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322200" y="1268280"/>
            <a:ext cx="4105440" cy="48247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187280" y="189000"/>
            <a:ext cx="2016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Дал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765000"/>
            <a:ext cx="4105080" cy="34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Владимир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932360" y="189000"/>
            <a:ext cx="367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Срезневский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88000" y="782640"/>
            <a:ext cx="403380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latin typeface="Arial"/>
              </a:rPr>
              <a:t>Измаил  Иванович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1988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12 - 1880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82800" y="6237360"/>
            <a:ext cx="258120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801 - 187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890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№ </a:t>
            </a:r>
            <a:r>
              <a:rPr b="1" lang="en-US" sz="1800" spc="-1" strike="noStrike">
                <a:solidFill>
                  <a:srgbClr val="80808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6:00:01Z</dcterms:created>
  <dc:creator>Юра</dc:creator>
  <dc:description/>
  <dc:language>en-US</dc:language>
  <cp:lastModifiedBy>Юра</cp:lastModifiedBy>
  <dcterms:modified xsi:type="dcterms:W3CDTF">2008-01-18T19:02:47Z</dcterms:modified>
  <cp:revision>43</cp:revision>
  <dc:subject/>
  <dc:title>Слайд 1</dc:title>
</cp:coreProperties>
</file>