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BF0-A6FC-4438-B775-4B866828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26C-3F67-4D46-80AD-170FC6EE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B85-7352-48B0-9979-D6EBE331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57F-A126-4D0C-8008-7B68ADBE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DC3-EBC1-421A-B9F2-A2FC665F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3AC-217D-4525-B8C0-513122C9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73D-24B3-4B2F-9154-8ABF507D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992-37E8-4D5E-852D-147C6652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3FCD-0E0B-4D41-8664-32D17C60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1D6-371F-41E1-AC5E-164C0AB0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17E-0EAC-4F70-8BF6-7624F7E8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F4E-D147-46D7-9110-A67B2EB8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6DB9-EC99-4088-83C4-2EB5B1113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268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Правописание гласных в корне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404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Monotype Corsiva"/>
              </a:rPr>
              <a:t>Класс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2565360"/>
            <a:ext cx="223524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186516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24210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444840" cy="51847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11280" y="620640"/>
            <a:ext cx="3457440" cy="51847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9280" y="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К следующим толкованиям слов подберите в приведённом ниже списке соответствующие терм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4842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аткий, немногословный, чёткий в изложен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989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, мыслительная способность, умственное начало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еловек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78136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нетатель, мучитель, деспо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3577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ладающий большой внутренней культ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39337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ие в правах, лишение равноправ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43700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народный опрос, голосование для решения важного государственного вопрос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30064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тавлять свою кандидатуру для голосова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00000" y="476280"/>
            <a:ext cx="691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Чередующиеся гласные в корн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964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Гласная выбирается в зависимости о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637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3cbd"/>
                </a:solidFill>
                <a:latin typeface="Arial"/>
              </a:rPr>
              <a:t>2) наличия или отсутствия      А после</a:t>
            </a:r>
            <a:r>
              <a:rPr b="1" lang="en-US" sz="2000" spc="-1" strike="noStrike">
                <a:solidFill>
                  <a:srgbClr val="d23cbd"/>
                </a:solidFill>
                <a:latin typeface="Arial"/>
              </a:rPr>
              <a:t>        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) уда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00536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3) последнего согласного в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373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4) 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6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01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95008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4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50920" y="3357720"/>
            <a:ext cx="14580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94920" y="3357720"/>
            <a:ext cx="14436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 rot="14212800">
            <a:off x="1399680" y="3427560"/>
            <a:ext cx="1193040" cy="12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14212800">
            <a:off x="2272680" y="4427640"/>
            <a:ext cx="1193040" cy="124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76720" y="476280"/>
            <a:ext cx="3605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люч к упр. 49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341360"/>
            <a:ext cx="8964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еть – 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;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           по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и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ать – 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у;                          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ь –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ж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аться – 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нуться;  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ить –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ящий – 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ающий;               об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 – про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ь – 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ать;                          у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няться – у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ень;                         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ивать –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ять – 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и;                                    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маться –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я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ель – 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ё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lum contrast="18000"/>
          </a:blip>
          <a:srcRect l="2770" t="20007" r="35685" b="23994"/>
          <a:stretch/>
        </p:blipFill>
        <p:spPr>
          <a:xfrm>
            <a:off x="1403280" y="189000"/>
            <a:ext cx="1068480" cy="100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33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55640" y="26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авописание гласны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836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пишите в пустые графы таблицы подзаголовки. Подкрепите своими примерами каждое положени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628640"/>
          <a:ext cx="8785440" cy="5086440"/>
        </p:xfrm>
        <a:graphic>
          <a:graphicData uri="http://schemas.openxmlformats.org/drawingml/2006/table">
            <a:tbl>
              <a:tblPr/>
              <a:tblGrid>
                <a:gridCol w="1513080"/>
                <a:gridCol w="1655640"/>
                <a:gridCol w="1224000"/>
                <a:gridCol w="1295280"/>
                <a:gridCol w="1441440"/>
                <a:gridCol w="1656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веряемые безударные глас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нетение – гнё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ляденье – взгля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цед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тал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ор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ыга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р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т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са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ир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с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к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трас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а выр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акну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мокаем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47628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341360"/>
            <a:ext cx="61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, 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. 54 (по заданию) стр. 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на стр. 44-46, с 20 по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итат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620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 Narrow"/>
              </a:rPr>
              <a:t>Спишите словообразовательное гнездо, вставляя нужн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357336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41300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155736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1557360"/>
            <a:ext cx="574920" cy="71280"/>
          </a:xfrm>
          <a:prstGeom prst="rightArrow">
            <a:avLst>
              <a:gd name="adj1" fmla="val 50000"/>
              <a:gd name="adj2" fmla="val 20164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268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421000"/>
            <a:ext cx="432000" cy="71280"/>
          </a:xfrm>
          <a:prstGeom prst="rightArrow">
            <a:avLst>
              <a:gd name="adj1" fmla="val 50000"/>
              <a:gd name="adj2" fmla="val 151515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оц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292640"/>
            <a:ext cx="82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рикоснуться,      расстелить,        разб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900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42900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 Narrow"/>
              </a:rPr>
              <a:t>Сделайте морфемный разбор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476280"/>
            <a:ext cx="784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оверяемые безударные гласные в кор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341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Чтобы не ошибиться в написании безударной гласной в корне,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56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яснить лексическое значение слова (или кор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645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357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определить, проверяется безударная гласная ударением или она непроверяемая, не является ли она чередующей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2200" y="779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86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ыбрать способ проверки гласной в кор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92360" y="476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97000"/>
            <a:ext cx="78487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ставьте пропущенные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Укажите признак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Определите его тему, основную мыс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ыделите микро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40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189000"/>
            <a:ext cx="39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Из истори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90792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неполноглас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старославя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907920"/>
            <a:ext cx="28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полногласием -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древнерус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205000"/>
            <a:ext cx="5905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42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93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365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86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37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2637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805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187560"/>
            <a:ext cx="799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!!!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виду, что в качестве проверочных сл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льз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глаг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суффиксами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-ЫВА, -ИВ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в них происходит чередование |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–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О||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78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230400">
            <a:off x="2700360" y="292392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349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3500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1577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230400">
            <a:off x="2987280" y="5084280"/>
            <a:ext cx="1368360" cy="144720"/>
          </a:xfrm>
          <a:prstGeom prst="rightArrow">
            <a:avLst>
              <a:gd name="adj1" fmla="val 30880"/>
              <a:gd name="adj2" fmla="val 1577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55000">
            <a:off x="2916360" y="587664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724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56000" y="5734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637000"/>
            <a:ext cx="1008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63664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76720" y="558936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516640"/>
            <a:ext cx="719280" cy="79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731400">
            <a:off x="2771280" y="3644640"/>
            <a:ext cx="1368720" cy="144360"/>
          </a:xfrm>
          <a:prstGeom prst="rightArrow">
            <a:avLst>
              <a:gd name="adj1" fmla="val 30880"/>
              <a:gd name="adj2" fmla="val 1581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5640" y="620640"/>
            <a:ext cx="784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проверяемые безударные гласные в корн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Написание безударных гласных, не проверяемых ударением, определяется по орфографическому слов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924280"/>
            <a:ext cx="88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…стибюль,  акк…мп…немент,  об…я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в…ждение,  возр…жать,  ди…пазон,  пан…ра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…риферия,  ув…ртюра,  эксп…ри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пр…визация,  к…мб…незон,  экстрав…гант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 rot="276600">
            <a:off x="3205080" y="71280"/>
            <a:ext cx="432108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биографии слов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197000"/>
            <a:ext cx="43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Орфография слова есть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биография слова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     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13372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Вставьте буквы,  определите лексическое значение слов, в случае затруднения, обратитесь к этимологическому словар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284640"/>
            <a:ext cx="684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н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50920" y="404640"/>
            <a:ext cx="1942920" cy="23036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00360" y="393372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229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773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.И.Срез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788000" y="1268280"/>
            <a:ext cx="40640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2200" y="1268280"/>
            <a:ext cx="41054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187280" y="189000"/>
            <a:ext cx="20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Да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765000"/>
            <a:ext cx="4105080" cy="3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Владимир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32360" y="189000"/>
            <a:ext cx="367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Срезнев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8000" y="782640"/>
            <a:ext cx="403380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Измаил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1988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12 - 1880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8280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1 - 187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9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6:00:01Z</dcterms:created>
  <dc:creator>Юра</dc:creator>
  <dc:description/>
  <dc:language>en-US</dc:language>
  <cp:lastModifiedBy>Юра</cp:lastModifiedBy>
  <dcterms:modified xsi:type="dcterms:W3CDTF">2008-01-18T19:02:47Z</dcterms:modified>
  <cp:revision>43</cp:revision>
  <dc:subject/>
  <dc:title>Слайд 1</dc:title>
</cp:coreProperties>
</file>