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F715-ABBB-4953-8800-630791B75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C4F8-DC45-43D2-B386-E0DA5D6B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225A0-779E-4B23-B2F4-E40AB644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03E93-3F9B-4E04-BBDA-3028B10B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AAF67-F056-499C-B617-F6D2C5C3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A7E44-526A-4C82-A55E-C5AD1544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480EF5-8960-49B9-AF71-EA96787C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BBBAE7-43B4-462C-B9DC-C962E925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41D8F-9B9B-441B-85DC-58905242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B5B4F-40FE-48B3-AC55-08797CA61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30F6D-7D1F-434E-BDFE-F09C9471E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57CF0-4A7A-43D2-B57F-42AB10662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3BFD-D1D8-4A14-93A9-E26398943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7ADF1-6C54-4D5F-856D-0D499FF6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54674-20E3-4BDC-9B92-1943075C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CE6D4-4ED4-470D-BC92-7A4D05B0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E8EF8-3E2D-40CB-8197-302607A3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876A62-42F9-4789-A70F-9E680C99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B3639C-094A-4D75-9DA7-37A98F4F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945E71-D813-4C9D-9782-591064AA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87858D-EA8C-4B9D-9CAB-8FEE6590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0F6CF1-B8C4-44A1-B8F9-6166EE4E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8DEA2C-FAD1-4A91-859B-CE130ED0A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32C8-9AA5-463E-8698-18C66A1F9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AB48EC-FABD-4A42-B50D-E015DCC9B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A2D6E-BF0E-4559-AC0B-D33FD9FD1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609AC-B3B4-4B1C-8163-809B0622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36689-C4A3-4088-B811-76F6E6D6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73C01-0C60-4BB6-9EEE-2CCDDB3E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7058D-AC2A-4A79-B273-CE075F02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13F15-6057-4398-8DFF-9F21A0B4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49F0B-E628-4A6F-B896-5099186A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C0392-1B91-4EF7-B208-413F4858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A8E9D-814A-47D2-8F4A-BA10922F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9465-DA2A-46BE-9D3E-532A5091F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F6F78-1ACB-405C-852D-0CD70876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F6FA2-A988-4178-9E4F-FDA80238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65401-625B-49E9-8739-F353520CF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03413-1C49-44D7-9B6D-A37C1B403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E5EC9-6E81-42D6-B0EC-6F770B43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CDE319-4E3A-404E-B812-C6F24C00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59ADA-E431-413B-8691-CB9C6478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0B2B0C-D6EE-476B-805C-C24F2C70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709FB0-4796-4B8A-96DE-0BE0F77C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35DCA-5E94-4F29-B03B-B71274F8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881C-5733-4D56-8E3C-579047B2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38871-2EEF-4E4F-AA90-9007DBBA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F00CCF-83D3-4142-8F80-2E8E605B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9F5163-0D07-45AD-B59F-7BC8A547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14F623-E442-4CE9-AB19-DEF747355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177CE6-40F7-4D5F-A6AE-5D26FF5EF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E68B-1956-4C63-8006-5A6AF648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B9DD-AAF6-4D24-94B5-C4E25338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79B5-494C-4A1B-8221-1005B0A6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EDAD-B5DE-44F5-88AC-2B1D1310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7131-0F71-469B-A656-4381478B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57BD-1892-4CBD-981E-62AD11AC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5156-23DE-42C7-9AF2-7AA3A26F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E07A-EE80-4DEB-A8F6-167DDE48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D8BB-944D-4D31-BEBB-05F3733D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921D-9BD6-4464-842F-ECE91A771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6EF8-11D8-4D56-8BC3-C7C9D751D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4B9610-CC7F-4895-946B-FCE6BB6A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8E55A6-CFC7-4FAF-BF36-D3B7756C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265522-9AA6-4D1F-99AC-C06467D5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C6C0AC-91FD-4F03-AEDF-CBE80623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04F4D3-B9F9-496A-ADD1-BDC9E5D4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1BD0-992E-4F42-B501-CDCFEF75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D43D63-8092-46AF-B069-2251D774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9B1C78-A519-49A2-B281-C7910349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8FAB74-DDCF-4C9B-9E3E-048A1E74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F7AB24-16CB-4493-8018-AA5EC896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64DA0F-CE49-4120-BAF0-D3B3D6B2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4B9774-6A8A-4366-AEDE-29A9A6845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288859-EBAF-4062-AA76-5B2D752A3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28ED4-7B91-4183-B0F3-3BF7F74BD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34F08-A62C-48E5-97E8-BE407245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45E0B-8A34-4ED4-96D1-1DC49A3A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D9B0-6604-4D78-BDF6-81B133CB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A5A18-F8F2-49E2-80DD-FEB45600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FB10F-2CFF-4B25-983D-7B2A6ADA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AA649-0531-4BB1-8621-A1691EE2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FDB3C-9BEF-4B8F-88E0-0964C4A2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052A0-6A3C-41F4-9487-20DFD1A6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30808-3393-4655-AE7E-6B2CB066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A69E0-B3EA-46EC-A2FB-7BB13C00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2F015-A237-4C2C-8F57-75B9229E3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F68A0-6995-43FC-AD7B-EF40AE00B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229F4-A9C4-4458-A386-2349A48AF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0EC8-D744-40E4-AA52-B868D3A3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151D5-6928-49F8-81EB-BCF059CE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083A8-80AD-44EF-A766-A3D2DA01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622D8-781A-4A1E-BB3D-0D5CB822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E9059-BAA8-42D3-9D25-F41251C9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A85C6-4229-474A-80A0-BA17DD87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AE111-DDCC-41F6-9EF4-4AB6A8C1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6D89B-4174-4679-BFCA-ACB7A39F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591E8-9888-404A-9E87-927FB1AF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9BD7A-9025-4714-A23B-C2CF1BF0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3E380-DD0A-4C78-A136-211233CDF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178F-9E68-45AD-AEC6-70B018B5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CBA5C-0CED-4E44-8FE9-CA55E7ABD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F05E9-8828-4E75-8AF3-0CCE5E1E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6E671-7628-485B-B150-D2C2897C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65058-E894-4CE7-9F1D-E73D6648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3C7EE-6946-42D0-9429-406C2966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AE628-F3E2-406C-ADBE-FDECD5F5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7CB41-BE9C-4BDF-8012-4EDD3660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9A846-A102-4766-BDFA-AC9507B5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22A38-640C-47DE-B208-8EB8839B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B1A15-F2EC-41C4-9E8C-A0420D2F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CD6D-ADA4-4D6C-9771-70AD1C35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B653F-AFB7-4FA0-9FC4-16C5C093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66424-A2C9-4A55-8FBA-C6288BD23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A13E5-3343-47F9-9897-1FD212414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71C2A-2E02-459E-9115-846F77007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2F874-4352-4779-94DD-61BE24E0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72D0B-1235-4615-936E-3133B69C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BDA57-2072-4879-810C-4A905626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79B40-C37C-4C63-8B01-090476C9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29452-2A99-431D-8F90-699BF4E2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2873B-A9DB-4B1E-A837-E3CBAC96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EB4E-3AF3-47A1-BF5D-42F07876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9C142-ADAF-4876-BEB0-A6CC113D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FF988-3FA6-42FD-AA94-02B0DD9E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A9582-D22D-4DD2-8DC7-847FF751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8898A-D3D9-4F56-9EE7-574EE5E4F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8C18A-A72A-494C-89C0-949BE520E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A6715F-C42E-47AC-A012-E744873FE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DDD788-7732-4C4E-A233-3036F3AC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5F2F0C-E5AD-434A-B4F5-4B7194A3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5DDE74-5EAB-4988-A93C-4578D1FB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080A7D-DD48-41D3-A928-C46B79B2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C630-BB6C-4947-82F2-611A18B5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ADEF69-69A9-40C9-82E8-59811343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A7C63F-766A-43A9-A858-371296F9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8373CA-E201-4889-90AE-AED1E743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9C25FE-6421-426D-9637-63AFA54E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BAF2A8-B625-41B7-8664-84367E68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F831F2-0B07-4422-AD85-56EBAC022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464FDC-9475-4674-AB27-357D728A3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9F996D-FA93-4CF3-8D90-DFC2DAB8E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7C489-18C8-4797-8C2B-86F817C0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AA213-CC7E-4B76-ACF6-57D51A3D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A339-B8CB-458C-86F0-7CD270A3220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99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5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E619-7D56-4F30-986C-6BC2384B57C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5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946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86A8-1F72-4097-88A4-F4BD0A8666E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003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690F-6D15-452A-AA35-2ABEF52DDDD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B1B1-DFB5-4B0B-B982-CAF21318291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6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31EC-4406-4386-A0CB-FD975F456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41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F7B6-ACC5-4AEE-BBC5-024C1CFB8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674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5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676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251A-8EA2-4B18-B4E7-E4719006A0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721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2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723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727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D4C0-21F9-416F-8650-871EC9BC1F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2D21-AF3F-49A2-BBE5-5201C7B55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F09F-F06A-43C9-9D4D-6064E281A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852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E115-CA2D-4FDC-A448-FF7C46DFFE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Имя существительное</a:t>
            </a:r>
            <a:br>
              <a:rPr sz="4000"/>
            </a:br>
            <a:br>
              <a:rPr sz="40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5класс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Телицина Ирина Николаевна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учитель русского языка, 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Спасский район,с.Три Озера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dfdef6"/>
                </a:solidFill>
                <a:latin typeface="Arial"/>
              </a:rPr>
              <a:t>Морфологические признаки: 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2700000" y="2276280"/>
            <a:ext cx="5986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менение  п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исл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од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адеж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клонение  имен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уществительных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ерво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д.пад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 дороги   (у земл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ат.пад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дороге (по земл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едл.пад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 дороге (о земле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ько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в безударном оконч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учат неяс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 втором и третьем склонениях  толь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ин вариант написания –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 скл.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3 скл.).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Имена существительные</a:t>
            </a:r>
            <a:br>
              <a:rPr sz="4000"/>
            </a:b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одушевленные и неодушевленные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2126880"/>
            <a:ext cx="8229600" cy="36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душевленные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КТО  ЭТО?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волк, лисица, заяц, тигр, лес, поляна, дом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одушевленные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ЧТО  ЭТО?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очаровательные ночи, струится свет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улыбающееся солнце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Имена собственные и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                     нарицательны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Город, деревня, океан, озеро, рек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н а р и ц а т е л ь н ы 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мена людей, названия рек, город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улиц пишутся с заглавной буквы 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являются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собствен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0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0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362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Род  имен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существительных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          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2842920"/>
            <a:ext cx="8229600" cy="32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Женский :       весна, земля…(- а, я -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Мужской :    дуб, брат, цвет, предмет…(- без окон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Средний :    кино, пальто, окно….( - о -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07:09:27Z</dcterms:created>
  <dc:creator>A0001</dc:creator>
  <dc:description/>
  <dc:language>en-US</dc:language>
  <cp:lastModifiedBy>A0001</cp:lastModifiedBy>
  <dcterms:modified xsi:type="dcterms:W3CDTF">2002-12-05T12:50:34Z</dcterms:modified>
  <cp:revision>12</cp:revision>
  <dc:subject/>
  <dc:title>  Имя существительное 5класс  Телицина Ирина Николаевна,учитель русского языка,Спасский район,с.Три Озера</dc:title>
</cp:coreProperties>
</file>