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4DF-4C17-4C3D-812F-2BFAF7C6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C3D-9857-4FB2-A7D3-B9300F92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99853-49A2-4AF9-BE09-89F6F916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31B00-3301-41ED-9B2E-AAF2ABFA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4BE50-5BA5-4C43-BBA0-FD7205BE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AAD69-F7C5-4DE2-A04A-D106AFED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F928B-A39D-4257-AA93-21F3F747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E805F-B461-421F-A38B-291594F2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9A167-7985-4C97-830E-777CF6E5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D1BA5-F2B4-4302-A863-DC54CC41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FB1B4-E8D7-4AA4-8C92-84D4CA49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F48B5-4129-435C-8F5B-69EE1717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FC7-C7F9-4D97-82F7-1CA54CC4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9F01C-ED2F-4287-9C82-CF2FC9F6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EC472-D55F-4F1C-8FFE-811DB9F3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8F47A-255D-45E8-AAAF-402DDA00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18B64-F331-4185-9848-81E241DE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08348-F5F8-416A-AE8B-8BD846D5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489FC-E1D3-41A6-9F4F-19BF62DD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E7D96-74F6-43B1-B60D-67BD1DFA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0F8E1-DD81-4FBD-88B5-482E876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E0DC4-552A-4E05-9638-8B3A7B39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59DCB-1A94-431B-A2FB-0643E592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3EB-C8C1-45A4-835F-B4954A84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E1E96-55DC-462D-B66A-5C1E9D44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C89F4-0C39-4533-85BE-443B464E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8D083-29A2-4423-A999-02DEBCAE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61AE8-4D17-4FDB-BC3A-0D99F2A5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293D5-0C61-493A-89F4-ADDF9BC4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9B1B0-B6AF-44A0-B066-ED9B8961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06237-6CA8-43DD-973D-C25F306C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B03F2-9F3B-46EC-8548-DE56A5E4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33EA6-7D00-4E10-8C8B-8D8996EE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D1F05-3C03-481F-BEAC-0379FD90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C4E1-AE94-4568-B916-97D2A299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13EA7-08D5-4C0D-8ECB-171BC164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42181-C647-406F-B565-736F4DD2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B78F6-49A6-4779-97CA-0963596E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EE3DC-64F2-4025-A2C7-C4C1C313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29A71-3797-42A3-8479-CCF5105B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883CB-89E5-449A-BC71-6483A8FA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13E84-970A-472F-A2CD-1E0DD4D4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B7D5E-C558-4AD8-8E7F-8541B967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42650-2960-498C-B590-DA84DA24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6A325-DBD4-46B1-8E1D-349AF194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0BAE-6862-4C8D-85F7-ACA1D019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4C010-6D6E-45F4-843C-A91086F5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699B0-21C4-4576-9313-E74E892A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E2875-C7FF-4A16-BBA4-0C39FD2D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3FA87-F8DC-4DF0-A84A-A498A0BD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ED54C-9DDB-44CC-A2DA-6161F894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9B7A-B9B0-496C-849D-DC52FEA3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FF3B-8B77-46ED-943A-2C4442E4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8D55-A017-4A5D-854A-2DCC70DA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89FE-4F75-4E6F-B549-6B6C2432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6E40-A879-419E-B0E0-896153DC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A16-6764-453B-A2BB-4BE77661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E458-E6EF-41B8-A12D-11573CB8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7990-A9DE-4A28-A90C-C80D4F50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4BC0-15CE-4199-95F8-1F5F3ED6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1735-DF51-439D-945A-34861B41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D45B-11E7-44D2-82AA-2BC0BE1E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C9DA53-F34E-467A-B22B-414A9BB8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B9B321-7765-4E32-9BE6-47B4758D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03467-819C-4788-8ED9-1728CECE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7A4E4-E364-4E19-B633-4347EC37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08498-4AB8-47D0-91F6-94A8C727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246-9ADB-4243-ACBA-604359B9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E8DEC-0E01-4959-8596-1C90239B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5D314-9F63-4493-974F-644EEE1E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B5C4E5-E8E9-4C36-BC0D-E8A4D91A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91ABF-FC23-41E4-BE7D-683C103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763357-6429-42B1-BBDB-93518F36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C76927-8DB0-4FB7-85FF-5C8924EB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12EA0-42C9-41DB-BAC3-DE452885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A8B41-8F54-4A07-AFE3-2EABF807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59DEA-8410-4D7D-9305-4E808AF4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A892C-A8AB-41C0-B25B-269D8B20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99A-FF7E-4279-95BD-38078BD2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4600-3D8A-40B2-B1E4-DACE25A1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2DDE6-843C-4E3B-91E6-5CC91CA9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59F1C-9A47-426A-8D5E-F1B19041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D8A8F-7821-480F-B36C-FBDDE5CD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6952-8CA3-42E8-AE0E-6BD4CC9A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1DBD0-7AF6-4D0D-A314-CA6FDE1A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93BA0-2BC4-4701-AFB3-211D33D4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D405F-0F52-453A-ACE8-EEC40B9E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AADD-2010-4063-A180-FC3CD9A4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427B1-B231-485F-BCF3-41AFA93C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5DA-9DF3-4D87-95D3-9BA18DBC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16AA-737E-41D5-9404-9A7D8FB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D4AC-3C7C-47A3-BA56-857218F9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19FF6-0EB7-422F-8E48-59E50A64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028A0-BFFF-4634-9D19-416D145F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54929-A95E-43C0-80B9-CD07CD6E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D50EA-33A9-4BDC-8556-CA1160C8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464E9-8286-4063-B2BE-A5586D7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6F1BB-ADF2-4349-9B7F-5BDA43A6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BB8FC-4EAC-4958-9436-84B4DF96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725D6-7189-4441-B26D-D4E75B65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5F2-BB9B-43E5-B5A2-B9B624D2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A525C-C513-4745-9627-0CEFF570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FED39-2A25-458A-B6D9-7EA91B1F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4ED69-3929-430F-9A0E-3FD6BDE9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D26D3-F06A-459E-9DF4-EF929B67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A1B33-AA94-4869-96BE-7D322E18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BC299-C2FB-487C-8D72-DD14E8E3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B890D-2760-4AB4-8CB2-C5CBEC13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F9D24-5F68-43D9-B2B5-2A95F5B0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E6653-D099-4FAB-8D6F-1216E69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EF40C-5EFD-4B09-BD1E-028BDBAD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73F-C8D5-4115-9BFD-6257103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3DC4B-4AA8-4A4E-A34C-FA845037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6DFBF-3DE8-42AB-8123-1192901D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54C1A-CB83-4AE2-B12B-1BC7ED25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8CC39-B918-49C7-82B6-0D44858F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5A137-C19A-412E-8CF5-C811B7CE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846B4-0651-43C0-9BF6-8E3212C7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A3602-A850-4440-9B6F-81126280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EBCC8-0176-4469-8D83-7229AD68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56C70-7BA4-4836-9977-00710CA5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509BF-D338-45C6-BFDA-EE163045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2B8-8E70-4095-AEC8-F5D202FE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95A74-294F-4FD4-B8D4-8F4FC0A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FCF72-4809-4C58-8E11-8B8D8F54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F2473-4C7A-4E77-82B3-EA214975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8F5CC-5D12-437E-AF8E-648671FB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FCAE7-69F1-47EF-B1A8-34B6B62C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87303A-F943-40AB-A139-D37B4CAF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DAEA12-592E-406D-BF9C-FAABF209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A9BF72-960F-481F-B9DC-4BB1FE8F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91CDBD-203F-4828-9575-9865F2C8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A817AB-E357-480D-9C20-2CCAD9D1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D5B-CF53-4E21-B4FE-BD3A4974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835E3A-72B8-4F48-B742-617D0B2B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F226B8-479B-447B-AA4F-BDE2BE8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795C39-7429-428B-B876-96C5AC58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2F9E41-97DB-4EB5-B4DB-9CB49EBC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3B45B4-90EE-47BF-A1D6-867FB3F2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C3BCBE-4C12-49C1-BCC4-00703428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9CF6E-825B-42F0-B9C3-DF1F26F4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4F988-B963-4E8E-BBEF-24572E21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E3964-6DA1-4E4B-A4D2-6E38920A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DA44D-458A-4752-922A-F4D2E4A2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1016-20F1-4041-B4FC-32A8712CD36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DA59-0429-4833-BB51-49881A8E20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4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ACB1-489C-49B3-868C-500B4B0A55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409B-1B87-4705-A4A0-B152A053B0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91D8-6421-4773-9A95-0078DB7069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5277-2349-4397-9DF3-A065BFFB2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CED9-0684-492C-B6E8-EC416078D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BE94-4D94-4751-A2E3-A2DBA9D868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A875-BB5F-40B8-8A63-4341B15675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C3F7-C8E0-4F9B-9E09-174ABE39A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F97C-C393-4B57-B34D-C36826B35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DB3A-5B1C-45F3-A2D4-B812A631A7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мя существительно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клас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лицина Ирина Николаевн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русского языка,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асский район,с.Три Озер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Морфологические признаки: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59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еж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лонение  имен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ществительных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дороги   (у 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дороге (по зем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дороге (о земл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безударном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нея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тором и третьем склонениях 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вариант напис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скл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 скл.)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мена существительные</a:t>
            </a:r>
            <a:br>
              <a:rPr sz="4000"/>
            </a:b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душевленные и неодушевленны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212688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лк, лисица, заяц, тигр, лес, поляна, до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Ч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чаровательные ночи, струится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лыбающееся солнц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ена собственные 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нарицательны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од, деревня, океан, озеро, ре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 а р и ц а т е л ь н ы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мена людей, названия рек, го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лиц пишутся с заглавной буквы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собст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од  имен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ществительных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       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Женский :       весна, земля…(- а, я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ужской :    дуб, брат, цвет, предмет…(- без окон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Средний :    кино, пальто, окно….( - о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09:27Z</dcterms:created>
  <dc:creator>A0001</dc:creator>
  <dc:description/>
  <dc:language>en-US</dc:language>
  <cp:lastModifiedBy>A0001</cp:lastModifiedBy>
  <dcterms:modified xsi:type="dcterms:W3CDTF">2002-12-05T12:50:34Z</dcterms:modified>
  <cp:revision>12</cp:revision>
  <dc:subject/>
  <dc:title>  Имя существительное 5класс  Телицина Ирина Николаевна,учитель русского языка,Спасский район,с.Три Озера</dc:title>
</cp:coreProperties>
</file>