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3B3D-859E-48CD-8B4F-5F8CD18B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FE90-598D-46E1-94DD-C93E2282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FCE2F-BCF9-49A3-8FEF-2C7FD90E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4CBC-6E1C-4AE7-89AC-F8DEAECD4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3DC2-E79E-459C-B679-045DB8A6E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6093D-FE71-4058-93D1-54020A3C6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2079C-95C0-432B-A654-48A2E8F75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681A3-3C7C-4E50-99E7-CAF6A83B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867D-C718-4B03-A05B-311FC1DF2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063-D652-4F00-9E87-E83DEE01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07D9-1396-445A-90BC-81E8C7D8B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15653-AB23-4911-8287-8929FCD7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5C2F9-64F1-4382-A946-9CC4A0AACB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Четвертое сентябр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899640" y="263700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Monotype Corsiva"/>
              </a:rPr>
              <a:t>Орфограммы в корнях слов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_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Об_ез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Лит_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Раз_едини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5. В каком слове на месте пропуска нужно писать разделительный мягкий знак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Обезьян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Ж_рд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Солнц_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_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Ч_рточ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6.В каком слове на месте пропуска пишется буква о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Шоро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раск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Клочь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Краси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7. Укажите слово, в котором звуков больше, чем бук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Коле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Каучу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Парте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Фарфо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8. Укажите слово, в котором ударение падает на первый сл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Рапор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) Загадочная тишина царит вокруг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9. Расставьте знаки препинания и укажите сложное предложени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6421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) С самого утра в воздухе кружились игольчатые снежинки, но к обеду растая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) Весна разломала льды, понесла их по рекам и разлила свои воды по поля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Times New Roman"/>
              </a:rPr>
              <a:t>3) Загадочная тишина царит вокруг, но настороженное ухо всегда отличит массу звук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) В первый день щенок утащил у хозяина новый сапог и отъел кусок голенищ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делал (не)та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мне (не)жарк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никому (не)известный расска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onotype Corsiva"/>
              </a:rPr>
              <a:t>Записать в словар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Ровес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Сверстни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Печал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Бирюзов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Monotype Corsiva"/>
              </a:rPr>
              <a:t>Выборочный диктан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125360"/>
            <a:ext cx="8748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ырастить на окне теплолюбивое растение; миролюбивые животные; расстилаться на лугу; постелить постель; блестящая поверхность; растут в лесу; ложиться на спину; разбираться в технике; располагаться в тени; разложить на кучки; предложить отве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Monotype Corsiva"/>
              </a:rPr>
              <a:t>Запись в словарь кор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833400" y="1989000"/>
            <a:ext cx="74772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Monotype Corsiva"/>
              </a:rPr>
              <a:t>Объясните орфограммы-гласные в корня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Познае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Узнат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Впечатлени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1. В каком слове написание с "не" слитно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1280" y="155736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много (не)успевающих по математик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сказуемо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безударны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с тоб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. Укажите глагол в ряду данных сл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6) обозначиш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1) годово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2) год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3) годовалы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3. Укажите, в каком слове безударная гласная проверяется словом </a:t>
            </a:r>
            <a:r>
              <a:rPr b="1" i="1" lang="ru-RU" sz="3200" spc="-1" strike="noStrike">
                <a:solidFill>
                  <a:srgbClr val="3333cc"/>
                </a:solidFill>
                <a:latin typeface="Monotype Corsiva"/>
              </a:rPr>
              <a:t>г</a:t>
            </a:r>
            <a:r>
              <a:rPr b="1" lang="ru-RU" sz="3200" spc="-1" strike="noStrike">
                <a:solidFill>
                  <a:srgbClr val="3333cc"/>
                </a:solidFill>
                <a:latin typeface="Monotype Corsiva"/>
              </a:rPr>
              <a:t>одный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4) годитьс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) Дождь стучал по крыше, трепал листья в саду, плескался на дворе в лужа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) Пушистый снег закрывает дома, столбы, деревья белой пелено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) Подолгу лежит на скатах крыш, на перилах балкона иней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4. Укажите предложение с однородными подлежащ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560" y="1628640"/>
            <a:ext cx="871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) На юг улетают журавли, скворцы, грач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EG</cp:lastModifiedBy>
  <dcterms:modified xsi:type="dcterms:W3CDTF">2003-09-03T12:35:43Z</dcterms:modified>
  <cp:revision>18</cp:revision>
  <dc:subject/>
  <dc:title>PowerPoint Presentation</dc:title>
</cp:coreProperties>
</file>