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249-21D2-4193-AA88-9685AF1D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D19-FDD9-4419-93A4-56D32256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871-F18B-416D-940C-60CAF886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DC2-745C-4E95-9927-C11B7B6B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C0A-11A7-4535-AB74-1CAA0B3B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94D-F53F-427A-8D5E-6EC0065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863-6F88-41E3-BCC8-CF61654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F15-236B-4850-9999-86694480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063-B7D2-4EB8-985A-817D5288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024-8A57-4A43-B6C1-487E39C4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7F2-20FA-4FFB-839E-CF51A69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AAB-8B0B-4BD6-A653-8C5F06F7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C2A4-055C-416C-B3F6-E5CA792740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рфограммы в суффиксах существитель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1447920"/>
            <a:ext cx="207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зубр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447920"/>
            <a:ext cx="3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920" y="2133720"/>
            <a:ext cx="197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у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40" y="2819520"/>
            <a:ext cx="251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ноград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640" y="3505320"/>
            <a:ext cx="257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двежат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9360" y="4267080"/>
            <a:ext cx="146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с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480" y="4952880"/>
            <a:ext cx="18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ва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640" y="5715000"/>
            <a:ext cx="22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ковал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1447920"/>
            <a:ext cx="201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ло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5000" y="21337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ков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5000" y="2895480"/>
            <a:ext cx="194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рещ 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29600" y="3581280"/>
            <a:ext cx="160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ы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5440" y="4267080"/>
            <a:ext cx="23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локол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4280" y="5029200"/>
            <a:ext cx="19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юм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34280" y="5715000"/>
            <a:ext cx="169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6800" y="1447920"/>
            <a:ext cx="156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0033"/>
                </a:solidFill>
                <a:latin typeface="Times New Roman"/>
              </a:rPr>
              <a:t>пес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5200" y="2209680"/>
            <a:ext cx="212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а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2960" y="3048120"/>
            <a:ext cx="222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ркеш   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160" y="28195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35053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6560" y="4267080"/>
            <a:ext cx="3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95288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0600" y="571500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5840" y="14479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5360" y="213372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1840" y="2895480"/>
            <a:ext cx="38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4480" y="356544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425124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9400" y="5013360"/>
            <a:ext cx="38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7120" y="571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14018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8920" y="22096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48920" y="3048120"/>
            <a:ext cx="34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алал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пе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уг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п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а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е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и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м*чк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ш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естр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я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сн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д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фуфа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аст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луков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т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бл*ч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50000">
              <a:srgbClr val="ffffff"/>
            </a:gs>
            <a:gs pos="100000">
              <a:srgbClr val="9898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0"/>
          <a:ext cx="8991360" cy="6857640"/>
        </p:xfrm>
        <a:graphic>
          <a:graphicData uri="http://schemas.openxmlformats.org/drawingml/2006/table">
            <a:tbl>
              <a:tblPr/>
              <a:tblGrid>
                <a:gridCol w="4495680"/>
                <a:gridCol w="449568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чк-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ал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пе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ян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фа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ечк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ше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г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с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ков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н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ч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аскательных суффиксах собственных имен существительных пиш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м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женского и среднего родов, образованных от существительных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е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ишется в существительных, если у них есть однокоренные слова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ушк, -юшк-, -ышк--ишк-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3520" y="220500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ье    -            пла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0640" y="285264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бро      -            реб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2080" y="3500280"/>
            <a:ext cx="46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я        -            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2800" y="4149720"/>
            <a:ext cx="49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жье     -            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2080" y="4797360"/>
            <a:ext cx="50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рава   -            мур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3160" y="544500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ло    -            сверл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уйте слова, используя суффиксы        -ишк-, -ышк-, -юшк-, уш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89880" y="1989000"/>
            <a:ext cx="40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о       -      пер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7720" y="270828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рода   -      бород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18240" y="335772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ыдоба  -     стыдоб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18960" y="4076640"/>
            <a:ext cx="42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ерно       -     зер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8240" y="4797360"/>
            <a:ext cx="43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ья      -    гос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18960" y="5589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я          -     Сон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всех трех родов с мягкой основой пишется суффикс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</a:t>
            </a:r>
            <a:r>
              <a:rPr b="0" lang="ru-RU" sz="28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среднего родов с мягк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юшк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ли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и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и женского родов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у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с твердой основой пишется </a:t>
            </a:r>
            <a:r>
              <a:rPr b="1" lang="ru-RU" sz="2800" spc="-1" strike="noStrike">
                <a:solidFill>
                  <a:srgbClr val="ff33cc"/>
                </a:solidFill>
                <a:latin typeface="Times New Roman"/>
              </a:rPr>
              <a:t>-ыш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*ц, а в существительных женского рода - -*ц. (красав*ц, красав*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*ц, если ударение падает на окончание (ружь*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*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*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становите прави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мужского рода пишется суффикс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а в существительных женского рода -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. (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краса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уществительных среднего рода пишется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падает на окончание (руж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а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, если ударение не падает на окончание (п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Распределите слова в таблице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бр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ита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фамил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пь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астлив*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столюб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сьм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р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кн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сл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ь*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дл*ц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дал*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*к пишется тогда, когда при склонении гласный в суффиксе выпадает, а   *к, если не выпадает (ключ*к – ключ*ка, замоч*к – замоч*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ц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бр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пь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толюб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дале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кн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длец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та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фамил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частлив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ньиц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уйте от данных слов однокоренные с суффиксом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-ен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105264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7480" y="155736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я         -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38920" y="206064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я        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39280" y="256536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8200" y="314172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7168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я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39280" y="422100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я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38560" y="47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я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5373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я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38920" y="6021360"/>
            <a:ext cx="19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я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720" y="104940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155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06064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872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720" y="3141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720" y="3716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17080" y="422100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479736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373720"/>
            <a:ext cx="158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602136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вор       а уселся на дерево перед ок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198900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1480" y="2633760"/>
            <a:ext cx="44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н      а вбежала в 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85280" y="263376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ч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6800" y="3209760"/>
            <a:ext cx="69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белая берез        а с зеленою кос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3209760"/>
            <a:ext cx="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920" y="37130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т спасибо тебе, дед        а, за солн        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13040"/>
            <a:ext cx="8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8560" y="371304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4218120"/>
            <a:ext cx="61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рвал куп      аленький цветоч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7280" y="4218120"/>
            <a:ext cx="58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57080" y="4218120"/>
            <a:ext cx="5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4840" y="4794120"/>
            <a:ext cx="748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незд        о птица вьет в укромном мест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720" y="4794120"/>
            <a:ext cx="9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ы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960" y="52974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льзя пес       ой веселой позабав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8000" y="52974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ерепишите предложения, вставляя пропущенные суффикс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052360"/>
            <a:ext cx="798984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другой год засеяли пол         о пшениц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77080" y="2057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юш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00" y="2705040"/>
            <a:ext cx="68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енок Васька - всеобщий любим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89440" y="270504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342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не не всегда хватает врем     и на чт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93800" y="3429000"/>
            <a:ext cx="5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1520" y="4070520"/>
            <a:ext cx="65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ух         а в доме совсем маленьк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640" y="4073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нь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400" y="4791240"/>
            <a:ext cx="44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а моя однофамил     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47941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к-, -ик-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ффикс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пишется тогда, когда при склонении гласный в суффиксе выпадает, а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, если не выпадает (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, зам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– замоч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Распределите слова в таблице</a:t>
            </a:r>
            <a:r>
              <a:rPr b="0" lang="en-US" sz="3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Monotype Corsiva"/>
              </a:rPr>
              <a:t>в зависимости от суффикс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вит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а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л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уж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лда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нт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л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ыв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ар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ы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ыж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ноч*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ек-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л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да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нт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л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ар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ыжи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ит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а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ж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ыв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ы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ночек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*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ставьте пропущенные бук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п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ш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в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у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коз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ро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ь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означающих лиц женского пола: француж*нка, а также в большой группе существительных женского рода на –ня и –на: вишня – виш*нка, сосна – сос*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*нк пишется в существительных, образованных от слов на –ина: горошина – горош*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898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Monotype Corsiva"/>
              </a:rPr>
              <a:t>Восстановите правил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писание суффиксов –енк-, -инк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означающих лиц женского пола: француж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а также в большой группе существительных женского рода на –ня и –на: вишня – ви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, сосна – со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ффикс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 пишется в существительных, образованных от слов на –ина: горошина – горош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3-04-21T08:59:41Z</dcterms:modified>
  <cp:revision>115</cp:revision>
  <dc:subject/>
  <dc:title>PowerPoint Presentation</dc:title>
</cp:coreProperties>
</file>