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A081-0BE2-4088-8D66-E31767B4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980F-739F-42AE-8020-AF6B8512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B156-0D49-4ADD-974A-7C602A74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C6C9-6907-428E-98A8-EF49916E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A655-55B5-4361-8ED5-F52B925A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B9B9-6375-457A-AE48-50C3D1F9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2880-691A-4D10-A8DB-705C9D31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340F-BB87-424B-BBC2-D0AEAAED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D1C5-D1A6-4AC5-B4CE-0ABF3455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B291-79DC-42FA-821A-7AA3DAAC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4B26-81B3-4375-BD58-CE9E5B4C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FB33-E3A1-4401-8F8F-BE55F4A4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1D22-3F45-4890-8B5B-DE50D40AC0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рфограммы в суффиксах существитель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ставьте пропущенные бук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8640" y="1447920"/>
            <a:ext cx="207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азубр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447920"/>
            <a:ext cx="3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920" y="2133720"/>
            <a:ext cx="197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суд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6840" y="2819520"/>
            <a:ext cx="251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иноград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7640" y="3505320"/>
            <a:ext cx="257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едвежат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9360" y="4267080"/>
            <a:ext cx="146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бас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4480" y="4952880"/>
            <a:ext cx="188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авал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3640" y="5715000"/>
            <a:ext cx="221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ковал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1447920"/>
            <a:ext cx="201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олом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5000" y="213372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иков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5000" y="2895480"/>
            <a:ext cx="194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рещ 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29600" y="3581280"/>
            <a:ext cx="160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ы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45440" y="4267080"/>
            <a:ext cx="23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олокол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4280" y="5029200"/>
            <a:ext cx="19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зюм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34280" y="5715000"/>
            <a:ext cx="169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33"/>
                </a:solidFill>
                <a:latin typeface="Times New Roman"/>
              </a:rPr>
              <a:t>па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6800" y="1447920"/>
            <a:ext cx="156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33"/>
                </a:solidFill>
                <a:latin typeface="Times New Roman"/>
              </a:rPr>
              <a:t>пес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25200" y="2209680"/>
            <a:ext cx="212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она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2960" y="3048120"/>
            <a:ext cx="222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рке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9000" y="21337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2160" y="28195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8840" y="350532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06560" y="4267080"/>
            <a:ext cx="3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495288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30600" y="57150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85840" y="14479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5360" y="21337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1840" y="2895480"/>
            <a:ext cx="38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4480" y="356544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34320" y="42512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9400" y="501336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7120" y="571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16640" y="14018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8920" y="22096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48920" y="30481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спределите слова в таблиц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балал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пеш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угов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опе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а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и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ем*чк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м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аш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16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естр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я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ес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од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г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фуф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аст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уков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етл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абл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50000">
              <a:srgbClr val="ffffff"/>
            </a:gs>
            <a:gs pos="100000">
              <a:srgbClr val="9898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280" y="0"/>
          <a:ext cx="8991360" cy="6857640"/>
        </p:xfrm>
        <a:graphic>
          <a:graphicData uri="http://schemas.openxmlformats.org/drawingml/2006/table">
            <a:tbl>
              <a:tblPr/>
              <a:tblGrid>
                <a:gridCol w="4495680"/>
                <a:gridCol w="4495680"/>
              </a:tblGrid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чк-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чк-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ал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пеш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пе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н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ян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ф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ечко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ш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гов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стр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уков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тл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бл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ласкательных суффиксах собственных имен существительных пиш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м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женского и среднего родов, образованных от существительных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ич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в существительных, если у них есть однокоренные слова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и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уйте слова, используя суффиксы        -ушк, -юшк-, -ышк--ишк-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13520" y="2205000"/>
            <a:ext cx="49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тье    -            пла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10640" y="2852640"/>
            <a:ext cx="49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бро      -            ребр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2080" y="3500280"/>
            <a:ext cx="46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я        -            бат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12800" y="4149720"/>
            <a:ext cx="491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жье     -            руж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12080" y="4797360"/>
            <a:ext cx="50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рава   -            мур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13160" y="5445000"/>
            <a:ext cx="50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ерло    -            сверл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уйте слова, используя суффиксы        -ишк-, -ышк-, -юшк-, уш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89880" y="1989000"/>
            <a:ext cx="40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о       -      пер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87720" y="2708280"/>
            <a:ext cx="43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рода   -      бород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18240" y="3357720"/>
            <a:ext cx="46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оба  -     стыдоб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18960" y="4076640"/>
            <a:ext cx="42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ерно       -     зерн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18240" y="4797360"/>
            <a:ext cx="43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ья      -    гос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18960" y="5589720"/>
            <a:ext cx="44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ня          -     Сон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всех трех родов с мягкой основой пишется суффикс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юшк</a:t>
            </a:r>
            <a:r>
              <a:rPr b="0" lang="ru-RU" sz="2800" spc="-1" strike="noStrike">
                <a:solidFill>
                  <a:srgbClr val="ff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и среднего родов с мягк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юш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ли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и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и женского родов с тверд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у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с тверд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ы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становите прави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рода пишется суффикс -*ц, а в существительных женского рода - -*ц. (красав*ц, красав*ц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пишется -*ц, если ударение падает на окончание (ружь*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а -*ц, если ударение не падает на окончание (п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ь*ц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становите прави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рода пишется суффикс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а в существительных женского рода -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. (крас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крас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пишется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если ударение падает на окончание (руж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а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если ударение не падает на окончание (п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Распределите слова в таблице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бролюб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итал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офамил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пь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сл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частлив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столюб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сьм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рень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кн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сл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нь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дл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адал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к-, -ик-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ффикс  *к пишется тогда, когда при склонении гласный в суффиксе выпадает, а   *к, если не выпадает (ключ*к – ключ*ка, замоч*к – замоч*к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ц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ц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бролюб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пь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столюб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дал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ьм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кн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дл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итал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офамил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сл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частлив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рень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л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нь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бразуйте от данных слов однокоренные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-ен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38560" y="105264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37480" y="1557360"/>
            <a:ext cx="24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я         -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38920" y="2060640"/>
            <a:ext cx="22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мя        -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39280" y="256536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е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38200" y="3141720"/>
            <a:ext cx="20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 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71680" y="371628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мя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39280" y="4221000"/>
            <a:ext cx="20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38560" y="479736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ремя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40000" y="53737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мя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38920" y="6021360"/>
            <a:ext cx="19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мя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16720" y="1049400"/>
            <a:ext cx="16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16360" y="1557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1640" y="2060640"/>
            <a:ext cx="20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88720" y="2565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720" y="3141720"/>
            <a:ext cx="12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720" y="3716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17080" y="4221000"/>
            <a:ext cx="16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3280" y="4797360"/>
            <a:ext cx="16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0720" y="5373720"/>
            <a:ext cx="158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6021360"/>
            <a:ext cx="18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ерепишите предложения, вставляя пропущенные суффикс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вор       а уселся на дерево перед окн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63640" y="198900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1480" y="2633760"/>
            <a:ext cx="449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н      а вбежала в с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85280" y="2633760"/>
            <a:ext cx="7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ч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6800" y="3209760"/>
            <a:ext cx="69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т белая берез        а с зеленою кос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19640" y="3209760"/>
            <a:ext cx="9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нь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3920" y="3713040"/>
            <a:ext cx="755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т спасибо тебе, дед        а, за солн        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371304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28560" y="371304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7360" y="4218120"/>
            <a:ext cx="61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рвал куп      аленький цветоч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27280" y="4218120"/>
            <a:ext cx="58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57080" y="4218120"/>
            <a:ext cx="56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4840" y="4794120"/>
            <a:ext cx="748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незд        о птица вьет в укромном мес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92720" y="479412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8960" y="5297400"/>
            <a:ext cx="68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льзя пес       ой веселой позабави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28000" y="52974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н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ерепишите предложения, вставляя пропущенные суффикс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2052360"/>
            <a:ext cx="798984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другой год засеяли пол         о пшениц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77080" y="20574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0800" y="2705040"/>
            <a:ext cx="68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тенок Васька - всеобщий любим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89440" y="2705040"/>
            <a:ext cx="5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342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е не всегда хватает врем     и на чт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93800" y="3429000"/>
            <a:ext cx="5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1520" y="4070520"/>
            <a:ext cx="65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х         а в доме совсем маленьк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87640" y="407340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нь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400" y="4791240"/>
            <a:ext cx="44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а моя однофамил     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96720" y="479412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к-, -ик-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ффикс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пишется тогда, когда при склонении гласный в суффиксе выпадает, а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, если не выпадает (клю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– клю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, замо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– замочк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Распределите слова в таблице</a:t>
            </a:r>
            <a:r>
              <a:rPr b="0" lang="en-US" sz="3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 зависимости от суффикс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вит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лаж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ала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руж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лда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ин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ол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рыв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ар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ын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ыж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ен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к-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к-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ла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лда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н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л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ар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ыж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ит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лаж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уж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ыв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ын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н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ап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ш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с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с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ш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в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ч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коз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ч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рож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ап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ш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с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с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ш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коз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рож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нк-, -инк-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*нк пишется в существительных, обозначающих лиц женского пола: француж*нка, а также в большой группе существительных женского рода на –ня и –на: вишня – виш*нка, сосна – сос*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*нк пишется в существительных, образованных от слов на –ина: горошина – горош*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нк-, -инк-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 пишется в существительных, обозначающих лиц женского пола: француж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, а также в большой группе существительных женского рода на –ня и –на: вишня – виш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, сосна – сос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 пишется в существительных, образованных от слов на –ина: горошина – горош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3-04-21T08:59:41Z</dcterms:modified>
  <cp:revision>115</cp:revision>
  <dc:subject/>
  <dc:title>PowerPoint Presentation</dc:title>
</cp:coreProperties>
</file>