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641-9E2C-4FEB-ACFA-EC4AEF96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BE3-22CD-4B13-8D59-00B5BC95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F06-7680-43C5-92CC-2330F72C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FB9-3B7C-406D-8458-6CD5CA15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9F4-8079-4201-B9B7-479D0A78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A01-22F2-4D80-9782-651ACF6E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BC8-D8C6-499B-9B60-ADA24EB2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CBE-F54F-42E5-A45A-AAE5C35E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594-4100-4FD0-85FF-D8E928FF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D9F-15B2-4996-878B-FB727F10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610-5FF9-4786-9B7D-A3BA9783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8AE-5CE1-4F1E-909B-7BD9044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E016-8096-4117-B539-A7C75398BE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рфограммы в суффиксах существитель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1447920"/>
            <a:ext cx="20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зубр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447920"/>
            <a:ext cx="3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920" y="2133720"/>
            <a:ext cx="197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у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40" y="2819520"/>
            <a:ext cx="251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огра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350532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двежат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360" y="4267080"/>
            <a:ext cx="14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с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480" y="495288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а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640" y="5715000"/>
            <a:ext cx="22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ковал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4479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ло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5000" y="21337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ков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2895480"/>
            <a:ext cx="19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рещ 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9600" y="3581280"/>
            <a:ext cx="160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5440" y="426708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око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4280" y="502920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ю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4280" y="571500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6800" y="1447920"/>
            <a:ext cx="156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ес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5200" y="2209680"/>
            <a:ext cx="21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2960" y="3048120"/>
            <a:ext cx="222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рке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160" y="28195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35053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26708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95288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571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5840" y="14479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536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1840" y="2895480"/>
            <a:ext cx="38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4480" y="356544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42512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400" y="501336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120" y="571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14018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8920" y="220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8920" y="3048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лал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пе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уг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п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и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*чк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стр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я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с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д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ф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ст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ук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т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б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0"/>
          <a:ext cx="8991360" cy="685764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л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е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я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ф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еч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г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к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аскательных суффиксах собственных имен существительных пиш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м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женского и среднего родов, образованных от существительных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в существительных, если у них есть однокоренные слова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ушк, -юшк-, -ышк--ишк-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3520" y="22050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ье    -            пл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0640" y="28526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ро      -            реб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080" y="3500280"/>
            <a:ext cx="46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я        -            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414972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жье     -            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2080" y="479736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а   -            мур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3160" y="54450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ло    -            свер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ишк-, -ышк-, -юшк-, уш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9880" y="1989000"/>
            <a:ext cx="40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о       -      п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7720" y="2708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ода   -      боро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8240" y="335772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оба  -     стыдо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8960" y="4076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       -     зер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8240" y="4797360"/>
            <a:ext cx="43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ья      -    гос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8960" y="5589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я          -     Со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всех трех родов с мягкой основой пишется суффикс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среднего родов с мягк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и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женского родов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у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ы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*ц, а в существительных женского рода - -*ц. (красав*ц, красав*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*ц, если ударение падает на окончание (ружь*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*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*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а в существительных женского рода -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. (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падает на окончание (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бр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ита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ми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ь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астлив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ст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р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н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дл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дал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*к пишется тогда, когда при склонении гласный в суффиксе выпадает, а   *к, если не выпадает (ключ*к – ключ*ка, замоч*к – замоч*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бр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ь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да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кн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дл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та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фами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лив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уйте от данных слов однокоренные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ен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105264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7480" y="155736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я         -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920" y="206064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я        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39280" y="256536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8200" y="3141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168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я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9280" y="42210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7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я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я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8920" y="602136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я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720" y="104940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06064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872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720" y="3141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72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7080" y="42210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9736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37372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02136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вор       а уселся на дерево перед ок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989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1480" y="263376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      а вбежала в 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5280" y="263376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ч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6800" y="32097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белая берез        а с зеленою кос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3209760"/>
            <a:ext cx="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920" y="37130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спасибо тебе, дед        а, за солн        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1304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8560" y="371304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421812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вал куп      аленький цветоч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21812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080" y="42181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840" y="479412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езд        о птица вьет в укромном ме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720" y="4794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960" y="52974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ес       ой веселой поза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0" y="5297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79898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ругой год засеяли пол         о пшен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7080" y="2057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00" y="270504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енок Васька - всеобщий любим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9440" y="27050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42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не всегда хватает врем     и на ч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3800" y="34290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520" y="40705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х         а в доме совсем маленьк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640" y="4073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" y="479124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моя однофамил     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47941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ишется тогда, когда при склонении гласный в суффиксе выпадает, а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, если не выпадает (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, зам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замоч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Распределите слова в таблице</a:t>
            </a: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 зависимости от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вит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а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л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у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д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н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л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ыв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ар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ы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ыж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л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д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н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л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ар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ыж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ит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ыв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означающих лиц женского пола: француж*нка, а также в большой группе существительных женского рода на –ня и –на: вишня – виш*нка, сосна – сос*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разованных от слов на –ина: горошина – горош*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означающих лиц женского пола: францу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а также в большой группе существительных женского рода на –ня и –на: вишня – ви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сосна – со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разованных от слов на –ина: горошина – горо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4-21T08:59:41Z</dcterms:modified>
  <cp:revision>115</cp:revision>
  <dc:subject/>
  <dc:title>PowerPoint Presentation</dc:title>
</cp:coreProperties>
</file>