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6784-95B9-4813-BF72-623D1268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57B4-D9A0-4D46-AD18-6D6EF415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8B5E-AA17-4B80-83BA-BC580678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4AE2-82FE-4F79-A5DA-E1C0C32F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5A92-9349-4404-A59E-14A05B93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7023-8610-46FA-8029-2FA7A7E2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0A14-2D65-4E33-AC92-BF93C1AB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A76C-0B9A-4D9F-ABE4-54935EB0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D43D-01AE-4D69-895C-1538ACCF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A1AF-E602-4204-8E0A-FA62551A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8D23-F5AA-454E-9275-04E0FDB9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7573-4A00-471A-83AE-7C24530C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2C30-6B8B-48B4-8789-47D8F728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0584-E3DF-4D37-818D-FBBB3581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68F1-9479-49CB-8A8E-EA0308E2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09D8-15C1-4655-AA85-DB2289FC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85BF-DBE4-4184-98D2-A44D69E2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AF8DC-E848-476A-923C-D2B57497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5F91A-5A1E-4BC6-A165-EFE78B90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310DB-7299-4879-85E3-9464621C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1C498-F444-4B3D-9F71-547C4A8D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27931-C4F3-40E0-8173-173C4ACA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25FC-41ED-40C9-826A-890419B9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E73A1-8192-4B43-9B64-ECD1DAAB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DB350-4EBE-4D28-927D-BC7978F9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03919-68DE-4473-B0BF-8F27844A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D444F-EE7E-4C3B-B35C-72306AE0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6D5F0-FE82-42FA-8CDB-E7779FD9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6F033-E055-4F5C-BC4A-23C71D79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4E170-CFEA-4A4E-9DB9-9ABDCF09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13FF2-86CC-40AA-996D-6525E906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1E23F-A5FE-4DC4-B071-1D4D3318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EEDB6-343D-46B1-BEE0-B5E4E57B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5E3B-6100-44CC-B38F-F5F85C2F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F2505-060B-4673-B36B-72CA7637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46B91-015B-439D-BFF2-5ECB8498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968E2-DF3A-4216-99D2-FC079C1B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1D7FF-7873-4A3E-9CFC-17B4B654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49981-51BE-4195-8DD2-E3D04A3C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0C70E-CB48-4882-80A3-21645102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3E771-0FEE-405E-A40A-292043D8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7287D-250A-48B7-A768-871B2FCB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5BE58-941F-45D7-8136-F505B21C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0378A-433E-4CF5-8290-2D1C5204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16AF-1603-4675-834D-EAAE203E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95324-217C-40EC-8CE1-EFDE59E9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16718-BDC9-47FC-9D63-331D0EB7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27600-CE87-425A-BA11-EE3E7A77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5E150-D8F3-4BDA-AA26-29831C10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C4265-0DED-461C-A29E-C8B51D30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A37E3-FF4A-4F7F-97C0-8B281473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AFF24-D63D-488B-A010-E2FD0F5C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65917-A7A2-4DED-AF5E-3DBFB66E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18985-FBD4-41EE-BFA3-8EB6F67D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74009-F10E-41D8-AB7D-3D346B6F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645D-18A8-4E3C-9E37-3C102E28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9F3EB-2634-490C-9B15-A9D9DA27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B25D3-22AA-4238-A71F-6B9DC922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E36CB-F1EC-4EEC-AB6E-70D068A3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7B8D5-7388-4559-AA24-26CCCFEE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71BE7-7054-45D3-AE8B-77F2762F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E1808-5B38-4B72-9DCF-6AB4FC07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6449B-8900-4B65-9C66-9E9ABE90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0C9FA-59C4-4A69-93B5-13EA8920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1A717-8F7F-49E4-9DEE-04A696B5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3B2BD-0E0E-4D9C-9DAC-D96AC7F1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EF5F-E001-48AB-AC55-4D73D64A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3E95D-3FFB-4681-A917-CF06EA29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F606F-6541-4E37-B09E-054E29D4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B3FCC-0C1B-4D10-8E1C-9DF06809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C219-9D01-4E07-89ED-C9E5B5EA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597C-50D6-4E3D-A5C2-E7A932DB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7B12-C8C6-4D88-B6D6-59FAC737F32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6BE7-256D-466C-B518-5A55CBE995B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3685-F167-46CF-97F7-03C9EA2FAAD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6561-B806-4E38-A6F0-8DFA6D0C3D3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2301-DA90-422D-985E-6552D61D0F9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997320" y="6315480"/>
            <a:ext cx="134712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B268-FF84-4E11-AC14-614A863A61A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696464"/>
                </a:solidFill>
                <a:uFillTx/>
                <a:latin typeface="Cambria"/>
              </a:rPr>
              <a:t>Урок черчения в 8 класс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омпозиция чертежа. Проецирование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2500200" y="4929120"/>
            <a:ext cx="6400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Подготовила учитель математики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МОУ СОШ № 4 с.Малые Ягуры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Фоменко Анжелика Анатольевна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3" name="Рисунок 18" descr="Рисунок 10"/>
          <p:cNvPicPr/>
          <p:nvPr/>
        </p:nvPicPr>
        <p:blipFill>
          <a:blip r:embed="rId1"/>
          <a:stretch/>
        </p:blipFill>
        <p:spPr>
          <a:xfrm>
            <a:off x="214200" y="284040"/>
            <a:ext cx="828684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5" name="Рисунок 19" descr="Рисунок 11"/>
          <p:cNvPicPr/>
          <p:nvPr/>
        </p:nvPicPr>
        <p:blipFill>
          <a:blip r:embed="rId1"/>
          <a:stretch/>
        </p:blipFill>
        <p:spPr>
          <a:xfrm>
            <a:off x="285840" y="352440"/>
            <a:ext cx="82152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7" name="Рисунок 22" descr="Рисунок 14"/>
          <p:cNvPicPr/>
          <p:nvPr/>
        </p:nvPicPr>
        <p:blipFill>
          <a:blip r:embed="rId1"/>
          <a:stretch/>
        </p:blipFill>
        <p:spPr>
          <a:xfrm>
            <a:off x="396720" y="428760"/>
            <a:ext cx="81853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17236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Расположение видов на чертеже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9" name="Рисунок 23" descr="Рисунок 15"/>
          <p:cNvPicPr/>
          <p:nvPr/>
        </p:nvPicPr>
        <p:blipFill>
          <a:blip r:embed="rId1"/>
          <a:stretch/>
        </p:blipFill>
        <p:spPr>
          <a:xfrm>
            <a:off x="77760" y="928800"/>
            <a:ext cx="5807160" cy="521496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651280" y="1125360"/>
            <a:ext cx="3313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При выполнении чертежа предмет надо располагать относительно фронтальной плоскости проекций так, чтобы главный вид давал наиболее полное представление о форме и размерах предмета. Количество видов на чертеже должно быть наименьшим, но достаточным для полного выявления форм и размеров предмет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Этапы построен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2" name="Рисунок 24" descr="Рисунок 16"/>
          <p:cNvPicPr/>
          <p:nvPr/>
        </p:nvPicPr>
        <p:blipFill>
          <a:blip r:embed="rId1"/>
          <a:stretch/>
        </p:blipFill>
        <p:spPr>
          <a:xfrm>
            <a:off x="77760" y="1428840"/>
            <a:ext cx="5521320" cy="49291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508720" y="1828800"/>
            <a:ext cx="331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На чертежах проецирующие лучи не проводят, но обязательное требование, сохранение расположения видов относительно друг друг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05" name="Рисунок 30" descr="Рисунок 22"/>
          <p:cNvPicPr/>
          <p:nvPr/>
        </p:nvPicPr>
        <p:blipFill>
          <a:blip r:embed="rId1"/>
          <a:srcRect l="0" t="0" r="-62" b="0"/>
          <a:stretch/>
        </p:blipFill>
        <p:spPr>
          <a:xfrm>
            <a:off x="539640" y="189000"/>
            <a:ext cx="763272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Виды проецирован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5" name="Рисунок 9" descr="Рисунок 1"/>
          <p:cNvPicPr/>
          <p:nvPr/>
        </p:nvPicPr>
        <p:blipFill>
          <a:blip r:embed="rId1"/>
          <a:stretch/>
        </p:blipFill>
        <p:spPr>
          <a:xfrm>
            <a:off x="0" y="650880"/>
            <a:ext cx="871056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e3611"/>
                </a:solidFill>
                <a:latin typeface="Calibri"/>
              </a:rPr>
              <a:t>Проецирование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1356840"/>
            <a:ext cx="7696080" cy="473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оецирование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– это процесс построения проекции предмет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лоскость проекции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 – плоскость на которой получается проекц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оецирующий луч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 – прямая с помощью которой строится проекция вершин, граней, ребер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1010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Центра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79" name="Рисунок 11" descr="Рисунок 3"/>
          <p:cNvPicPr/>
          <p:nvPr/>
        </p:nvPicPr>
        <p:blipFill>
          <a:blip r:embed="rId1"/>
          <a:stretch/>
        </p:blipFill>
        <p:spPr>
          <a:xfrm>
            <a:off x="0" y="928800"/>
            <a:ext cx="5857920" cy="5500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6227280" y="1557360"/>
            <a:ext cx="2916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Точка из которой выходит проекция – центр проецирован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Фотоснимки, кинокадры.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86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Паралле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2" name="Рисунок 12" descr="Рисунок 4"/>
          <p:cNvPicPr/>
          <p:nvPr/>
        </p:nvPicPr>
        <p:blipFill>
          <a:blip r:embed="rId1"/>
          <a:srcRect l="0" t="0" r="-64" b="172"/>
          <a:stretch/>
        </p:blipFill>
        <p:spPr>
          <a:xfrm>
            <a:off x="0" y="1785960"/>
            <a:ext cx="7000920" cy="47862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04000" y="1916280"/>
            <a:ext cx="2340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Условно солнечные тени предметов.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8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e3611"/>
                </a:solidFill>
                <a:latin typeface="Calibri"/>
              </a:rPr>
              <a:t>Косоугольное проецирование</a:t>
            </a:r>
            <a:endParaRPr b="0" lang="en-US" sz="44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5" name="Рисунок 13" descr="Рисунок 5"/>
          <p:cNvPicPr/>
          <p:nvPr/>
        </p:nvPicPr>
        <p:blipFill>
          <a:blip r:embed="rId1"/>
          <a:stretch/>
        </p:blipFill>
        <p:spPr>
          <a:xfrm>
            <a:off x="857160" y="1214280"/>
            <a:ext cx="71694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3611"/>
                </a:solidFill>
                <a:latin typeface="Calibri"/>
              </a:rPr>
              <a:t>Прямоугольное проецирова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7" name="Рисунок 14" descr="Рисунок 6"/>
          <p:cNvPicPr/>
          <p:nvPr/>
        </p:nvPicPr>
        <p:blipFill>
          <a:blip r:embed="rId1"/>
          <a:srcRect l="0" t="0" r="0" b="91"/>
          <a:stretch/>
        </p:blipFill>
        <p:spPr>
          <a:xfrm>
            <a:off x="438120" y="1357200"/>
            <a:ext cx="8443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3840" y="152280"/>
            <a:ext cx="89298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Чертеж в системе </a:t>
            </a:r>
            <a:br>
              <a:rPr sz="3600"/>
            </a:br>
            <a:r>
              <a:rPr b="1" lang="ru-RU" sz="3600" spc="-1" strike="noStrike">
                <a:solidFill>
                  <a:srgbClr val="9e3611"/>
                </a:solidFill>
                <a:latin typeface="Calibri"/>
              </a:rPr>
              <a:t>прямоугольных проекций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9" name="Рисунок 16" descr="Рисунок 8"/>
          <p:cNvPicPr/>
          <p:nvPr/>
        </p:nvPicPr>
        <p:blipFill>
          <a:blip r:embed="rId1"/>
          <a:stretch/>
        </p:blipFill>
        <p:spPr>
          <a:xfrm>
            <a:off x="1000080" y="1357200"/>
            <a:ext cx="696456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1" name="Рисунок 15" descr="Рисунок 7"/>
          <p:cNvPicPr/>
          <p:nvPr/>
        </p:nvPicPr>
        <p:blipFill>
          <a:blip r:embed="rId1"/>
          <a:stretch/>
        </p:blipFill>
        <p:spPr>
          <a:xfrm>
            <a:off x="611280" y="333360"/>
            <a:ext cx="7705800" cy="61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08:35:33Z</dcterms:created>
  <dc:creator>Дубовик</dc:creator>
  <dc:description/>
  <dc:language>en-US</dc:language>
  <cp:lastModifiedBy>Admin</cp:lastModifiedBy>
  <dcterms:modified xsi:type="dcterms:W3CDTF">2005-01-01T01:37:04Z</dcterms:modified>
  <cp:revision>4</cp:revision>
  <dc:subject/>
  <dc:title>Композиция чертеж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100000000000010243100207f6000400038000</vt:lpwstr>
  </property>
</Properties>
</file>