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FEFD-3465-4AD7-ABD1-1703102A0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9273-A469-467F-98A2-47C1D369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9B4F-76F1-4115-8D19-4A646F2D8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4D79-8E75-4C86-9E78-F4FA9D161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2966-DE80-453E-BE63-9702E8296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BAB2-8857-40E6-91FA-BD8C87D6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5573-8293-4211-A85F-7972DB9D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D5ED-B0DD-4029-A818-47558AAD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7CEB-18CB-47C6-BFCE-40086B0D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39AA-0620-469D-A9C9-D5194FBB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29D3-631C-4361-A613-7152692A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BCE3-5AED-41F2-8030-72555FEE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3E04-5AC2-4282-9A16-661CB05A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7E7F-483F-496C-85CD-7FA2E716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750D-8D5B-4521-81FD-76E1049A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B50F-4CCB-48FC-A655-8843228D5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85FB-04E0-4C32-9FF6-1E617B025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91FC6-F548-4613-A1CF-A1E6D25C0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28818-67C9-4800-A7B5-5EB7BA4A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186DB-0BFD-4342-9515-A5FD6C11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64222-7AEA-47D2-AE77-2565262B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BFE24-3234-4ABA-8572-FCDF8E40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6253-B80B-44E4-A327-511153BE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9E5A2-D3BD-4FC6-9398-B51013D7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714CA-DC92-4FBC-8DF6-0B584354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E0D42-45FF-4905-8EE2-34901C74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0DD8B-620F-4A03-AEFA-9AA8FCC9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A7520-008C-450E-9303-2B9C43EE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EEC74-EC33-4D34-9FDF-5A3ABA6E9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A28B7-E8F2-4A55-BCDE-FBF91DCEE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AF857-B62D-402E-91E9-43231A586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35D01-7EFA-4FA0-99F2-5EEB3D7C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3311B-4C68-460B-859A-D06AED6A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0284-9BB9-419E-B475-D1A6DC5E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9952C-EFC8-4136-AD68-68AC40EC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B62FA-41FC-4AF1-9757-EC490B76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04C93-43DE-4B6F-90E7-6420D136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528C6-C78E-4E12-895F-69A508F1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0BAD8-07C4-43CA-9F70-E5326DC8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747AF-42E3-43C1-A7FF-DDE8C4F4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6C991-3744-4EB1-B112-8E5B6C90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DD16B-5DC2-4CD9-95BE-3D27FC0E0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22FA5-7D77-4D49-BA4C-E7C420113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E608E-F825-4504-A942-524ABAAFE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035C-D4F9-4F49-9441-891AE45A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8EC77-97AD-4B34-B944-7F15FF93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1CBF5-A888-444A-B1FB-B7E108BD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E9859-E072-404E-B01D-FFE3D963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EB87D-3D1A-4708-BBA2-757FEF5D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C9BA0-E345-49AB-A380-0E76B924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129EF-8A22-4176-8FAA-B85E70E1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59C51-3069-440E-8D8D-B1E808E3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FDAAE-30DA-4603-AE04-44E83C8F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D0292-C94F-46C8-8AFF-5B46EE82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8A31B-CDC2-48F9-A1FD-FD4B22C46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7FEC-C51A-404F-BD13-73E421E2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C2DBC-5DA6-4B40-880C-09CC3DFE1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8D59B-181B-420D-9776-F41D38497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B2ABC-9E79-4462-B0FF-9859B68A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D9573-C2D3-4707-9594-C13EC5AA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6B358-70F5-4129-A24A-61A926BD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D073E-4144-40A7-9A31-345AD77E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A0366-0412-4B33-B30C-1FF53A37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F3B16-B7B6-482D-A53D-1FD839DE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2FC45-49B9-4105-84D3-EF7AF684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68212-ED19-4F9C-A18B-7C3B2805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4662-B129-4108-9B5C-1B127039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7AC54-4A1A-4607-A09E-41111697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9ACCD-F3EC-430D-A408-FB34CBB29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43F24-74EB-44F9-A117-00ECB9E6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BE5F-69C2-407A-90A7-67C98646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8515-7593-453D-B7E8-3809AC84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3EFA-D177-4CB5-8A38-27983853D51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4C7B-CF8C-4408-8220-6B03BE5B312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9D34-6F26-4844-A257-E25A5889A49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958C-225B-43C8-B50D-B63E710450B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9323-A4F8-4E31-8F30-93EDEEA61AB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997320" y="6315480"/>
            <a:ext cx="134712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9B69-FFCC-4BF7-9324-33324A6BF88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696464"/>
                </a:solidFill>
                <a:uFillTx/>
                <a:latin typeface="Cambria"/>
              </a:rPr>
              <a:t>Урок черчения в 8 класс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омпозиция чертежа. Проецирование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2500200" y="4929120"/>
            <a:ext cx="6400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Подготовила учитель математики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МОУ СОШ № 4 с.Малые Ягуры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Фоменко Анжелика Анатольевна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3" name="Рисунок 18" descr="Рисунок 10"/>
          <p:cNvPicPr/>
          <p:nvPr/>
        </p:nvPicPr>
        <p:blipFill>
          <a:blip r:embed="rId1"/>
          <a:stretch/>
        </p:blipFill>
        <p:spPr>
          <a:xfrm>
            <a:off x="214200" y="284040"/>
            <a:ext cx="8286840" cy="62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5" name="Рисунок 19" descr="Рисунок 11"/>
          <p:cNvPicPr/>
          <p:nvPr/>
        </p:nvPicPr>
        <p:blipFill>
          <a:blip r:embed="rId1"/>
          <a:stretch/>
        </p:blipFill>
        <p:spPr>
          <a:xfrm>
            <a:off x="285840" y="352440"/>
            <a:ext cx="821520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7" name="Рисунок 22" descr="Рисунок 14"/>
          <p:cNvPicPr/>
          <p:nvPr/>
        </p:nvPicPr>
        <p:blipFill>
          <a:blip r:embed="rId1"/>
          <a:stretch/>
        </p:blipFill>
        <p:spPr>
          <a:xfrm>
            <a:off x="396720" y="428760"/>
            <a:ext cx="818532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172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Расположение видов на чертеже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9" name="Рисунок 23" descr="Рисунок 15"/>
          <p:cNvPicPr/>
          <p:nvPr/>
        </p:nvPicPr>
        <p:blipFill>
          <a:blip r:embed="rId1"/>
          <a:stretch/>
        </p:blipFill>
        <p:spPr>
          <a:xfrm>
            <a:off x="77760" y="928800"/>
            <a:ext cx="5807160" cy="521496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651280" y="1125360"/>
            <a:ext cx="33130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mbria"/>
              </a:rPr>
              <a:t>При выполнении чертежа предмет надо располагать относительно фронтальной плоскости проекций так, чтобы главный вид давал наиболее полное представление о форме и размерах предмета. Количество видов на чертеже должно быть наименьшим, но достаточным для полного выявления форм и размеров предмет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Этапы построени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02" name="Рисунок 24" descr="Рисунок 16"/>
          <p:cNvPicPr/>
          <p:nvPr/>
        </p:nvPicPr>
        <p:blipFill>
          <a:blip r:embed="rId1"/>
          <a:stretch/>
        </p:blipFill>
        <p:spPr>
          <a:xfrm>
            <a:off x="77760" y="1428840"/>
            <a:ext cx="5521320" cy="49291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508720" y="1828800"/>
            <a:ext cx="331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mbria"/>
              </a:rPr>
              <a:t>На чертежах проецирующие лучи не проводят, но обязательное требование, сохранение расположения видов относительно друг друг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05" name="Рисунок 30" descr="Рисунок 22"/>
          <p:cNvPicPr/>
          <p:nvPr/>
        </p:nvPicPr>
        <p:blipFill>
          <a:blip r:embed="rId1"/>
          <a:srcRect l="0" t="0" r="-62" b="0"/>
          <a:stretch/>
        </p:blipFill>
        <p:spPr>
          <a:xfrm>
            <a:off x="539640" y="189000"/>
            <a:ext cx="763272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Виды проецировани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5" name="Рисунок 9" descr="Рисунок 1"/>
          <p:cNvPicPr/>
          <p:nvPr/>
        </p:nvPicPr>
        <p:blipFill>
          <a:blip r:embed="rId1"/>
          <a:stretch/>
        </p:blipFill>
        <p:spPr>
          <a:xfrm>
            <a:off x="0" y="650880"/>
            <a:ext cx="871056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e3611"/>
                </a:solidFill>
                <a:latin typeface="Calibri"/>
              </a:rPr>
              <a:t>Проецирование</a:t>
            </a:r>
            <a:endParaRPr b="0" lang="en-US" sz="6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85800" y="1356840"/>
            <a:ext cx="7696080" cy="47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Проецирование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– это процесс построения проекции предмета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Плоскость проекции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 – плоскость на которой получается проекци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Проецирующий луч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 – прямая с помощью которой строится проекция вершин, граней, ребер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1010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Центральное проециров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9" name="Рисунок 11" descr="Рисунок 3"/>
          <p:cNvPicPr/>
          <p:nvPr/>
        </p:nvPicPr>
        <p:blipFill>
          <a:blip r:embed="rId1"/>
          <a:stretch/>
        </p:blipFill>
        <p:spPr>
          <a:xfrm>
            <a:off x="0" y="928800"/>
            <a:ext cx="5857920" cy="5500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6227280" y="1557360"/>
            <a:ext cx="2916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Точка из которой выходит проекция – центр проецировани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Фотоснимки, кинокадры.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86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Параллельное проециров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2" name="Рисунок 12" descr="Рисунок 4"/>
          <p:cNvPicPr/>
          <p:nvPr/>
        </p:nvPicPr>
        <p:blipFill>
          <a:blip r:embed="rId1"/>
          <a:srcRect l="0" t="0" r="-64" b="172"/>
          <a:stretch/>
        </p:blipFill>
        <p:spPr>
          <a:xfrm>
            <a:off x="0" y="1785960"/>
            <a:ext cx="7000920" cy="47862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04000" y="1916280"/>
            <a:ext cx="2340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mbria"/>
              </a:rPr>
              <a:t>Условно солнечные тени предметов.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8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e3611"/>
                </a:solidFill>
                <a:latin typeface="Calibri"/>
              </a:rPr>
              <a:t>Косоугольное проецирование</a:t>
            </a:r>
            <a:endParaRPr b="0" lang="en-US" sz="44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5" name="Рисунок 13" descr="Рисунок 5"/>
          <p:cNvPicPr/>
          <p:nvPr/>
        </p:nvPicPr>
        <p:blipFill>
          <a:blip r:embed="rId1"/>
          <a:stretch/>
        </p:blipFill>
        <p:spPr>
          <a:xfrm>
            <a:off x="857160" y="1214280"/>
            <a:ext cx="71694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Прямоугольное проециров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7" name="Рисунок 14" descr="Рисунок 6"/>
          <p:cNvPicPr/>
          <p:nvPr/>
        </p:nvPicPr>
        <p:blipFill>
          <a:blip r:embed="rId1"/>
          <a:srcRect l="0" t="0" r="0" b="91"/>
          <a:stretch/>
        </p:blipFill>
        <p:spPr>
          <a:xfrm>
            <a:off x="438120" y="1357200"/>
            <a:ext cx="84438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3840" y="152280"/>
            <a:ext cx="89298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Чертеж в системе </a:t>
            </a:r>
            <a:br>
              <a:rPr sz="3600"/>
            </a:b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прямоугольных проекций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9" name="Рисунок 16" descr="Рисунок 8"/>
          <p:cNvPicPr/>
          <p:nvPr/>
        </p:nvPicPr>
        <p:blipFill>
          <a:blip r:embed="rId1"/>
          <a:stretch/>
        </p:blipFill>
        <p:spPr>
          <a:xfrm>
            <a:off x="1000080" y="1357200"/>
            <a:ext cx="696456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1" name="Рисунок 15" descr="Рисунок 7"/>
          <p:cNvPicPr/>
          <p:nvPr/>
        </p:nvPicPr>
        <p:blipFill>
          <a:blip r:embed="rId1"/>
          <a:stretch/>
        </p:blipFill>
        <p:spPr>
          <a:xfrm>
            <a:off x="611280" y="333360"/>
            <a:ext cx="7705800" cy="61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08:35:33Z</dcterms:created>
  <dc:creator>Дубовик</dc:creator>
  <dc:description/>
  <dc:language>en-US</dc:language>
  <cp:lastModifiedBy>Admin</cp:lastModifiedBy>
  <dcterms:modified xsi:type="dcterms:W3CDTF">2005-01-01T01:37:04Z</dcterms:modified>
  <cp:revision>4</cp:revision>
  <dc:subject/>
  <dc:title>Композиция чертежа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100000000000010243100207f6000400038000</vt:lpwstr>
  </property>
</Properties>
</file>