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5A3F-9520-46FB-8B6B-E18F6F39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3388-C9E6-40B8-AF06-E058F45F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FFDF-C99E-42D9-9558-E7D3D054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48B1-3C5B-4834-AF4A-6017CF12F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E443-4A3F-455D-A2AB-5AFA6B47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47BD-9B31-4B35-B6B1-432B43BB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4C79-D3F9-4B7A-B15C-8F0A0A50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DDEE-142C-4E3F-B31C-8382F3B3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74A1-04E0-4EDB-BAF2-13C179AD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73C3-AF58-4B33-A8F8-8DAA6789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3637-B9C5-4740-B3F5-C5333EFB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C3E9-7684-4791-85A6-72013C0F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48DF-8CEF-4D84-8D53-7A3482E2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53A7-42D4-4092-BA54-946357A0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D810-12A0-4760-B773-088B924D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E95E-A98C-4290-B761-6BE5AC74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E3E3-7076-47B3-B1F8-6FA6D3A7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2D787-061C-44CF-A7D8-282E5D38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8FBF5-89A3-4306-9F46-4691E653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4FFDD-A152-4E50-9290-B9CE3DE7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4729D-8A7D-4136-BA94-F4CB987E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CE46F-C305-46CF-9D31-6439EA16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036C-CE6E-4860-B243-4B832FF2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C1C23-233B-4C0A-8CD2-39A4741F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5F92C-33D4-4A1F-A896-5122A5EB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4D554-92F4-4224-9525-A6F8DE6B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3B334-66A1-4FDF-9DB6-2C4CD8A2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11507-AC00-4097-90B0-C132875A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84D23-87DD-4DBE-B065-780CC747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7E7E9-40A5-4E49-9A93-126E254E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CC1CE-F3B0-434D-92B9-12043870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1CF76-6909-4A21-B675-DCD168D0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D544B-74D9-42D8-A73E-9BE35E44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6B42-A0C0-4F93-92CF-5DE694DB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62F1F-9F32-4DEA-8F10-7A103F74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F4254-09AF-4118-9E23-2F514D8A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52D69-4A9C-420B-8F06-7388999D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3BE44-49BB-48A8-AB85-D9139333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2F5E0-0D1B-4D9D-B42C-6961CECF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7B1B0-3B5F-461C-A131-FD1951E4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67FC3-8C4F-412E-AB13-279CF8DE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31238-4C8F-4CD1-A55B-D29EC14C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07D64-B70B-492E-BCCF-54EBB584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7FEC6-1A14-4672-99AC-A873E04F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F53-3C9C-427B-96C7-F7E0E10B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3FE13-BAD2-41FC-9474-A06C0729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75D54-2A3A-4269-BF0A-AD7D9945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77ED1-17E7-43BD-B811-C8C8C5B1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7F4CD-269E-4D76-B8C5-EC12FD5C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D5DC3-DA6F-479F-A002-7327AAA2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98054-F2C0-4B2D-BAEC-605F111D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63296-A5FF-49FF-A5D2-E0E19404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5A1A9-C5DF-444F-9647-D81C4786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74A6C-8DAE-4A83-A5C2-6E1AAAD7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EE7B2-D161-419A-8F8E-8D2AF264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350B-553F-4351-9063-F8AB03A6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4AF0E-981F-42A2-8642-F2AE9AEC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ECC5B-80B7-432C-8EFC-A6A3C557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5D577-07EE-4C86-8F4A-21DDB21B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42E13-8A50-4B3A-A008-BCF99308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1A984-AD78-44C1-9081-504D5F62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6055E-6DDF-4729-BC93-51A9E892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928A0-077F-40F9-B761-FF308398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D74A2-4691-4D90-894D-A7465F95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7E072-C3C2-4DC5-A4A8-77F56A79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9AC0F-04F8-4A63-893C-6623DEE0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C7FD-5620-4A4F-B729-C6824FC8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B7FA2-81E4-4BD5-A01F-691F3751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D8221-020D-404D-9766-EB3787EB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A1A15-A12F-48A6-AEF3-C90FA4E3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495E-5788-4E62-B39F-6C413267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F3B5-E117-40C6-8D01-A77A106B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8B9F-F312-4107-A230-D4219DBEA9B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C3C8-EE73-45F5-AD7B-C9AC4715010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B0FD-6F38-44D4-A011-4BABDC26921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AC8D-0167-44F0-9277-BE06B23F1F4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D7EA-70F8-40B7-9BF0-87DD33FEC78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997320" y="6315480"/>
            <a:ext cx="134712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3F9B-C2F4-4002-A0F9-1A5249CFBCC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96464"/>
                </a:solidFill>
                <a:uFillTx/>
                <a:latin typeface="Cambria"/>
              </a:rPr>
              <a:t>Урок черчения в 8 класс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омпозиция чертежа. Проецирование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500200" y="4929120"/>
            <a:ext cx="6400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Подготовила учитель математики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МОУ СОШ № 4 с.Малые Ягуры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Фоменко Анжелика Анатольевна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3" name="Рисунок 18" descr="Рисунок 10"/>
          <p:cNvPicPr/>
          <p:nvPr/>
        </p:nvPicPr>
        <p:blipFill>
          <a:blip r:embed="rId1"/>
          <a:stretch/>
        </p:blipFill>
        <p:spPr>
          <a:xfrm>
            <a:off x="214200" y="284040"/>
            <a:ext cx="828684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5" name="Рисунок 19" descr="Рисунок 11"/>
          <p:cNvPicPr/>
          <p:nvPr/>
        </p:nvPicPr>
        <p:blipFill>
          <a:blip r:embed="rId1"/>
          <a:stretch/>
        </p:blipFill>
        <p:spPr>
          <a:xfrm>
            <a:off x="285840" y="352440"/>
            <a:ext cx="82152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7" name="Рисунок 22" descr="Рисунок 14"/>
          <p:cNvPicPr/>
          <p:nvPr/>
        </p:nvPicPr>
        <p:blipFill>
          <a:blip r:embed="rId1"/>
          <a:stretch/>
        </p:blipFill>
        <p:spPr>
          <a:xfrm>
            <a:off x="396720" y="428760"/>
            <a:ext cx="81853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172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Расположение видов на чертеж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9" name="Рисунок 23" descr="Рисунок 15"/>
          <p:cNvPicPr/>
          <p:nvPr/>
        </p:nvPicPr>
        <p:blipFill>
          <a:blip r:embed="rId1"/>
          <a:stretch/>
        </p:blipFill>
        <p:spPr>
          <a:xfrm>
            <a:off x="77760" y="928800"/>
            <a:ext cx="5807160" cy="521496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651280" y="1125360"/>
            <a:ext cx="3313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При выполнении чертежа предмет надо располагать относительно фронтальной плоскости проекций так, чтобы главный вид давал наиболее полное представление о форме и размерах предмета. Количество видов на чертеже должно быть наименьшим, но достаточным для полного выявления форм и размеров предмет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Этапы построен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2" name="Рисунок 24" descr="Рисунок 16"/>
          <p:cNvPicPr/>
          <p:nvPr/>
        </p:nvPicPr>
        <p:blipFill>
          <a:blip r:embed="rId1"/>
          <a:stretch/>
        </p:blipFill>
        <p:spPr>
          <a:xfrm>
            <a:off x="77760" y="1428840"/>
            <a:ext cx="5521320" cy="49291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508720" y="1828800"/>
            <a:ext cx="331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На чертежах проецирующие лучи не проводят, но обязательное требование, сохранение расположения видов относительно друг друг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5" name="Рисунок 30" descr="Рисунок 22"/>
          <p:cNvPicPr/>
          <p:nvPr/>
        </p:nvPicPr>
        <p:blipFill>
          <a:blip r:embed="rId1"/>
          <a:srcRect l="0" t="0" r="-62" b="0"/>
          <a:stretch/>
        </p:blipFill>
        <p:spPr>
          <a:xfrm>
            <a:off x="539640" y="189000"/>
            <a:ext cx="763272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Виды проецирован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5" name="Рисунок 9" descr="Рисунок 1"/>
          <p:cNvPicPr/>
          <p:nvPr/>
        </p:nvPicPr>
        <p:blipFill>
          <a:blip r:embed="rId1"/>
          <a:stretch/>
        </p:blipFill>
        <p:spPr>
          <a:xfrm>
            <a:off x="0" y="650880"/>
            <a:ext cx="871056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e3611"/>
                </a:solidFill>
                <a:latin typeface="Calibri"/>
              </a:rPr>
              <a:t>Проецирование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1356840"/>
            <a:ext cx="7696080" cy="47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оецирование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– это процесс построения проекции предмет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лоскость проекции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 – плоскость на которой получается проекц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оецирующий луч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 – прямая с помощью которой строится проекция вершин, граней, ребер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1010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Центра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9" name="Рисунок 11" descr="Рисунок 3"/>
          <p:cNvPicPr/>
          <p:nvPr/>
        </p:nvPicPr>
        <p:blipFill>
          <a:blip r:embed="rId1"/>
          <a:stretch/>
        </p:blipFill>
        <p:spPr>
          <a:xfrm>
            <a:off x="0" y="928800"/>
            <a:ext cx="5857920" cy="5500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6227280" y="1557360"/>
            <a:ext cx="2916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Точка из которой выходит проекция – центр проецирован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Фотоснимки, кинокадры.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86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Паралле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2" name="Рисунок 12" descr="Рисунок 4"/>
          <p:cNvPicPr/>
          <p:nvPr/>
        </p:nvPicPr>
        <p:blipFill>
          <a:blip r:embed="rId1"/>
          <a:srcRect l="0" t="0" r="-64" b="172"/>
          <a:stretch/>
        </p:blipFill>
        <p:spPr>
          <a:xfrm>
            <a:off x="0" y="1785960"/>
            <a:ext cx="7000920" cy="47862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04000" y="1916280"/>
            <a:ext cx="2340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Условно солнечные тени предметов.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8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e3611"/>
                </a:solidFill>
                <a:latin typeface="Calibri"/>
              </a:rPr>
              <a:t>Косоугольное проецирование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5" name="Рисунок 13" descr="Рисунок 5"/>
          <p:cNvPicPr/>
          <p:nvPr/>
        </p:nvPicPr>
        <p:blipFill>
          <a:blip r:embed="rId1"/>
          <a:stretch/>
        </p:blipFill>
        <p:spPr>
          <a:xfrm>
            <a:off x="857160" y="1214280"/>
            <a:ext cx="71694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Прямоуго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7" name="Рисунок 14" descr="Рисунок 6"/>
          <p:cNvPicPr/>
          <p:nvPr/>
        </p:nvPicPr>
        <p:blipFill>
          <a:blip r:embed="rId1"/>
          <a:srcRect l="0" t="0" r="0" b="91"/>
          <a:stretch/>
        </p:blipFill>
        <p:spPr>
          <a:xfrm>
            <a:off x="438120" y="1357200"/>
            <a:ext cx="8443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3840" y="152280"/>
            <a:ext cx="89298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Чертеж в системе </a:t>
            </a:r>
            <a:br>
              <a:rPr sz="3600"/>
            </a:b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прямоугольных проекций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9" name="Рисунок 16" descr="Рисунок 8"/>
          <p:cNvPicPr/>
          <p:nvPr/>
        </p:nvPicPr>
        <p:blipFill>
          <a:blip r:embed="rId1"/>
          <a:stretch/>
        </p:blipFill>
        <p:spPr>
          <a:xfrm>
            <a:off x="1000080" y="1357200"/>
            <a:ext cx="696456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1" name="Рисунок 15" descr="Рисунок 7"/>
          <p:cNvPicPr/>
          <p:nvPr/>
        </p:nvPicPr>
        <p:blipFill>
          <a:blip r:embed="rId1"/>
          <a:stretch/>
        </p:blipFill>
        <p:spPr>
          <a:xfrm>
            <a:off x="611280" y="333360"/>
            <a:ext cx="7705800" cy="61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08:35:33Z</dcterms:created>
  <dc:creator>Дубовик</dc:creator>
  <dc:description/>
  <dc:language>en-US</dc:language>
  <cp:lastModifiedBy>Admin</cp:lastModifiedBy>
  <dcterms:modified xsi:type="dcterms:W3CDTF">2005-01-01T01:37:04Z</dcterms:modified>
  <cp:revision>4</cp:revision>
  <dc:subject/>
  <dc:title>Композиция чертеж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100000000000010243100207f6000400038000</vt:lpwstr>
  </property>
</Properties>
</file>