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624E-B5E7-416A-8733-769683FD4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A6E2-4832-4A8C-9A62-9A4A6D9CE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3F35-524D-487A-91C1-C4FD3FCA1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36FC-EB17-40D9-970F-1899E058A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6C81-9DD0-400A-AA34-F30387FB29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38FE-CDCC-4593-B502-210411D58C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B7C0-60A1-437B-8409-1BBD26E9BD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BC82-FCDF-42F5-8813-934C6BC08A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80D4-D4E7-4E4F-91A5-D48099C477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CD2C-4B98-4F14-ADB6-C4B9CF3153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2DFD-F398-4BEC-99FA-A229C13E32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F743-6EBE-480C-B664-8A7F3C60F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5518-9BC3-4863-B6B5-0356C307BB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B862-113C-448D-9F5B-4A92EBD215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8A0B-1887-4A63-A88F-502BB46A21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9B27-5EAB-404E-9771-B41AE1EC44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C623-6991-40BE-9804-FE714C8447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0479-740C-4E5D-B478-32A828208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734C-38A8-4DC4-9824-4A3F9CB8D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65ED-8451-4F45-8379-638A65ABD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B8C9-E070-401B-99BE-88E9CCAC0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9394-8768-4B92-997E-CD984BAB3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9C25-21BF-4962-BCC4-A9A0A30AD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9B64-3A4D-43DA-BB79-2804BADB9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238560" y="0"/>
            <a:ext cx="11923560" cy="3808080"/>
            <a:chOff x="-3238560" y="0"/>
            <a:chExt cx="11923560" cy="3808080"/>
          </a:xfrm>
        </p:grpSpPr>
        <p:sp>
          <p:nvSpPr>
            <p:cNvPr id="1" name="AutoShape 2"/>
            <p:cNvSpPr/>
            <p:nvPr/>
          </p:nvSpPr>
          <p:spPr>
            <a:xfrm>
              <a:off x="-3238560" y="685440"/>
              <a:ext cx="4114080" cy="3122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2425680" y="0"/>
              <a:ext cx="3093120" cy="3152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1370880" y="1523160"/>
              <a:ext cx="731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9C9254-8F67-47E3-8AB1-415356FE4F9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-3222720" y="304920"/>
            <a:ext cx="11907720" cy="4722480"/>
            <a:chOff x="-3222720" y="304920"/>
            <a:chExt cx="11907720" cy="4722480"/>
          </a:xfrm>
        </p:grpSpPr>
        <p:sp>
          <p:nvSpPr>
            <p:cNvPr id="46" name="Line 2"/>
            <p:cNvSpPr/>
            <p:nvPr/>
          </p:nvSpPr>
          <p:spPr>
            <a:xfrm>
              <a:off x="1447200" y="2513880"/>
              <a:ext cx="7237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AutoShape 3"/>
            <p:cNvSpPr/>
            <p:nvPr/>
          </p:nvSpPr>
          <p:spPr>
            <a:xfrm>
              <a:off x="-2514600" y="1371240"/>
              <a:ext cx="3656880" cy="3656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3222720" y="304920"/>
              <a:ext cx="4038120" cy="40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A8919B-3336-45F1-B5A8-C2E1D04F71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лина окружно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Площадь</a:t>
            </a: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руг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00000" y="3780000"/>
            <a:ext cx="7740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рмишко  Ольга Константи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СОШ № 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гт Прогр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урская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71640" y="1827360"/>
            <a:ext cx="77119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900" spc="-1" strike="noStrike">
                <a:solidFill>
                  <a:srgbClr val="ffcc00"/>
                </a:solidFill>
                <a:latin typeface="Tahoma"/>
              </a:rPr>
              <a:t>52,78 см, 221,67  кв. с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900" spc="-1" strike="noStrike">
                <a:solidFill>
                  <a:srgbClr val="0000ff"/>
                </a:solidFill>
                <a:latin typeface="Verdana"/>
              </a:rPr>
              <a:t>9,42 м, 7,07 кв.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20,11 дм. 32,17 кв. д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00+3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9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1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910: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8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3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ре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76360" y="1844640"/>
            <a:ext cx="69832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                   В   С                   К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3"/>
          <p:cNvSpPr/>
          <p:nvPr/>
        </p:nvSpPr>
        <p:spPr>
          <a:xfrm>
            <a:off x="161928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07672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637000"/>
            <a:ext cx="79218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908000" y="393372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908000" y="522936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908000" y="422100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564000" y="4221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427640" y="450864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789360"/>
            <a:ext cx="1366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908000" y="3284640"/>
            <a:ext cx="2092680" cy="43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4221000"/>
            <a:ext cx="1584360" cy="1584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5867280" y="3429000"/>
            <a:ext cx="2592360" cy="576360"/>
          </a:xfrm>
          <a:prstGeom prst="wedgeEllipseCallout">
            <a:avLst>
              <a:gd name="adj1" fmla="val -35856"/>
              <a:gd name="adj2" fmla="val 7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03280" y="2781360"/>
            <a:ext cx="712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Окружность, 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020000" y="494172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4859280" y="49417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692360" y="5013360"/>
            <a:ext cx="647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419640" y="5229360"/>
            <a:ext cx="431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419640" y="3068640"/>
            <a:ext cx="57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0000" y="1827360"/>
            <a:ext cx="82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Окруж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это замкнутая линия, все точки которой находятся на одинаковом расстоянии от некоторой точки. Эта точка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центро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ру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763640" y="3357720"/>
            <a:ext cx="2232000" cy="22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916360" y="4365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916360" y="4365720"/>
            <a:ext cx="647640" cy="1008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484360" y="40053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306864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иаметр равен двум радиусам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Но ведь окружность не отрезо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К ней и линейку приложить нельзя .</a:t>
            </a: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ahoma"/>
              </a:rPr>
              <a:t>Как же её измери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190600" y="3573360"/>
            <a:ext cx="1378080" cy="1727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акан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763640" y="5445000"/>
            <a:ext cx="2376720" cy="546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012000" y="551664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0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7667640" y="5589720"/>
            <a:ext cx="162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32000" y="1827360"/>
            <a:ext cx="735156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C=2*3.14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S=3.14*R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370160" y="1484280"/>
            <a:ext cx="7311960" cy="5111640"/>
            <a:chOff x="1370160" y="1484280"/>
            <a:chExt cx="7311960" cy="511164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370160" y="1484280"/>
              <a:ext cx="731196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370160" y="1484280"/>
              <a:ext cx="73119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84360" y="155736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йти длину окружности и площадь круга, радиус которой равен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24 с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4,7 д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18,5 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нтрольные 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26920" y="1827360"/>
            <a:ext cx="785664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ус круга равен 8,4 с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1,5 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3,2 д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42:21Z</dcterms:created>
  <dc:creator>Ермишко</dc:creator>
  <dc:description/>
  <dc:language>en-US</dc:language>
  <cp:lastModifiedBy>Приемная</cp:lastModifiedBy>
  <dcterms:modified xsi:type="dcterms:W3CDTF">2011-05-13T06:28:35Z</dcterms:modified>
  <cp:revision>8</cp:revision>
  <dc:subject>математика 6 класс</dc:subject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4000000000001024140</vt:lpwstr>
  </property>
</Properties>
</file>