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7266-9B98-44D1-AEB4-D2FAEEA4C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E3347-B338-471D-8107-94959ED4C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615A1-C54E-4A18-8B7F-3163163EA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15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29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701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15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29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69A42-3DD9-4EE1-8AC8-28A51A6B4B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61CD8-B0D6-4072-BFA1-9B5EEF1123D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54766-FD1B-4627-9F07-DB648FB69F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B7CF5E-3D57-4A74-8FA9-8BA78A9249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AB1A2-2297-4C03-95B4-B6918ACB71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64F49-7DD7-4E56-8B0F-C3833538A7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0160" y="246240"/>
            <a:ext cx="730872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394201-9BD8-4A1A-85D4-9BA76B1A27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2D1BA-5A02-4A83-A1A0-270F5ED13A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0C4DE-EB02-406E-9160-1F356F890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5884F2-146C-4A44-BFB2-7CA5352EE84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1306D-AA55-49C2-BDB5-E650CEE5C4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CF503-B8A4-4C27-91F1-E05A4F30C3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31F40-247C-4F32-BCB0-766FB33CF1F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15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2960" y="182736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01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15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2960" y="3974040"/>
            <a:ext cx="23533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61568-ADE2-43B0-8695-576454CAD0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3908A-C092-4528-A96D-2301F8163E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C235D-6BBB-4B38-8CD2-01E9C4770C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787A7-F249-4818-A1C7-3F365EA6ED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70160" y="246240"/>
            <a:ext cx="7308720" cy="551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7DD97-B44A-4D9B-8A3B-4894B6A39F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2F60C-C054-43BF-A0BF-6B36E87EC9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5240" y="397404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A614E-5178-4360-87AA-287F7AAC27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5240" y="1827360"/>
            <a:ext cx="35665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70160" y="3974040"/>
            <a:ext cx="7308720" cy="19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87587-F968-4408-880C-7509F8D47D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-3238560" y="0"/>
            <a:ext cx="11923560" cy="3808080"/>
            <a:chOff x="-3238560" y="0"/>
            <a:chExt cx="11923560" cy="3808080"/>
          </a:xfrm>
        </p:grpSpPr>
        <p:sp>
          <p:nvSpPr>
            <p:cNvPr id="1" name="AutoShape 2"/>
            <p:cNvSpPr/>
            <p:nvPr/>
          </p:nvSpPr>
          <p:spPr>
            <a:xfrm>
              <a:off x="-3238560" y="685440"/>
              <a:ext cx="4114080" cy="312264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-2425680" y="0"/>
              <a:ext cx="3093120" cy="3152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Line 4"/>
            <p:cNvSpPr/>
            <p:nvPr/>
          </p:nvSpPr>
          <p:spPr>
            <a:xfrm>
              <a:off x="1370880" y="1523160"/>
              <a:ext cx="73141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74B7D2-8E20-4020-AD4A-EFD66D1B33E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1"/>
          <p:cNvGrpSpPr/>
          <p:nvPr/>
        </p:nvGrpSpPr>
        <p:grpSpPr>
          <a:xfrm>
            <a:off x="-3222720" y="304920"/>
            <a:ext cx="11907720" cy="4722480"/>
            <a:chOff x="-3222720" y="304920"/>
            <a:chExt cx="11907720" cy="4722480"/>
          </a:xfrm>
        </p:grpSpPr>
        <p:sp>
          <p:nvSpPr>
            <p:cNvPr id="46" name="Line 2"/>
            <p:cNvSpPr/>
            <p:nvPr/>
          </p:nvSpPr>
          <p:spPr>
            <a:xfrm>
              <a:off x="1447200" y="2513880"/>
              <a:ext cx="723780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7" name="AutoShape 3"/>
            <p:cNvSpPr/>
            <p:nvPr/>
          </p:nvSpPr>
          <p:spPr>
            <a:xfrm>
              <a:off x="-2514600" y="1371240"/>
              <a:ext cx="3656880" cy="3656160"/>
            </a:xfrm>
            <a:prstGeom prst="pi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-3222720" y="304920"/>
              <a:ext cx="4038120" cy="403704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0160" y="246240"/>
            <a:ext cx="7308720" cy="11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70160" y="1827360"/>
            <a:ext cx="730872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4572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DA036F9-DD28-4133-AAEB-41826CED30EC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69800" y="161640"/>
            <a:ext cx="7313400" cy="1282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Arial"/>
              </a:rPr>
              <a:t>Длина окружности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Площадь</a:t>
            </a:r>
            <a:r>
              <a:rPr b="0" lang="ru-RU" sz="29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Verdana"/>
              </a:rPr>
              <a:t>круг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just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just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r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1280" indent="0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341280" indent="0" algn="r">
              <a:spcBef>
                <a:spcPts val="1100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900000" y="3780000"/>
            <a:ext cx="774072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рмишко  Ольга Константино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У СОШ № 4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гт Прогресс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мурская обла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01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Проверь себ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971640" y="1827360"/>
            <a:ext cx="771192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lang="ru-RU" sz="2900" spc="-1" strike="noStrike">
                <a:solidFill>
                  <a:srgbClr val="ffcc00"/>
                </a:solidFill>
                <a:latin typeface="Tahoma"/>
              </a:rPr>
              <a:t>52,78 см, 221,67  кв. см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1" i="1" lang="ru-RU" sz="2900" spc="-1" strike="noStrike">
                <a:solidFill>
                  <a:srgbClr val="0000ff"/>
                </a:solidFill>
                <a:latin typeface="Verdana"/>
              </a:rPr>
              <a:t>9,42 м, 7,07 кв.м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I.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ff0000"/>
                </a:solidFill>
                <a:latin typeface="Verdana"/>
              </a:rPr>
              <a:t>20,11 дм. 32,17 кв. дм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Устный счё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500+31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:9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*6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-12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:14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910:13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*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-8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:16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*350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Отрезки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2"/>
          <p:cNvSpPr/>
          <p:nvPr/>
        </p:nvSpPr>
        <p:spPr>
          <a:xfrm>
            <a:off x="1476360" y="1844640"/>
            <a:ext cx="6983280" cy="40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А                    В   С                   К  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3"/>
          <p:cNvSpPr/>
          <p:nvPr/>
        </p:nvSpPr>
        <p:spPr>
          <a:xfrm>
            <a:off x="1619280" y="2349360"/>
            <a:ext cx="2808360" cy="1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4"/>
          <p:cNvSpPr/>
          <p:nvPr/>
        </p:nvSpPr>
        <p:spPr>
          <a:xfrm>
            <a:off x="5076720" y="2349360"/>
            <a:ext cx="2808360" cy="180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826920" y="2637000"/>
            <a:ext cx="79218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1908000" y="3933720"/>
            <a:ext cx="1657440" cy="503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Oval 7"/>
          <p:cNvSpPr/>
          <p:nvPr/>
        </p:nvSpPr>
        <p:spPr>
          <a:xfrm>
            <a:off x="1908000" y="5229360"/>
            <a:ext cx="1657440" cy="503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908000" y="4221000"/>
            <a:ext cx="18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3564000" y="4221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Oval 10"/>
          <p:cNvSpPr/>
          <p:nvPr/>
        </p:nvSpPr>
        <p:spPr>
          <a:xfrm>
            <a:off x="4427640" y="4508640"/>
            <a:ext cx="914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AutoShape 11"/>
          <p:cNvSpPr/>
          <p:nvPr/>
        </p:nvSpPr>
        <p:spPr>
          <a:xfrm>
            <a:off x="4284720" y="3789360"/>
            <a:ext cx="1366920" cy="4316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Круг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1908000" y="3284640"/>
            <a:ext cx="2092680" cy="43164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Цилинд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Oval 13"/>
          <p:cNvSpPr/>
          <p:nvPr/>
        </p:nvSpPr>
        <p:spPr>
          <a:xfrm>
            <a:off x="6227640" y="4221000"/>
            <a:ext cx="1584360" cy="158436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AutoShape 14"/>
          <p:cNvSpPr/>
          <p:nvPr/>
        </p:nvSpPr>
        <p:spPr>
          <a:xfrm>
            <a:off x="5867280" y="3429000"/>
            <a:ext cx="2592360" cy="576360"/>
          </a:xfrm>
          <a:prstGeom prst="wedgeEllipseCallout">
            <a:avLst>
              <a:gd name="adj1" fmla="val -35856"/>
              <a:gd name="adj2" fmla="val 70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Verdana"/>
              </a:rPr>
              <a:t>Окружность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1403280" y="2781360"/>
            <a:ext cx="7129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Verdana"/>
              </a:rPr>
              <a:t>Окружность, круг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Oval 16"/>
          <p:cNvSpPr/>
          <p:nvPr/>
        </p:nvSpPr>
        <p:spPr>
          <a:xfrm>
            <a:off x="7020000" y="4941720"/>
            <a:ext cx="7128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Oval 17"/>
          <p:cNvSpPr/>
          <p:nvPr/>
        </p:nvSpPr>
        <p:spPr>
          <a:xfrm>
            <a:off x="4859280" y="4941720"/>
            <a:ext cx="71640" cy="716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>
            <a:off x="1692360" y="5013360"/>
            <a:ext cx="64764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3419640" y="5229360"/>
            <a:ext cx="43164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419640" y="3068640"/>
            <a:ext cx="576000" cy="64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Arial"/>
              </a:rPr>
              <a:t>Окружность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900000" y="1827360"/>
            <a:ext cx="82440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just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Окружность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это замкнутая линия, все точки которой находятся на одинаковом расстоянии от некоторой точки. Эта точка называется </a:t>
            </a: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центром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кружност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 algn="just">
              <a:spcBef>
                <a:spcPts val="45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Oval 6"/>
          <p:cNvSpPr/>
          <p:nvPr/>
        </p:nvSpPr>
        <p:spPr>
          <a:xfrm>
            <a:off x="1763640" y="3357720"/>
            <a:ext cx="2232000" cy="22320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Oval 7"/>
          <p:cNvSpPr/>
          <p:nvPr/>
        </p:nvSpPr>
        <p:spPr>
          <a:xfrm>
            <a:off x="2916360" y="436572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Line 8"/>
          <p:cNvSpPr/>
          <p:nvPr/>
        </p:nvSpPr>
        <p:spPr>
          <a:xfrm>
            <a:off x="2916360" y="4365720"/>
            <a:ext cx="647640" cy="1008000"/>
          </a:xfrm>
          <a:prstGeom prst="line">
            <a:avLst/>
          </a:prstGeom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2484360" y="4005360"/>
            <a:ext cx="3589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4140360" y="3068640"/>
            <a:ext cx="4752720" cy="29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</a:rPr>
              <a:t>Диаметр равен двум радиусам</a:t>
            </a: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Tahoma"/>
              </a:rPr>
              <a:t>Но ведь окружность не отрезок!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c00"/>
                </a:solidFill>
                <a:latin typeface="Tahoma"/>
              </a:rPr>
              <a:t>К ней и линейку приложить нельзя .</a:t>
            </a:r>
            <a:r>
              <a:rPr b="1" i="1" lang="ru-RU" sz="1800" spc="-1" strike="noStrike">
                <a:solidFill>
                  <a:srgbClr val="33cc33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Tahoma"/>
              </a:rPr>
              <a:t>Как же её измерить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2190600" y="3573360"/>
            <a:ext cx="1378080" cy="1727280"/>
          </a:xfrm>
          <a:prstGeom prst="line">
            <a:avLst/>
          </a:prstGeom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Эксперимен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2"/>
          <p:cNvSpPr/>
          <p:nvPr/>
        </p:nvSpPr>
        <p:spPr>
          <a:xfrm>
            <a:off x="137016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Стакан.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Picture 3" descr=""/>
          <p:cNvPicPr/>
          <p:nvPr/>
        </p:nvPicPr>
        <p:blipFill>
          <a:blip r:embed="rId1"/>
          <a:stretch/>
        </p:blipFill>
        <p:spPr>
          <a:xfrm>
            <a:off x="1835280" y="2492280"/>
            <a:ext cx="2305080" cy="23050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4" descr=""/>
          <p:cNvPicPr/>
          <p:nvPr/>
        </p:nvPicPr>
        <p:blipFill>
          <a:blip r:embed="rId2"/>
          <a:stretch/>
        </p:blipFill>
        <p:spPr>
          <a:xfrm>
            <a:off x="6012000" y="2060640"/>
            <a:ext cx="2592360" cy="302400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5" descr=""/>
          <p:cNvPicPr/>
          <p:nvPr/>
        </p:nvPicPr>
        <p:blipFill>
          <a:blip r:embed="rId3"/>
          <a:stretch/>
        </p:blipFill>
        <p:spPr>
          <a:xfrm>
            <a:off x="1763640" y="5445000"/>
            <a:ext cx="2376720" cy="54612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6012000" y="5516640"/>
            <a:ext cx="2663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4"/>
          <a:stretch/>
        </p:blipFill>
        <p:spPr>
          <a:xfrm>
            <a:off x="7524720" y="5589720"/>
            <a:ext cx="216000" cy="206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"/>
          <p:cNvPicPr/>
          <p:nvPr/>
        </p:nvPicPr>
        <p:blipFill>
          <a:blip r:embed="rId5"/>
          <a:stretch/>
        </p:blipFill>
        <p:spPr>
          <a:xfrm>
            <a:off x="7667640" y="5589720"/>
            <a:ext cx="16200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Формулы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2"/>
          <p:cNvSpPr/>
          <p:nvPr/>
        </p:nvSpPr>
        <p:spPr>
          <a:xfrm>
            <a:off x="1332000" y="1827360"/>
            <a:ext cx="735156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Verdana"/>
              </a:rPr>
              <a:t>C=2*3.14*R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Verdana"/>
              </a:rPr>
              <a:t>S=3.14*R*R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алькулятор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5" name="Group 2"/>
          <p:cNvGrpSpPr/>
          <p:nvPr/>
        </p:nvGrpSpPr>
        <p:grpSpPr>
          <a:xfrm>
            <a:off x="1370160" y="1484280"/>
            <a:ext cx="7311960" cy="5111640"/>
            <a:chOff x="1370160" y="1484280"/>
            <a:chExt cx="7311960" cy="5111640"/>
          </a:xfrm>
        </p:grpSpPr>
        <p:pic>
          <p:nvPicPr>
            <p:cNvPr id="136" name="Picture 3" descr=""/>
            <p:cNvPicPr/>
            <p:nvPr/>
          </p:nvPicPr>
          <p:blipFill>
            <a:blip r:embed="rId1"/>
            <a:stretch/>
          </p:blipFill>
          <p:spPr>
            <a:xfrm>
              <a:off x="1370160" y="1484280"/>
              <a:ext cx="7311960" cy="511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4"/>
            <p:cNvSpPr/>
            <p:nvPr/>
          </p:nvSpPr>
          <p:spPr>
            <a:xfrm>
              <a:off x="1370160" y="1484280"/>
              <a:ext cx="7311960" cy="51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Задания группа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84360" y="1557360"/>
            <a:ext cx="845964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8400" algn="ctr"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ahoma"/>
              </a:rPr>
              <a:t>Найти длину окружности и площадь круга, радиус которой равен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  группа  </a:t>
            </a: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24 с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   группа  </a:t>
            </a: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4,7 д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43080" indent="-338400">
              <a:lnSpc>
                <a:spcPct val="100000"/>
              </a:lnSpc>
              <a:spcBef>
                <a:spcPts val="726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I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группа  </a:t>
            </a:r>
            <a:r>
              <a:rPr b="1" lang="ru-RU" sz="2900" spc="-1" strike="noStrike">
                <a:solidFill>
                  <a:srgbClr val="0000ff"/>
                </a:solidFill>
                <a:latin typeface="Verdana"/>
              </a:rPr>
              <a:t>18,5 м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1370160" y="301680"/>
            <a:ext cx="7313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Контрольные задания группам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826920" y="1827360"/>
            <a:ext cx="7856640" cy="47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8040" indent="-338040" algn="just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диус круга равен 8,4 см. Найти длину окружности и площадь к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Радиус круга равен 1,5 м. Найти длину окружности и площадь к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buClr>
                <a:srgbClr val="0000cc"/>
              </a:buClr>
              <a:buFont typeface="Wingdings" charset="2"/>
              <a:buChar char=""/>
              <a:tabLst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Радиус круга равен 3,2 дм. Найти длину окружности и площадь круг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8040" indent="-338040">
              <a:spcBef>
                <a:spcPts val="700"/>
              </a:spcBef>
              <a:tabLst>
                <a:tab algn="l" pos="0"/>
                <a:tab algn="l" pos="338040"/>
                <a:tab algn="l" pos="785880"/>
                <a:tab algn="l" pos="1235160"/>
                <a:tab algn="l" pos="1684440"/>
                <a:tab algn="l" pos="2133720"/>
                <a:tab algn="l" pos="2583000"/>
                <a:tab algn="l" pos="3032280"/>
                <a:tab algn="l" pos="3481560"/>
                <a:tab algn="l" pos="3930480"/>
                <a:tab algn="l" pos="4379760"/>
                <a:tab algn="l" pos="4829040"/>
                <a:tab algn="l" pos="5278320"/>
                <a:tab algn="l" pos="5727600"/>
                <a:tab algn="l" pos="6176880"/>
                <a:tab algn="l" pos="6626160"/>
                <a:tab algn="l" pos="7075440"/>
                <a:tab algn="l" pos="7524720"/>
                <a:tab algn="l" pos="7974000"/>
                <a:tab algn="l" pos="8423280"/>
                <a:tab algn="l" pos="8872560"/>
                <a:tab algn="l" pos="93218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7:42:21Z</dcterms:created>
  <dc:creator>Ермишко</dc:creator>
  <dc:description/>
  <dc:language>en-US</dc:language>
  <cp:lastModifiedBy>Приемная</cp:lastModifiedBy>
  <dcterms:modified xsi:type="dcterms:W3CDTF">2011-05-13T06:28:35Z</dcterms:modified>
  <cp:revision>8</cp:revision>
  <dc:subject>математика 6 класс</dc:subject>
  <dc:title>Длина окружнос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204000000000001024140</vt:lpwstr>
  </property>
</Properties>
</file>