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A3DBC-7F27-4B62-9751-53F09AD81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0E1F0-1B77-4BBA-97F3-A762368D3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1B1DB-5CC3-4E38-9E1B-B9B504AE9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15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29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01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15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29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A324-B28D-4621-B1A8-61F5D42D1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D2ED8-E59D-40FC-AC1E-EF36AA54DD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78305-D618-413F-8B3C-0F071D5803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36997-0E98-4D90-9C1D-D13AF23731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2E972-34DF-43DD-B74E-B157313AD5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F0DFE-8AB1-4171-B0C1-B218E88F2A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0160" y="246240"/>
            <a:ext cx="730872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FEE07-1E38-4BAC-8BEC-8CD2ABABB8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77FDF-25F6-4C41-96C4-D94F0E0A7C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2F62F-5790-4F28-9329-626B4EFCD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B6384-AC86-4AD1-8A55-F70DB9845B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39987-FE71-4BA9-8C52-D104A322B8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B45F0-7FF1-44D4-AB8A-18F5A2D159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DE7B3-051E-40AF-9229-4D151C502A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15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29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01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15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29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7B92C-5AFE-4504-BBE3-37EC88F513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3EA6C-C234-441F-9F22-A145286DA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C54F-17B5-4641-BB73-0D4A3D798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22FF-6FC8-4791-8A50-0F7B0AC77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0160" y="246240"/>
            <a:ext cx="730872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DE3D-5331-443C-9A39-45F68D051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27141-5165-4069-BAF2-0C713607A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0417A-D387-426E-A84A-1F3654052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1889-B29D-4F3F-AF7E-3D2539004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238560" y="0"/>
            <a:ext cx="11923560" cy="3808080"/>
            <a:chOff x="-3238560" y="0"/>
            <a:chExt cx="11923560" cy="3808080"/>
          </a:xfrm>
        </p:grpSpPr>
        <p:sp>
          <p:nvSpPr>
            <p:cNvPr id="1" name="AutoShape 2"/>
            <p:cNvSpPr/>
            <p:nvPr/>
          </p:nvSpPr>
          <p:spPr>
            <a:xfrm>
              <a:off x="-3238560" y="685440"/>
              <a:ext cx="4114080" cy="31226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-2425680" y="0"/>
              <a:ext cx="3093120" cy="3152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1370880" y="1523160"/>
              <a:ext cx="7314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D9DA2D-4DBA-4798-97A0-88DAC5A485A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"/>
          <p:cNvGrpSpPr/>
          <p:nvPr/>
        </p:nvGrpSpPr>
        <p:grpSpPr>
          <a:xfrm>
            <a:off x="-3222720" y="304920"/>
            <a:ext cx="11907720" cy="4722480"/>
            <a:chOff x="-3222720" y="304920"/>
            <a:chExt cx="11907720" cy="4722480"/>
          </a:xfrm>
        </p:grpSpPr>
        <p:sp>
          <p:nvSpPr>
            <p:cNvPr id="46" name="Line 2"/>
            <p:cNvSpPr/>
            <p:nvPr/>
          </p:nvSpPr>
          <p:spPr>
            <a:xfrm>
              <a:off x="1447200" y="2513880"/>
              <a:ext cx="72378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AutoShape 3"/>
            <p:cNvSpPr/>
            <p:nvPr/>
          </p:nvSpPr>
          <p:spPr>
            <a:xfrm>
              <a:off x="-2514600" y="1371240"/>
              <a:ext cx="3656880" cy="36561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-3222720" y="304920"/>
              <a:ext cx="4038120" cy="40370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C29431-E641-41D5-BEB7-10C69F4FA28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161640"/>
            <a:ext cx="73134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Длина окружности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Площадь</a:t>
            </a:r>
            <a:r>
              <a:rPr b="0" lang="ru-RU" sz="29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круг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900000" y="3780000"/>
            <a:ext cx="774072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рмишко  Ольга Константин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У СОШ № 4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гт Прогре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мурская обла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0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оверь себ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971640" y="1827360"/>
            <a:ext cx="771192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2900" spc="-1" strike="noStrike">
                <a:solidFill>
                  <a:srgbClr val="ffcc00"/>
                </a:solidFill>
                <a:latin typeface="Tahoma"/>
              </a:rPr>
              <a:t>52,78 см, 221,67  кв. с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ru-RU" sz="2900" spc="-1" strike="noStrike">
                <a:solidFill>
                  <a:srgbClr val="0000ff"/>
                </a:solidFill>
                <a:latin typeface="Verdana"/>
              </a:rPr>
              <a:t>9,42 м, 7,07 кв.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I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ff0000"/>
                </a:solidFill>
                <a:latin typeface="Verdana"/>
              </a:rPr>
              <a:t>20,11 дм. 32,17 кв. д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Устный счё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500+31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9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6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12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1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910:1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8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16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35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Отрез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476360" y="1844640"/>
            <a:ext cx="6983280" cy="40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                    В   С                   К  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3"/>
          <p:cNvSpPr/>
          <p:nvPr/>
        </p:nvSpPr>
        <p:spPr>
          <a:xfrm>
            <a:off x="1619280" y="2349360"/>
            <a:ext cx="2808360" cy="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5076720" y="2349360"/>
            <a:ext cx="2808360" cy="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26920" y="2637000"/>
            <a:ext cx="79218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1908000" y="3933720"/>
            <a:ext cx="1657440" cy="503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1908000" y="5229360"/>
            <a:ext cx="1657440" cy="503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908000" y="4221000"/>
            <a:ext cx="18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564000" y="4221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4427640" y="450864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4284720" y="3789360"/>
            <a:ext cx="1366920" cy="431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Кру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1908000" y="3284640"/>
            <a:ext cx="2092680" cy="43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Цилинд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6227640" y="4221000"/>
            <a:ext cx="1584360" cy="1584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5867280" y="3429000"/>
            <a:ext cx="2592360" cy="576360"/>
          </a:xfrm>
          <a:prstGeom prst="wedgeEllipseCallout">
            <a:avLst>
              <a:gd name="adj1" fmla="val -35856"/>
              <a:gd name="adj2" fmla="val 70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Окруж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403280" y="2781360"/>
            <a:ext cx="7129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Окружность, кру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Oval 16"/>
          <p:cNvSpPr/>
          <p:nvPr/>
        </p:nvSpPr>
        <p:spPr>
          <a:xfrm>
            <a:off x="7020000" y="4941720"/>
            <a:ext cx="7128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Oval 17"/>
          <p:cNvSpPr/>
          <p:nvPr/>
        </p:nvSpPr>
        <p:spPr>
          <a:xfrm>
            <a:off x="4859280" y="494172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1692360" y="5013360"/>
            <a:ext cx="647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3419640" y="5229360"/>
            <a:ext cx="431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419640" y="3068640"/>
            <a:ext cx="576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Окруж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900000" y="1827360"/>
            <a:ext cx="82440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just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Окружность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это замкнутая линия, все точки которой находятся на одинаковом расстоянии от некоторой точки. Эта точка называется 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центром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круж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just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1763640" y="3357720"/>
            <a:ext cx="2232000" cy="22320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2916360" y="436572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916360" y="4365720"/>
            <a:ext cx="647640" cy="1008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484360" y="4005360"/>
            <a:ext cx="358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4140360" y="3068640"/>
            <a:ext cx="4752720" cy="29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Диаметр равен двум радиусам</a:t>
            </a: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Tahoma"/>
              </a:rPr>
              <a:t>Но ведь окружность не отрезок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Tahoma"/>
              </a:rPr>
              <a:t>К ней и линейку приложить нельзя .</a:t>
            </a:r>
            <a:r>
              <a:rPr b="1" i="1" lang="ru-RU" sz="1800" spc="-1" strike="noStrike">
                <a:solidFill>
                  <a:srgbClr val="33cc33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ahoma"/>
              </a:rPr>
              <a:t>Как же её измерить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2190600" y="3573360"/>
            <a:ext cx="1378080" cy="172728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Эксперимен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такан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6012000" y="2060640"/>
            <a:ext cx="2592360" cy="30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1763640" y="5445000"/>
            <a:ext cx="2376720" cy="5461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6012000" y="5516640"/>
            <a:ext cx="2663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4"/>
          <a:stretch/>
        </p:blipFill>
        <p:spPr>
          <a:xfrm>
            <a:off x="7524720" y="5589720"/>
            <a:ext cx="216000" cy="20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5"/>
          <a:stretch/>
        </p:blipFill>
        <p:spPr>
          <a:xfrm>
            <a:off x="7667640" y="5589720"/>
            <a:ext cx="16200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Формул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332000" y="1827360"/>
            <a:ext cx="735156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Verdana"/>
              </a:rPr>
              <a:t>C=2*3.14*R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Verdana"/>
              </a:rPr>
              <a:t>S=3.14*R*R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алькулято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370160" y="1484280"/>
            <a:ext cx="7311960" cy="5111640"/>
            <a:chOff x="1370160" y="1484280"/>
            <a:chExt cx="7311960" cy="5111640"/>
          </a:xfrm>
        </p:grpSpPr>
        <p:pic>
          <p:nvPicPr>
            <p:cNvPr id="136" name="Picture 3" descr=""/>
            <p:cNvPicPr/>
            <p:nvPr/>
          </p:nvPicPr>
          <p:blipFill>
            <a:blip r:embed="rId1"/>
            <a:stretch/>
          </p:blipFill>
          <p:spPr>
            <a:xfrm>
              <a:off x="1370160" y="1484280"/>
              <a:ext cx="731196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4"/>
            <p:cNvSpPr/>
            <p:nvPr/>
          </p:nvSpPr>
          <p:spPr>
            <a:xfrm>
              <a:off x="1370160" y="1484280"/>
              <a:ext cx="731196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адания группа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84360" y="1557360"/>
            <a:ext cx="8459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Найти длину окружности и площадь круга, радиус которой равен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24 с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  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4,7 д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18,5 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онтрольные задания группа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826920" y="1827360"/>
            <a:ext cx="785664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диус круга равен 8,4 с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Радиус круга равен 1,5 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Радиус круга равен 3,2 д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7:42:21Z</dcterms:created>
  <dc:creator>Ермишко</dc:creator>
  <dc:description/>
  <dc:language>en-US</dc:language>
  <cp:lastModifiedBy>Приемная</cp:lastModifiedBy>
  <dcterms:modified xsi:type="dcterms:W3CDTF">2011-05-13T06:28:35Z</dcterms:modified>
  <cp:revision>8</cp:revision>
  <dc:subject>математика 6 класс</dc:subject>
  <dc:title>Длина окруж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04000000000001024140</vt:lpwstr>
  </property>
</Properties>
</file>