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BB031-8EBE-4113-B6E2-5BED8DA0B9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0160" y="397404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7F89E-B952-4C6F-8179-3C09A22295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524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0B301-39DD-4BEC-8AE0-0716070618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15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29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01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15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29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8E19C-3ACA-4A39-9398-38FFBFC8A6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3670C-B901-4FC0-8A57-07C8421776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E18CE-925B-47FC-B746-6E901DF464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94061-5D8E-4903-9E70-A1EC802BE1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B2A64-1BF9-46BF-AC42-558AFAB9C3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03D96-56CF-4871-A117-227BD211A0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0160" y="246240"/>
            <a:ext cx="730872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9AAD3-AA04-41CD-959C-DA517F2C52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7EB7E-16F9-4F67-B952-73446EA4FE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4F0A1-5D05-408F-94D7-E9AD53657D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524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09C2F-2170-4471-864B-C2EABC12C2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24544-6607-4D3A-8097-618152CEBD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0160" y="397404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AB8A5-0B5C-41B5-A395-5DC5790CE6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524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19F62-651D-4AEE-BAE0-140BE8E8A0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15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29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01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15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29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B0366-762F-4C39-8F47-5999D06078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1551D-9BC9-4C4F-B164-3B96C84708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5FB08-46C5-49E2-820C-4E28D8FB4D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F444E-8EDA-45CC-BF3B-5F5596F2A4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70160" y="246240"/>
            <a:ext cx="730872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6F6BA-B227-4FDF-B9D1-E1EA377B92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500B4-5112-4606-9580-A1BC543E8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524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92B4D-A885-48DF-9E26-2D4F59909F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C77D9-FD56-4A41-8AE6-31730D9373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238560" y="0"/>
            <a:ext cx="11923560" cy="3808080"/>
            <a:chOff x="-3238560" y="0"/>
            <a:chExt cx="11923560" cy="3808080"/>
          </a:xfrm>
        </p:grpSpPr>
        <p:sp>
          <p:nvSpPr>
            <p:cNvPr id="1" name="AutoShape 2"/>
            <p:cNvSpPr/>
            <p:nvPr/>
          </p:nvSpPr>
          <p:spPr>
            <a:xfrm>
              <a:off x="-3238560" y="685440"/>
              <a:ext cx="4114080" cy="312264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-2425680" y="0"/>
              <a:ext cx="3093120" cy="3152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Line 4"/>
            <p:cNvSpPr/>
            <p:nvPr/>
          </p:nvSpPr>
          <p:spPr>
            <a:xfrm>
              <a:off x="1370880" y="1523160"/>
              <a:ext cx="7314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48E6104-101D-4523-BBDF-9036127BDA3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"/>
          <p:cNvGrpSpPr/>
          <p:nvPr/>
        </p:nvGrpSpPr>
        <p:grpSpPr>
          <a:xfrm>
            <a:off x="-3222720" y="304920"/>
            <a:ext cx="11907720" cy="4722480"/>
            <a:chOff x="-3222720" y="304920"/>
            <a:chExt cx="11907720" cy="4722480"/>
          </a:xfrm>
        </p:grpSpPr>
        <p:sp>
          <p:nvSpPr>
            <p:cNvPr id="46" name="Line 2"/>
            <p:cNvSpPr/>
            <p:nvPr/>
          </p:nvSpPr>
          <p:spPr>
            <a:xfrm>
              <a:off x="1447200" y="2513880"/>
              <a:ext cx="72378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" name="AutoShape 3"/>
            <p:cNvSpPr/>
            <p:nvPr/>
          </p:nvSpPr>
          <p:spPr>
            <a:xfrm>
              <a:off x="-2514600" y="1371240"/>
              <a:ext cx="3656880" cy="365616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AutoShape 4"/>
            <p:cNvSpPr/>
            <p:nvPr/>
          </p:nvSpPr>
          <p:spPr>
            <a:xfrm>
              <a:off x="-3222720" y="304920"/>
              <a:ext cx="4038120" cy="40370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8C96E6-35A5-4E54-BBF6-BE26C6222A7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161640"/>
            <a:ext cx="7313400" cy="12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Длина окружности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Площадь</a:t>
            </a:r>
            <a:r>
              <a:rPr b="0" lang="ru-RU" sz="29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круг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just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just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r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r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900000" y="3780000"/>
            <a:ext cx="774072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рмишко  Ольга Константино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У СОШ № 4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гт Прогрес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мурская обла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0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роверь себ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971640" y="1827360"/>
            <a:ext cx="771192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ru-RU" sz="2900" spc="-1" strike="noStrike">
                <a:solidFill>
                  <a:srgbClr val="ffcc00"/>
                </a:solidFill>
                <a:latin typeface="Tahoma"/>
              </a:rPr>
              <a:t>52,78 см, 221,67  кв. см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i="1" lang="ru-RU" sz="2900" spc="-1" strike="noStrike">
                <a:solidFill>
                  <a:srgbClr val="0000ff"/>
                </a:solidFill>
                <a:latin typeface="Verdana"/>
              </a:rPr>
              <a:t>9,42 м, 7,07 кв.м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I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ff0000"/>
                </a:solidFill>
                <a:latin typeface="Verdana"/>
              </a:rPr>
              <a:t>20,11 дм. 32,17 кв. дм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Устный счё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500+31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:9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*6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-12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:1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910:1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*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-8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:16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*35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Отрез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1476360" y="1844640"/>
            <a:ext cx="6983280" cy="40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                    В   С                   К  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Line 3"/>
          <p:cNvSpPr/>
          <p:nvPr/>
        </p:nvSpPr>
        <p:spPr>
          <a:xfrm>
            <a:off x="1619280" y="2349360"/>
            <a:ext cx="2808360" cy="1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Line 4"/>
          <p:cNvSpPr/>
          <p:nvPr/>
        </p:nvSpPr>
        <p:spPr>
          <a:xfrm>
            <a:off x="5076720" y="2349360"/>
            <a:ext cx="2808360" cy="1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826920" y="2637000"/>
            <a:ext cx="79218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1908000" y="3933720"/>
            <a:ext cx="1657440" cy="503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1908000" y="5229360"/>
            <a:ext cx="1657440" cy="503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908000" y="4221000"/>
            <a:ext cx="18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3564000" y="4221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Oval 10"/>
          <p:cNvSpPr/>
          <p:nvPr/>
        </p:nvSpPr>
        <p:spPr>
          <a:xfrm>
            <a:off x="4427640" y="450864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4284720" y="3789360"/>
            <a:ext cx="1366920" cy="431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Кру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1908000" y="3284640"/>
            <a:ext cx="2092680" cy="431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Цилинд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6227640" y="4221000"/>
            <a:ext cx="1584360" cy="1584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14"/>
          <p:cNvSpPr/>
          <p:nvPr/>
        </p:nvSpPr>
        <p:spPr>
          <a:xfrm>
            <a:off x="5867280" y="3429000"/>
            <a:ext cx="2592360" cy="576360"/>
          </a:xfrm>
          <a:prstGeom prst="wedgeEllipseCallout">
            <a:avLst>
              <a:gd name="adj1" fmla="val -35856"/>
              <a:gd name="adj2" fmla="val 70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Окруж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1403280" y="2781360"/>
            <a:ext cx="7129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Окружность, кру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Oval 16"/>
          <p:cNvSpPr/>
          <p:nvPr/>
        </p:nvSpPr>
        <p:spPr>
          <a:xfrm>
            <a:off x="7020000" y="4941720"/>
            <a:ext cx="7128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Oval 17"/>
          <p:cNvSpPr/>
          <p:nvPr/>
        </p:nvSpPr>
        <p:spPr>
          <a:xfrm>
            <a:off x="4859280" y="494172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1692360" y="5013360"/>
            <a:ext cx="647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3419640" y="5229360"/>
            <a:ext cx="431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419640" y="3068640"/>
            <a:ext cx="576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Окружн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900000" y="1827360"/>
            <a:ext cx="82440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just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Окружность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это замкнутая линия, все точки которой находятся на одинаковом расстоянии от некоторой точки. Эта точка называется </a:t>
            </a: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центром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круж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just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Oval 6"/>
          <p:cNvSpPr/>
          <p:nvPr/>
        </p:nvSpPr>
        <p:spPr>
          <a:xfrm>
            <a:off x="1763640" y="3357720"/>
            <a:ext cx="2232000" cy="22320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Oval 7"/>
          <p:cNvSpPr/>
          <p:nvPr/>
        </p:nvSpPr>
        <p:spPr>
          <a:xfrm>
            <a:off x="2916360" y="436572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2916360" y="4365720"/>
            <a:ext cx="647640" cy="10080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484360" y="4005360"/>
            <a:ext cx="358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4140360" y="3068640"/>
            <a:ext cx="4752720" cy="29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Диаметр равен двум радиусам</a:t>
            </a: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Tahoma"/>
              </a:rPr>
              <a:t>Но ведь окружность не отрезок!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Tahoma"/>
              </a:rPr>
              <a:t>К ней и линейку приложить нельзя .</a:t>
            </a:r>
            <a:r>
              <a:rPr b="1" i="1" lang="ru-RU" sz="1800" spc="-1" strike="noStrike">
                <a:solidFill>
                  <a:srgbClr val="33cc33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ahoma"/>
              </a:rPr>
              <a:t>Как же её измерить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2190600" y="3573360"/>
            <a:ext cx="1378080" cy="172728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Эксперимен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137016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такан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835280" y="249228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6012000" y="2060640"/>
            <a:ext cx="2592360" cy="302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3"/>
          <a:stretch/>
        </p:blipFill>
        <p:spPr>
          <a:xfrm>
            <a:off x="1763640" y="5445000"/>
            <a:ext cx="2376720" cy="5461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6012000" y="5516640"/>
            <a:ext cx="2663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=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4"/>
          <a:stretch/>
        </p:blipFill>
        <p:spPr>
          <a:xfrm>
            <a:off x="7524720" y="5589720"/>
            <a:ext cx="216000" cy="20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5"/>
          <a:stretch/>
        </p:blipFill>
        <p:spPr>
          <a:xfrm>
            <a:off x="7667640" y="5589720"/>
            <a:ext cx="162000" cy="2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Формул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1332000" y="1827360"/>
            <a:ext cx="735156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Verdana"/>
              </a:rPr>
              <a:t>C=2*3.14*R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Verdana"/>
              </a:rPr>
              <a:t>S=3.14*R*R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алькулято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5" name="Group 2"/>
          <p:cNvGrpSpPr/>
          <p:nvPr/>
        </p:nvGrpSpPr>
        <p:grpSpPr>
          <a:xfrm>
            <a:off x="1370160" y="1484280"/>
            <a:ext cx="7311960" cy="5111640"/>
            <a:chOff x="1370160" y="1484280"/>
            <a:chExt cx="7311960" cy="5111640"/>
          </a:xfrm>
        </p:grpSpPr>
        <p:pic>
          <p:nvPicPr>
            <p:cNvPr id="136" name="Picture 3" descr=""/>
            <p:cNvPicPr/>
            <p:nvPr/>
          </p:nvPicPr>
          <p:blipFill>
            <a:blip r:embed="rId1"/>
            <a:stretch/>
          </p:blipFill>
          <p:spPr>
            <a:xfrm>
              <a:off x="1370160" y="1484280"/>
              <a:ext cx="731196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4"/>
            <p:cNvSpPr/>
            <p:nvPr/>
          </p:nvSpPr>
          <p:spPr>
            <a:xfrm>
              <a:off x="1370160" y="1484280"/>
              <a:ext cx="7311960" cy="51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адания группа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84360" y="1557360"/>
            <a:ext cx="84596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ctr"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ahoma"/>
              </a:rPr>
              <a:t>Найти длину окружности и площадь круга, радиус которой равен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группа  </a:t>
            </a:r>
            <a:r>
              <a:rPr b="1" lang="ru-RU" sz="2900" spc="-1" strike="noStrike">
                <a:solidFill>
                  <a:srgbClr val="0000ff"/>
                </a:solidFill>
                <a:latin typeface="Verdana"/>
              </a:rPr>
              <a:t>24 см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   группа  </a:t>
            </a:r>
            <a:r>
              <a:rPr b="1" lang="ru-RU" sz="2900" spc="-1" strike="noStrike">
                <a:solidFill>
                  <a:srgbClr val="0000ff"/>
                </a:solidFill>
                <a:latin typeface="Verdana"/>
              </a:rPr>
              <a:t>4,7 дм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группа  </a:t>
            </a:r>
            <a:r>
              <a:rPr b="1" lang="ru-RU" sz="2900" spc="-1" strike="noStrike">
                <a:solidFill>
                  <a:srgbClr val="0000ff"/>
                </a:solidFill>
                <a:latin typeface="Verdana"/>
              </a:rPr>
              <a:t>18,5 м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онтрольные задания группа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826920" y="1827360"/>
            <a:ext cx="785664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диус круга равен 8,4 см. Найти длину окружности и площадь к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Радиус круга равен 1,5 м. Найти длину окружности и площадь к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Радиус круга равен 3,2 дм. Найти длину окружности и площадь к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07:42:21Z</dcterms:created>
  <dc:creator>Ермишко</dc:creator>
  <dc:description/>
  <dc:language>en-US</dc:language>
  <cp:lastModifiedBy>Приемная</cp:lastModifiedBy>
  <dcterms:modified xsi:type="dcterms:W3CDTF">2011-05-13T06:28:35Z</dcterms:modified>
  <cp:revision>8</cp:revision>
  <dc:subject>математика 6 класс</dc:subject>
  <dc:title>Длина окруж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204000000000001024140</vt:lpwstr>
  </property>
</Properties>
</file>