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4768-2970-4A37-AA4C-425F4A17F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DE9B-E87D-4149-8B5F-F2A003BBD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8827-490B-4178-A7A8-0B7DF163A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B231-0339-400B-815D-FE736B6EF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7B7DC-61CA-403A-8870-976C6C9A55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C7954-958C-4FD6-897E-D2519B1140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3D09-9F98-4316-B252-8F98735D97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A8644-04BB-4F62-A1EE-AF1279EB33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05FB-E040-4D2D-A133-378A470040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16BD8-1D8C-444F-BD2C-52F39A6AC4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38C5F-D8FD-4198-B28D-024761DC34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B40A-C12D-444A-ABEB-4AA43309F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9402E-BA10-47D6-88F3-B9727FB6FD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1A5E4-DCBB-4C54-AF3A-B0FE4577CE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7AFE-C943-44BD-9684-7C4043FD51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65CD-DCBB-406E-8B55-BBA89ED96B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76BA-7C86-45EC-982A-B112506EF5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EC35-B9EC-4347-8CDE-B670F5C21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B120-57DE-4645-BE40-025888EE1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D989-9D67-4D41-8249-90978A408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4EDC-5011-49B3-993E-60F65289F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2B9C-D097-4838-B12A-EA345CE07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B00E-A011-4D73-97EC-86B5F0F6B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FAAD-49FD-4A74-BEC3-6DF1C1131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238560" y="0"/>
            <a:ext cx="11923560" cy="3808080"/>
            <a:chOff x="-3238560" y="0"/>
            <a:chExt cx="11923560" cy="3808080"/>
          </a:xfrm>
        </p:grpSpPr>
        <p:sp>
          <p:nvSpPr>
            <p:cNvPr id="1" name="AutoShape 2"/>
            <p:cNvSpPr/>
            <p:nvPr/>
          </p:nvSpPr>
          <p:spPr>
            <a:xfrm>
              <a:off x="-3238560" y="685440"/>
              <a:ext cx="4114080" cy="31226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-2425680" y="0"/>
              <a:ext cx="3093120" cy="3152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1370880" y="1523160"/>
              <a:ext cx="731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CBF08E-9CF6-43F9-8C8B-BBD2B9B5B6B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"/>
          <p:cNvGrpSpPr/>
          <p:nvPr/>
        </p:nvGrpSpPr>
        <p:grpSpPr>
          <a:xfrm>
            <a:off x="-3222720" y="304920"/>
            <a:ext cx="11907720" cy="4722480"/>
            <a:chOff x="-3222720" y="304920"/>
            <a:chExt cx="11907720" cy="4722480"/>
          </a:xfrm>
        </p:grpSpPr>
        <p:sp>
          <p:nvSpPr>
            <p:cNvPr id="46" name="Line 2"/>
            <p:cNvSpPr/>
            <p:nvPr/>
          </p:nvSpPr>
          <p:spPr>
            <a:xfrm>
              <a:off x="1447200" y="2513880"/>
              <a:ext cx="72378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AutoShape 3"/>
            <p:cNvSpPr/>
            <p:nvPr/>
          </p:nvSpPr>
          <p:spPr>
            <a:xfrm>
              <a:off x="-2514600" y="1371240"/>
              <a:ext cx="3656880" cy="3656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3222720" y="304920"/>
              <a:ext cx="4038120" cy="403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E2C323-7E8F-4CC7-AB45-916878F81A0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161640"/>
            <a:ext cx="731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лина окружности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Площадь</a:t>
            </a:r>
            <a:r>
              <a:rPr b="0" lang="ru-RU" sz="2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круг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00000" y="3780000"/>
            <a:ext cx="774072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рмишко  Ольга Константи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СОШ № 4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гт Прогр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урская обл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971640" y="1827360"/>
            <a:ext cx="77119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900" spc="-1" strike="noStrike">
                <a:solidFill>
                  <a:srgbClr val="ffcc00"/>
                </a:solidFill>
                <a:latin typeface="Tahoma"/>
              </a:rPr>
              <a:t>52,78 см, 221,67  кв. с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900" spc="-1" strike="noStrike">
                <a:solidFill>
                  <a:srgbClr val="0000ff"/>
                </a:solidFill>
                <a:latin typeface="Verdana"/>
              </a:rPr>
              <a:t>9,42 м, 7,07 кв.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Verdana"/>
              </a:rPr>
              <a:t>20,11 дм. 32,17 кв. д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Устный счё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500+3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9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12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910:1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8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3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трез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476360" y="1844640"/>
            <a:ext cx="698328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                    В   С                   К  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3"/>
          <p:cNvSpPr/>
          <p:nvPr/>
        </p:nvSpPr>
        <p:spPr>
          <a:xfrm>
            <a:off x="161928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507672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6920" y="2637000"/>
            <a:ext cx="79218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908000" y="393372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1908000" y="522936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908000" y="4221000"/>
            <a:ext cx="18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564000" y="4221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4427640" y="450864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284720" y="3789360"/>
            <a:ext cx="1366920" cy="43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Кру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1908000" y="3284640"/>
            <a:ext cx="2092680" cy="43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6227640" y="4221000"/>
            <a:ext cx="1584360" cy="1584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5867280" y="3429000"/>
            <a:ext cx="2592360" cy="576360"/>
          </a:xfrm>
          <a:prstGeom prst="wedgeEllipseCallout">
            <a:avLst>
              <a:gd name="adj1" fmla="val -35856"/>
              <a:gd name="adj2" fmla="val 7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круж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403280" y="2781360"/>
            <a:ext cx="712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Окружность, кру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7020000" y="494172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4859280" y="494172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1692360" y="5013360"/>
            <a:ext cx="647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419640" y="5229360"/>
            <a:ext cx="431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419640" y="3068640"/>
            <a:ext cx="576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круж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0000" y="1827360"/>
            <a:ext cx="82440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Окружност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это замкнутая линия, все точки которой находятся на одинаковом расстоянии от некоторой точки. Эта точка называется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центром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ру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1763640" y="3357720"/>
            <a:ext cx="2232000" cy="223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2916360" y="436572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916360" y="4365720"/>
            <a:ext cx="647640" cy="1008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484360" y="4005360"/>
            <a:ext cx="358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140360" y="3068640"/>
            <a:ext cx="475272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Диаметр равен двум радиусам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Но ведь окружность не отрезок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К ней и линейку приложить нельзя .</a:t>
            </a: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ahoma"/>
              </a:rPr>
              <a:t>Как же её измерит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2190600" y="3573360"/>
            <a:ext cx="1378080" cy="17272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Экспериме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акан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1763640" y="5445000"/>
            <a:ext cx="2376720" cy="546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6012000" y="5516640"/>
            <a:ext cx="26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4"/>
          <a:stretch/>
        </p:blipFill>
        <p:spPr>
          <a:xfrm>
            <a:off x="7524720" y="5589720"/>
            <a:ext cx="216000" cy="20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5"/>
          <a:stretch/>
        </p:blipFill>
        <p:spPr>
          <a:xfrm>
            <a:off x="7667640" y="5589720"/>
            <a:ext cx="1620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орму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32000" y="1827360"/>
            <a:ext cx="735156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C=2*3.14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S=3.14*R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алькулят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370160" y="1484280"/>
            <a:ext cx="7311960" cy="5111640"/>
            <a:chOff x="1370160" y="1484280"/>
            <a:chExt cx="7311960" cy="5111640"/>
          </a:xfrm>
        </p:grpSpPr>
        <p:pic>
          <p:nvPicPr>
            <p:cNvPr id="136" name="Picture 3" descr=""/>
            <p:cNvPicPr/>
            <p:nvPr/>
          </p:nvPicPr>
          <p:blipFill>
            <a:blip r:embed="rId1"/>
            <a:stretch/>
          </p:blipFill>
          <p:spPr>
            <a:xfrm>
              <a:off x="1370160" y="1484280"/>
              <a:ext cx="731196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4"/>
            <p:cNvSpPr/>
            <p:nvPr/>
          </p:nvSpPr>
          <p:spPr>
            <a:xfrm>
              <a:off x="1370160" y="1484280"/>
              <a:ext cx="731196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84360" y="1557360"/>
            <a:ext cx="8459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айти длину окружности и площадь круга, радиус которой равен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24 с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4,7 д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18,5 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нтрольные 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26920" y="1827360"/>
            <a:ext cx="785664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ус круга равен 8,4 с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1,5 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3,2 д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7:42:21Z</dcterms:created>
  <dc:creator>Ермишко</dc:creator>
  <dc:description/>
  <dc:language>en-US</dc:language>
  <cp:lastModifiedBy>Приемная</cp:lastModifiedBy>
  <dcterms:modified xsi:type="dcterms:W3CDTF">2011-05-13T06:28:35Z</dcterms:modified>
  <cp:revision>8</cp:revision>
  <dc:subject>математика 6 класс</dc:subject>
  <dc:title>Длина окруж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4000000000001024140</vt:lpwstr>
  </property>
</Properties>
</file>