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B3B-F509-4895-A2F6-05CF2724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B4E-3D46-4032-AA64-042BCAA1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173-6724-47F5-9ECD-A1FE47ED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A1FD-A0ED-4358-99F5-E473061E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02EE-3751-435F-8206-46A3883C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2F72-1086-4E0E-B1BD-C5992BB1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DA1E-F389-46CA-9732-E7BD0115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498C-7629-4516-89BA-6FE8F163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04A3-1771-4000-A8C5-1DA16581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5C8B-B298-4B59-850B-9FA0BE79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AB52-6928-41F3-AC04-FE16BB3A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F6A-A402-4B9A-AA32-805BC574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76A2-8D89-4982-A1A4-76E2CBBE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BACE-8175-4963-B760-C4412F65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AA1E-8059-4C3A-9D97-943EF0A1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255A-1EE1-4573-B11E-D547DEE2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5B57-C584-4ECD-AD88-DB3EF79D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E4FC-A61C-426B-B12C-0D1D174F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6F4-2004-44B5-A718-25CDEEB9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B453-C69C-418A-A96A-28F2B0B4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D5B-0590-4625-9E1D-BA8D9075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F24-E7E5-48E4-A696-3ADE557F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4AE-4240-4F8D-A058-89B7062F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1A2-E2F9-4501-B602-5E6C68D0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8DDA-EFCC-43CB-A918-ED0E6296D28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89BB-29AD-4C19-83A9-DF9767CEBA9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ление десятичных дробей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ти ошибку (устно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01 ∙ 3= 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0,05 ∙ 2= 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0,08 ∙ 4=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06 ∙ 3= 0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0,007 ∙ 3= 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01 ∙ 48= 0,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повторить деление десятичной дроби на натуральное число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7:7=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18,9:9=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11,33:11=1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5:5=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20,105:5=4,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повторить деление числа на десятичную дроб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12:0,6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15:0,5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) 0,18:0,9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) 0,045:0,15=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) 16:0,0002=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х=5,11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3у=1,27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х-4х=12,00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у-32,99=11,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лощадь прямоугольника равна 0,32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дна сторона его 16 см. Найдите другую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лощадь прямоугольника равна 29,61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одна сторона его 47 см. Найдите периметр прямо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9:06:27Z</dcterms:created>
  <dc:creator>Админ</dc:creator>
  <dc:description/>
  <dc:language>en-US</dc:language>
  <cp:lastModifiedBy>Админ</cp:lastModifiedBy>
  <dcterms:modified xsi:type="dcterms:W3CDTF">2011-09-24T09:09:58Z</dcterms:modified>
  <cp:revision>1</cp:revision>
  <dc:subject/>
  <dc:title>Деление десятичных дроб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20000000000010250300207f7000400038000</vt:lpwstr>
  </property>
</Properties>
</file>