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C676-1436-4991-9C02-54F16C74D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5076-750E-42AC-A340-D1F4845CF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9A44-A7D4-4C00-AEBB-2C498C056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EA97-A1D2-4640-9488-FF672D9A3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0463D-C4BF-4112-8860-3DFE90F10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60D64-8BE2-4788-8D50-868EAA85A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173E6-9313-4276-B783-08AA09C04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528D4-6BEE-40BD-BD28-9182E3465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6999C-C4CB-46A2-9490-C87A33CEE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F591C-FC1D-4BC0-AD03-A28AF2748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78F5B-6B7A-4B84-8DFF-855BB555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9782-51AC-4ADA-9E14-BBD5A438E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BEB51-2F64-4DD4-BF69-3E3A73F3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53749-558C-4D6D-9CFC-E6C5F42A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C9978-2C84-4211-807C-6CAC363B2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B3A69-8398-4C49-B07A-1A780FCBA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59056-1B42-4EDA-BA9C-457A310DD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E27B-C429-4250-9EC4-A7E0A8F00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E755-9F78-4D9A-BF7D-881A82638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2405-3F12-4152-B0A8-9C4F3FF22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5590-7CC5-4D28-8F88-F7694C774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4DC8-B38F-4D2A-BC2C-627766FFA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DDDF-4F13-4FCB-A04C-F9B25F06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6477-97FB-46C5-9402-AAC09F8BB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83607-E211-4020-86EB-80AAC9EBF7AD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2547C-AE33-4568-A329-F2BD9EB7CC38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еление десятичных дробей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йти ошибку (устно)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0,01 ∙ 3= 0,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0,05 ∙ 2= 0,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0,08 ∙ 4= 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) 0,006 ∙ 3= 0,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) 0,007 ∙ 3= 2,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) 0,01 ∙ 48= 0,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57880" y="10008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) повторить деление десятичной дроби на натуральное число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0,7:7=0,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18,9:9=2,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11,33:11=1,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) 0,05:5=0,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) 20,105:5=4,0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) повторить деление числа на десятичную дробь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) 0,12:0,6=0,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) 15:0,5=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) 0,18:0,9=0,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) 0,045:0,15=0,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) 16:0,0002=8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ешение уравнений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х=5,115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13у=1,276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х-4х=12,00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9у-32,99=11,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ешение задач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Площадь прямоугольника равна 0,328 д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одна сторона его 16 см. Найдите другую сторо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Площадь прямоугольника равна 29,61 д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,одна сторона его 47 см. Найдите периметр прямоуголь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09:06:27Z</dcterms:created>
  <dc:creator>Админ</dc:creator>
  <dc:description/>
  <dc:language>en-US</dc:language>
  <cp:lastModifiedBy>Админ</cp:lastModifiedBy>
  <dcterms:modified xsi:type="dcterms:W3CDTF">2011-09-24T09:09:58Z</dcterms:modified>
  <cp:revision>1</cp:revision>
  <dc:subject/>
  <dc:title>Деление десятичных дробей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2020000000000010250300207f7000400038000</vt:lpwstr>
  </property>
</Properties>
</file>