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3AA8-F326-47A0-9A97-CBD83BC0A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C305-BEE2-4B23-8050-2A8F7599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EE7F-CECB-49BB-9356-5648F22C7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B573-2C28-4298-B6A0-2DE87649E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4439-3A79-408B-804D-ACD752FCE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5042-0A03-4572-9752-FEAFC96C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3703-5AC2-4A1E-B6EF-4014FF15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3DFA-46A7-41C1-848E-EBD62BE1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1F06-9B95-4EA8-A0C1-F6D577FA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C243-3DBF-436C-8979-0376EB77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B8B2-AE4A-48E1-AD37-D903B05A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B452-38A1-4E7B-B9D3-9F1EE8CC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5081-CA2E-43C2-AA72-413F139F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5574-B1FC-4FE9-BBFD-515A55C6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AB78-1EA4-4311-93B7-9BF13677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268D-AC17-4A7F-8AE7-AE7B7A35D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E4F2-BFF3-426E-BB95-53DB8957F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51E9-5543-4F5C-BDDE-1A2D3838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E375-F14F-416D-B703-55436D90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57B2-F99E-43BE-8B6F-B5E5EDB3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2025-91E0-4D72-BE79-E794A9E9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27D1-0B7D-4298-9737-20FBEC1C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D245-8E9E-4E86-B1AC-97532065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8563-5E11-48E3-BE05-F1CD71A6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0024-F364-4467-8DC6-EEBC0848E86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E708-11E4-40A1-8061-785F5C6E758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ление десятичных дробей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йти ошибку (устно)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0,01 ∙ 3= 0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0,05 ∙ 2= 0,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0,08 ∙ 4=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0,006 ∙ 3= 0,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0,007 ∙ 3= 2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) 0,01 ∙ 48= 0,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57880" y="10008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повторить деление десятичной дроби на натуральное число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0,7:7=0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18,9:9=2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11,33:11=1,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0,05:5=0,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20,105:5=4,0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) повторить деление числа на десятичную дроб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) 0,12:0,6=0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) 15:0,5=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) 0,18:0,9=0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) 0,045:0,15=0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) 16:0,0002=8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шение уравнени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х=5,115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13у=1,27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х-4х=12,00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9у-32,99=11,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Площадь прямоугольника равна 0,328 д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дна сторона его 16 см. Найдите другую сторо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Площадь прямоугольника равна 29,61 д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,одна сторона его 47 см. Найдите периметр прямоуголь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09:06:27Z</dcterms:created>
  <dc:creator>Админ</dc:creator>
  <dc:description/>
  <dc:language>en-US</dc:language>
  <cp:lastModifiedBy>Админ</cp:lastModifiedBy>
  <dcterms:modified xsi:type="dcterms:W3CDTF">2011-09-24T09:09:58Z</dcterms:modified>
  <cp:revision>1</cp:revision>
  <dc:subject/>
  <dc:title>Деление десятичных дробей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2020000000000010250300207f7000400038000</vt:lpwstr>
  </property>
</Properties>
</file>