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C16-6BFC-4A8C-A3D9-5528CE29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5CB-ADA9-44F3-B108-E5B5F8E0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C8E-C91C-4F6A-981C-A1E4EE70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157-A5CB-4CAB-9913-B51BCE2F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25D6-72B0-43A9-B0C4-6584438A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BD01-F792-4596-AC93-58DE0F27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41CC-82E5-4CB1-ABD6-CDCECBD6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4141-DA73-45D1-A71F-1F59AAB6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D12D-0034-4B0E-9444-5E104395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BF33-5C59-4C65-9D2C-CC312175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8288-C034-4B9F-BD3F-00AC30CB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873-980A-4568-8A60-878BA56C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680B-1B40-4C35-A7EC-C5A2C18B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84A3-5F2D-4E6C-B546-7A4CDD2E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CE3F-3F54-4F04-BFEE-160B68CB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138D-1DFE-46D6-8469-96CDFEEE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56F0-1D19-476B-8A9F-224C21A5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D4B-E937-4AEE-ADB7-C4ADF571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3DA-5927-4919-8073-E7CBAD5C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D6B-D5FD-42DF-BBD4-D91C6E2E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90C-A255-4838-8D71-FF8C5FBE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8F6-493B-431B-A17C-950CB5B2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3E4-F186-4EBD-8A63-95601F7A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663-F1C6-4499-BEE6-EB058864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5307-1406-4248-90C3-07DB0FFE7CB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E170-DF8D-47E3-8C9A-BF2BC4D06F9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ление десятичных дробей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ти ошибку (устно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01 ∙ 3= 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0,05 ∙ 2= 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0,08 ∙ 4=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06 ∙ 3= 0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0,007 ∙ 3= 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01 ∙ 48= 0,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повторить деление десятичной дроби на натуральное число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7:7=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18,9:9=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11,33:11=1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5:5=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20,105:5=4,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повторить деление числа на десятичную дроб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12:0,6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15:0,5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) 0,18:0,9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) 0,045:0,15=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) 16:0,0002=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х=5,11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3у=1,27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х-4х=12,00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у-32,99=11,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лощадь прямоугольника равна 0,32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дна сторона его 16 см. Найдите другую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лощадь прямоугольника равна 29,61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одна сторона его 47 см. Найдите периметр прямо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9:06:27Z</dcterms:created>
  <dc:creator>Админ</dc:creator>
  <dc:description/>
  <dc:language>en-US</dc:language>
  <cp:lastModifiedBy>Админ</cp:lastModifiedBy>
  <dcterms:modified xsi:type="dcterms:W3CDTF">2011-09-24T09:09:58Z</dcterms:modified>
  <cp:revision>1</cp:revision>
  <dc:subject/>
  <dc:title>Деление десятичных дроб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20000000000010250300207f7000400038000</vt:lpwstr>
  </property>
</Properties>
</file>