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47BC-11B8-4F5A-B5E1-D4AEF5C8E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95D9-E447-4992-ADB8-04758F8F6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DAA2-B63A-4D62-88AC-F65D82D25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AF73-DE2F-49D0-AC10-C86AC236D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394E1-A885-453E-B018-EC41367A8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15BE4-8417-42D6-8253-EBCC90795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7AA74-82AB-4087-A7F7-6CEE9432F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62F68-90E5-4F88-8614-7F9E72168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E8FA1-CF8E-4FB3-945B-7F6B755B3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1E9A7-E7B6-412F-8672-5C82427C7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A7DDD-F353-4F6C-8D8F-A8D5CDC7E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3E49-B90A-4D56-9C23-CD9BF4F2D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8645B-EE54-4B07-8503-B35756991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348DC-49D7-49DD-937E-5891211B6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5A6A3-A64D-46B9-B9BA-D05577AC3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84C0E-AE0E-45B6-A540-187C97EAD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07F5A-E592-4824-9AF1-D77946EB3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84F3-1E77-421D-BAAC-9775D18A3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C145-1941-4591-B2D8-A7FF077E7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CD98-2029-4AE2-9811-C21E4C353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0933-B3DE-48DD-8A74-C2852E1B3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263E-9C31-4F3B-AAF5-D1CA7CDAE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72CD-5119-48CF-91A6-C4C1A18BA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C186-4FCB-41D9-AE7F-51EAF9821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53B2D-B9C7-4088-97DD-03B27664C212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F9C24-A335-4CCD-85D1-5772216570D9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 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еление десятичных дробей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айти ошибку (устно)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) 0,01 ∙ 3= 0,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) 0,05 ∙ 2= 0,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) 0,08 ∙ 4= 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) 0,006 ∙ 3= 0,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) 0,007 ∙ 3= 2,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) 0,01 ∙ 48= 0,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57880" y="10008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) повторить деление десятичной дроби на натуральное число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) 0,7:7=0,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) 18,9:9=2,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) 11,33:11=1,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) 0,05:5=0,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) 20,105:5=4,0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б) повторить деление числа на десятичную дробь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) 0,12:0,6=0,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7) 15:0,5=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8) 0,18:0,9=0,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9) 0,045:0,15=0,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0) 16:0,0002=80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ешение уравнений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х=5,115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13у=1,276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х-4х=12,00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9у-32,99=11,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ешение задач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) Площадь прямоугольника равна 0,328 дм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одна сторона его 16 см. Найдите другую сторон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) Площадь прямоугольника равна 29,61 дм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,одна сторона его 47 см. Найдите периметр прямоугольн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09:06:27Z</dcterms:created>
  <dc:creator>Админ</dc:creator>
  <dc:description/>
  <dc:language>en-US</dc:language>
  <cp:lastModifiedBy>Админ</cp:lastModifiedBy>
  <dcterms:modified xsi:type="dcterms:W3CDTF">2011-09-24T09:09:58Z</dcterms:modified>
  <cp:revision>1</cp:revision>
  <dc:subject/>
  <dc:title>Деление десятичных дробей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2020000000000010250300207f7000400038000</vt:lpwstr>
  </property>
</Properties>
</file>