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E796-3A3B-481C-A2D3-4132517A8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9A6F-6705-4DCC-A789-9C5EDD71F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113D-C46C-439C-832B-AABD0D00B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80CD-0798-4139-AE66-E7D2E4F0B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B83BD-C02E-4327-BF29-77853F977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22875-79B3-4959-A223-9A3A584C7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C7C6D-2839-448F-9E2F-6C0863E67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7744F-C90E-4C93-9647-CF3BC8C6B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648A8-A8D9-485C-A99C-ED46AB0D3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DC560-3040-48DF-A2FA-B3EAB2068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479A5-B40D-4785-989B-7E6D50BB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4742-8A0F-4D20-A30A-4A41B475C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7EA8B-429C-421D-B41A-6653F06D8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9CAA8-2BCB-49BD-AB9D-49D841CE0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B9B4A-79E0-4F7A-858D-9C584896B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D759B-641B-40BA-9469-2526CC8AC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CD2ED-FD00-4CB6-83B2-40A947E10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1D87-F256-4B38-9B4A-F94DB9F5A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263A-6CD8-46F9-B7E8-45CAE2650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080C-8081-4A0E-B3DF-C942F22C0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8552-AD80-47F4-ADDB-688F1F78C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024E-19F5-4E58-880D-2DBD05C1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FE2E-F3C4-4A4F-9EC2-067DD656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32F0-70F9-4FDE-9586-FAC7EB59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0BCA0-2627-4036-AFC1-F5B7BA6E0F6C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0F17B-0760-417D-ABA2-6A9DCB4D64A4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еление десятичных дробей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айти ошибку (устно)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0,01 ∙ 3= 0,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0,05 ∙ 2= 0,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0,08 ∙ 4= 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) 0,006 ∙ 3= 0,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) 0,007 ∙ 3= 2,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) 0,01 ∙ 48= 0,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57880" y="10008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) повторить деление десятичной дроби на натуральное число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 0,7:7=0,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18,9:9=2,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 11,33:11=1,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) 0,05:5=0,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) 20,105:5=4,0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) повторить деление числа на десятичную дробь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) 0,12:0,6=0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) 15:0,5=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8) 0,18:0,9=0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9) 0,045:0,15=0,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0) 16:0,0002=8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шение уравнений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х=5,115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13у=1,276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6х-4х=12,00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9у-32,99=11,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ешение задач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Площадь прямоугольника равна 0,328 д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одна сторона его 16 см. Найдите другую сторо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Площадь прямоугольника равна 29,61 д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,одна сторона его 47 см. Найдите периметр прямоуголь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09:06:27Z</dcterms:created>
  <dc:creator>Админ</dc:creator>
  <dc:description/>
  <dc:language>en-US</dc:language>
  <cp:lastModifiedBy>Админ</cp:lastModifiedBy>
  <dcterms:modified xsi:type="dcterms:W3CDTF">2011-09-24T09:09:58Z</dcterms:modified>
  <cp:revision>1</cp:revision>
  <dc:subject/>
  <dc:title>Деление десятичных дробей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2020000000000010250300207f7000400038000</vt:lpwstr>
  </property>
</Properties>
</file>