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9953-2628-4F32-893E-96201E0A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E8BE-3BF1-40E5-B999-F99D88D7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1CE-E478-4BAB-B710-E9AC9E9A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7A5B-FC8E-4632-85E7-50A19B7E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8F0-AB73-4D66-A0C0-D82FD400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E24B-E96E-4427-966C-41010C7D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1295-0187-4D6F-BAD9-DA37146E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0CEB-0590-42BA-B875-5E1F5465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64FE-3705-4746-B529-5BE1BD45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F4FF-3C23-4DFE-B9BB-6010DBA3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1001-7FEC-4DB9-900F-12A0C8BD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A65E-6957-4E55-A217-E8685BAA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D5AD-335D-4B7E-9579-4368CDEC43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9040" y="2023920"/>
            <a:ext cx="7772400" cy="1882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71764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Артамонова Л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читель математи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693800" y="1600200"/>
            <a:ext cx="57564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Шестиугольник 3"/>
          <p:cNvSpPr/>
          <p:nvPr/>
        </p:nvSpPr>
        <p:spPr>
          <a:xfrm>
            <a:off x="1763640" y="3933720"/>
            <a:ext cx="936720" cy="719280"/>
          </a:xfrm>
          <a:prstGeom prst="hexagon">
            <a:avLst>
              <a:gd name="adj" fmla="val 25045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Шестиугольник 6"/>
          <p:cNvSpPr/>
          <p:nvPr/>
        </p:nvSpPr>
        <p:spPr>
          <a:xfrm>
            <a:off x="3059280" y="2781360"/>
            <a:ext cx="1008000" cy="718920"/>
          </a:xfrm>
          <a:prstGeom prst="hexagon">
            <a:avLst>
              <a:gd name="adj" fmla="val 25037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Шестиугольник 7"/>
          <p:cNvSpPr/>
          <p:nvPr/>
        </p:nvSpPr>
        <p:spPr>
          <a:xfrm>
            <a:off x="5580000" y="2808360"/>
            <a:ext cx="936720" cy="720720"/>
          </a:xfrm>
          <a:prstGeom prst="hexagon">
            <a:avLst>
              <a:gd name="adj" fmla="val 24995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Минус 13"/>
          <p:cNvSpPr/>
          <p:nvPr/>
        </p:nvSpPr>
        <p:spPr>
          <a:xfrm>
            <a:off x="6053040" y="4172040"/>
            <a:ext cx="241560" cy="242640"/>
          </a:xfrm>
          <a:custGeom>
            <a:avLst/>
            <a:gdLst/>
            <a:ahLst/>
            <a:rect l="l" t="t" r="r" b="b"/>
            <a:pathLst>
              <a:path w="241905" h="241935">
                <a:moveTo>
                  <a:pt x="32065" y="92516"/>
                </a:moveTo>
                <a:lnTo>
                  <a:pt x="209840" y="92516"/>
                </a:lnTo>
                <a:lnTo>
                  <a:pt x="209840" y="149419"/>
                </a:lnTo>
                <a:lnTo>
                  <a:pt x="32065" y="149419"/>
                </a:lnTo>
                <a:lnTo>
                  <a:pt x="32065" y="9251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Шестиугольник 9"/>
          <p:cNvSpPr/>
          <p:nvPr/>
        </p:nvSpPr>
        <p:spPr>
          <a:xfrm>
            <a:off x="4211640" y="1484280"/>
            <a:ext cx="1368360" cy="936720"/>
          </a:xfrm>
          <a:prstGeom prst="hexagon">
            <a:avLst>
              <a:gd name="adj" fmla="val 24989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38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Лента лицом вниз 5"/>
          <p:cNvSpPr/>
          <p:nvPr/>
        </p:nvSpPr>
        <p:spPr>
          <a:xfrm>
            <a:off x="4667400" y="5445000"/>
            <a:ext cx="4321080" cy="1152720"/>
          </a:xfrm>
          <a:custGeom>
            <a:avLst/>
            <a:gdLst>
              <a:gd name="textAreaLeft" fmla="*/ 1080360 w 4321080"/>
              <a:gd name="textAreaRight" fmla="*/ 3241080 w 4321080"/>
              <a:gd name="textAreaTop" fmla="*/ 191880 h 1152720"/>
              <a:gd name="textAreaBottom" fmla="*/ 11530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олодцы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832360" cy="4929120"/>
          </a:xfrm>
          <a:prstGeom prst="rect">
            <a:avLst/>
          </a:prstGeom>
          <a:ln w="0">
            <a:noFill/>
          </a:ln>
        </p:spPr>
      </p:pic>
      <p:sp>
        <p:nvSpPr>
          <p:cNvPr id="53" name="Плюс 13"/>
          <p:cNvSpPr/>
          <p:nvPr/>
        </p:nvSpPr>
        <p:spPr>
          <a:xfrm>
            <a:off x="2916360" y="4978440"/>
            <a:ext cx="252360" cy="230040"/>
          </a:xfrm>
          <a:custGeom>
            <a:avLst/>
            <a:gdLst/>
            <a:ahLst/>
            <a:rect l="l" t="t" r="r" b="b"/>
            <a:pathLst>
              <a:path w="253388" h="231354">
                <a:moveTo>
                  <a:pt x="33587" y="88470"/>
                </a:moveTo>
                <a:lnTo>
                  <a:pt x="99487" y="88470"/>
                </a:lnTo>
                <a:lnTo>
                  <a:pt x="99487" y="30666"/>
                </a:lnTo>
                <a:lnTo>
                  <a:pt x="153901" y="30666"/>
                </a:lnTo>
                <a:lnTo>
                  <a:pt x="153901" y="88470"/>
                </a:lnTo>
                <a:lnTo>
                  <a:pt x="219801" y="88470"/>
                </a:lnTo>
                <a:lnTo>
                  <a:pt x="219801" y="142884"/>
                </a:lnTo>
                <a:lnTo>
                  <a:pt x="153901" y="142884"/>
                </a:lnTo>
                <a:lnTo>
                  <a:pt x="153901" y="200688"/>
                </a:lnTo>
                <a:lnTo>
                  <a:pt x="99487" y="200688"/>
                </a:lnTo>
                <a:lnTo>
                  <a:pt x="99487" y="142884"/>
                </a:lnTo>
                <a:lnTo>
                  <a:pt x="33587" y="142884"/>
                </a:lnTo>
                <a:lnTo>
                  <a:pt x="33587" y="8847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2158920" cy="1071720"/>
          </a:xfrm>
          <a:prstGeom prst="rect">
            <a:avLst/>
          </a:prstGeom>
          <a:ln w="0">
            <a:noFill/>
          </a:ln>
        </p:spPr>
      </p:pic>
      <p:sp>
        <p:nvSpPr>
          <p:cNvPr id="55" name="Табличка 4"/>
          <p:cNvSpPr/>
          <p:nvPr/>
        </p:nvSpPr>
        <p:spPr>
          <a:xfrm>
            <a:off x="6516720" y="4437000"/>
            <a:ext cx="1150920" cy="657360"/>
          </a:xfrm>
          <a:custGeom>
            <a:avLst/>
            <a:gdLst>
              <a:gd name="textAreaLeft" fmla="*/ 77400 w 1150920"/>
              <a:gd name="textAreaRight" fmla="*/ 1073520 w 1150920"/>
              <a:gd name="textAreaTop" fmla="*/ 77400 h 657360"/>
              <a:gd name="textAreaBottom" fmla="*/ 579960 h 657360"/>
            </a:gdLst>
            <a:ahLst/>
            <a:rect l="textAreaLeft" t="textAreaTop" r="textAreaRight" b="textAreaBottom"/>
            <a:pathLst>
              <a:path w="378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09" y="21600"/>
                </a:lnTo>
                <a:arcTo wR="3600" hR="3600" stAng="10800000" swAng="5400000"/>
                <a:lnTo>
                  <a:pt x="3780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67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Табличка 7"/>
          <p:cNvSpPr/>
          <p:nvPr/>
        </p:nvSpPr>
        <p:spPr>
          <a:xfrm>
            <a:off x="4788000" y="3500280"/>
            <a:ext cx="1152360" cy="657360"/>
          </a:xfrm>
          <a:custGeom>
            <a:avLst/>
            <a:gdLst>
              <a:gd name="textAreaLeft" fmla="*/ 77400 w 1152360"/>
              <a:gd name="textAreaRight" fmla="*/ 1074960 w 1152360"/>
              <a:gd name="textAreaTop" fmla="*/ 77400 h 657360"/>
              <a:gd name="textAreaBottom" fmla="*/ 579960 h 657360"/>
            </a:gdLst>
            <a:ahLst/>
            <a:rect l="textAreaLeft" t="textAreaTop" r="textAreaRight" b="textAreaBottom"/>
            <a:pathLst>
              <a:path w="3785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56" y="21600"/>
                </a:lnTo>
                <a:arcTo wR="3600" hR="3600" stAng="10800000" swAng="5400000"/>
                <a:lnTo>
                  <a:pt x="3785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688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Табличка 8"/>
          <p:cNvSpPr/>
          <p:nvPr/>
        </p:nvSpPr>
        <p:spPr>
          <a:xfrm>
            <a:off x="2700360" y="3505320"/>
            <a:ext cx="1150920" cy="657000"/>
          </a:xfrm>
          <a:custGeom>
            <a:avLst/>
            <a:gdLst>
              <a:gd name="textAreaLeft" fmla="*/ 77400 w 1150920"/>
              <a:gd name="textAreaRight" fmla="*/ 1073520 w 1150920"/>
              <a:gd name="textAreaTop" fmla="*/ 77400 h 657000"/>
              <a:gd name="textAreaBottom" fmla="*/ 579600 h 657000"/>
            </a:gdLst>
            <a:ahLst/>
            <a:rect l="textAreaLeft" t="textAreaTop" r="textAreaRight" b="textAreaBottom"/>
            <a:pathLst>
              <a:path w="3783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30" y="21600"/>
                </a:lnTo>
                <a:arcTo wR="3600" hR="3600" stAng="10800000" swAng="5400000"/>
                <a:lnTo>
                  <a:pt x="3783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46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Табличка 9"/>
          <p:cNvSpPr/>
          <p:nvPr/>
        </p:nvSpPr>
        <p:spPr>
          <a:xfrm>
            <a:off x="4572000" y="2205000"/>
            <a:ext cx="1584360" cy="6555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55560"/>
              <a:gd name="textAreaBottom" fmla="*/ 578520 h 655560"/>
            </a:gdLst>
            <a:ahLst/>
            <a:rect l="textAreaLeft" t="textAreaTop" r="textAreaRight" b="textAreaBottom"/>
            <a:pathLst>
              <a:path w="5218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8586" y="21600"/>
                </a:lnTo>
                <a:arcTo wR="3600" hR="3600" stAng="10800000" swAng="5400000"/>
                <a:lnTo>
                  <a:pt x="5218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1960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Табличка 10"/>
          <p:cNvSpPr/>
          <p:nvPr/>
        </p:nvSpPr>
        <p:spPr>
          <a:xfrm>
            <a:off x="3419640" y="1125360"/>
            <a:ext cx="1657080" cy="655920"/>
          </a:xfrm>
          <a:custGeom>
            <a:avLst/>
            <a:gdLst>
              <a:gd name="textAreaLeft" fmla="*/ 77040 w 1657080"/>
              <a:gd name="textAreaRight" fmla="*/ 1580040 w 1657080"/>
              <a:gd name="textAreaTop" fmla="*/ 77040 h 655920"/>
              <a:gd name="textAreaBottom" fmla="*/ 578880 h 655920"/>
            </a:gdLst>
            <a:ahLst/>
            <a:rect l="textAreaLeft" t="textAreaTop" r="textAreaRight" b="textAreaBottom"/>
            <a:pathLst>
              <a:path w="5455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951" y="21600"/>
                </a:lnTo>
                <a:arcTo wR="3600" hR="3600" stAng="10800000" swAng="5400000"/>
                <a:lnTo>
                  <a:pt x="5455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1963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179800" y="1600200"/>
            <a:ext cx="541656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932360" y="2397240"/>
            <a:ext cx="1206360" cy="576000"/>
          </a:xfrm>
          <a:prstGeom prst="rect">
            <a:avLst/>
          </a:prstGeom>
          <a:ln w="0">
            <a:noFill/>
          </a:ln>
        </p:spPr>
      </p:pic>
      <p:sp>
        <p:nvSpPr>
          <p:cNvPr id="63" name="Овал 3"/>
          <p:cNvSpPr/>
          <p:nvPr/>
        </p:nvSpPr>
        <p:spPr>
          <a:xfrm>
            <a:off x="2124000" y="4508640"/>
            <a:ext cx="1295640" cy="6490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57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инус 24"/>
          <p:cNvSpPr/>
          <p:nvPr/>
        </p:nvSpPr>
        <p:spPr>
          <a:xfrm>
            <a:off x="6102360" y="4324320"/>
            <a:ext cx="276120" cy="209520"/>
          </a:xfrm>
          <a:custGeom>
            <a:avLst/>
            <a:gdLst/>
            <a:ahLst/>
            <a:rect l="l" t="t" r="r" b="b"/>
            <a:pathLst>
              <a:path w="275422" h="209320">
                <a:moveTo>
                  <a:pt x="36507" y="80044"/>
                </a:moveTo>
                <a:lnTo>
                  <a:pt x="238915" y="80044"/>
                </a:lnTo>
                <a:lnTo>
                  <a:pt x="238915" y="129276"/>
                </a:lnTo>
                <a:lnTo>
                  <a:pt x="36507" y="129276"/>
                </a:lnTo>
                <a:lnTo>
                  <a:pt x="36507" y="8004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вал 7"/>
          <p:cNvSpPr/>
          <p:nvPr/>
        </p:nvSpPr>
        <p:spPr>
          <a:xfrm>
            <a:off x="2556000" y="3213000"/>
            <a:ext cx="122400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58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8"/>
          <p:cNvSpPr/>
          <p:nvPr/>
        </p:nvSpPr>
        <p:spPr>
          <a:xfrm>
            <a:off x="4356000" y="3195720"/>
            <a:ext cx="136836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9"/>
          <p:cNvSpPr/>
          <p:nvPr/>
        </p:nvSpPr>
        <p:spPr>
          <a:xfrm>
            <a:off x="2843280" y="2397240"/>
            <a:ext cx="165744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704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10"/>
          <p:cNvSpPr/>
          <p:nvPr/>
        </p:nvSpPr>
        <p:spPr>
          <a:xfrm>
            <a:off x="3879720" y="1557360"/>
            <a:ext cx="165600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70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Лента лицом вниз 11"/>
          <p:cNvSpPr/>
          <p:nvPr/>
        </p:nvSpPr>
        <p:spPr>
          <a:xfrm>
            <a:off x="4932360" y="5732640"/>
            <a:ext cx="4241880" cy="865080"/>
          </a:xfrm>
          <a:custGeom>
            <a:avLst/>
            <a:gdLst>
              <a:gd name="textAreaLeft" fmla="*/ 1060560 w 4241880"/>
              <a:gd name="textAreaRight" fmla="*/ 3181680 w 4241880"/>
              <a:gd name="textAreaTop" fmla="*/ 14400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лич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30360" y="1628640"/>
            <a:ext cx="7408800" cy="3638520"/>
          </a:xfrm>
          <a:prstGeom prst="rect">
            <a:avLst/>
          </a:prstGeom>
          <a:ln w="0">
            <a:noFill/>
          </a:ln>
        </p:spPr>
      </p:pic>
      <p:sp>
        <p:nvSpPr>
          <p:cNvPr id="72" name="Скругленный прямоугольник 3"/>
          <p:cNvSpPr/>
          <p:nvPr/>
        </p:nvSpPr>
        <p:spPr>
          <a:xfrm>
            <a:off x="6804000" y="4005360"/>
            <a:ext cx="115272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5"/>
          <p:cNvSpPr/>
          <p:nvPr/>
        </p:nvSpPr>
        <p:spPr>
          <a:xfrm>
            <a:off x="5508720" y="3110040"/>
            <a:ext cx="129528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6"/>
          <p:cNvSpPr/>
          <p:nvPr/>
        </p:nvSpPr>
        <p:spPr>
          <a:xfrm>
            <a:off x="3708360" y="3081240"/>
            <a:ext cx="129528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28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7"/>
          <p:cNvSpPr/>
          <p:nvPr/>
        </p:nvSpPr>
        <p:spPr>
          <a:xfrm>
            <a:off x="3995640" y="220500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32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8"/>
          <p:cNvSpPr/>
          <p:nvPr/>
        </p:nvSpPr>
        <p:spPr>
          <a:xfrm>
            <a:off x="1476360" y="2141640"/>
            <a:ext cx="1511280" cy="43164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8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9"/>
          <p:cNvSpPr/>
          <p:nvPr/>
        </p:nvSpPr>
        <p:spPr>
          <a:xfrm>
            <a:off x="3227400" y="1628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512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Лента лицом вниз 10"/>
          <p:cNvSpPr/>
          <p:nvPr/>
        </p:nvSpPr>
        <p:spPr>
          <a:xfrm>
            <a:off x="4932360" y="5732640"/>
            <a:ext cx="4241880" cy="865080"/>
          </a:xfrm>
          <a:custGeom>
            <a:avLst/>
            <a:gdLst>
              <a:gd name="textAreaLeft" fmla="*/ 1060560 w 4241880"/>
              <a:gd name="textAreaRight" fmla="*/ 3181680 w 4241880"/>
              <a:gd name="textAreaTop" fmla="*/ 14400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лич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2:22:53Z</dcterms:created>
  <dc:creator>User</dc:creator>
  <dc:description/>
  <dc:language>en-US</dc:language>
  <cp:lastModifiedBy>User</cp:lastModifiedBy>
  <dcterms:modified xsi:type="dcterms:W3CDTF">2012-02-09T13:01:57Z</dcterms:modified>
  <cp:revision>8</cp:revision>
  <dc:subject/>
  <dc:title>Действия с натуральными числ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50000000000010250300207f7000400038000</vt:lpwstr>
  </property>
</Properties>
</file>